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15F09-8CA2-4765-AD8E-39B44C592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7"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8"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81C9A-D934-4AA8-95A1-6922F5EA4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38"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39"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DA9E66-E973-46A0-A397-B96C532CD0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0AC4B1-507D-4DAA-8722-545DAA5F50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77D304-CCA9-42BF-AD6A-5EB430A41D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43"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44"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45"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2DC1A2-EEE3-4022-B8F4-52F2BAFC8F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47"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48"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49"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3E7C0F-4EF6-48EA-804C-922BA981FE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51"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52"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53"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02DDDA-E451-43C5-B181-E993333559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55"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56"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FB9DE0-6A68-4956-965D-953309CDE2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58"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59"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60"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61"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A6C0C2-B57D-44AD-AA56-B7542120A5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63"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64"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65"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66"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67"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68"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53C9FB-52A6-4530-AB08-F7EDDEEAD5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714C8B2-E172-4FBA-815D-3752BD2A492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0"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1"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2"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3"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A919F-2046-40CF-AD12-6D28C8674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75"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A1471C-A566-4CBC-B70B-E502873606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77"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08A86D-2209-461B-BDB9-C4B0951631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79"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80"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B01F19-6A5A-486B-AF8A-49F3531BD2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04B1F8-03A4-4D9E-955A-378975D0CB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840F8F-2ACB-4C41-92C4-003A4B6ACD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84"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85"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86"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F460BE-9AD6-4CD9-8AFD-723E47B3C3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88"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89"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90"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C52734-509E-41FB-B12B-2C9BDDFD19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92"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93"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94"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DF81B2-64D7-4023-8D5B-A626E06892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96"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97"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36D80E-73E4-4883-9766-991F914FA7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99"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00"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01"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02"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6844687-82DC-4C41-9186-C8415B48E13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5"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6"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7"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8"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9"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0"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D6AA7-A861-41D2-9E07-5ED2FA342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04"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05"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06"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07"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08"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09"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1419CF6-6FDB-47DA-A324-7E7342105DD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83324A3-7218-42DB-A5F1-BDB06790F1F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16"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3CB1D6-0FC6-4BFF-AF68-E0D8ECD9CB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18"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CBCC73-373E-4A88-B5ED-B6A29D1FAA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20"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21"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C92984-11D3-4887-B818-BC719E686D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F9ABD7-659B-47BE-8BA0-B04071DD1F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14E545-BBF8-4775-AE80-92690FCAF8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25"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26"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27"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72A485-4BAD-44CB-B0A5-B536BB768D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29"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30"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31"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F70EC0-486E-479D-B05C-345E4DBBCB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33"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34"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35"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2AAA71-5ADF-4AA0-9FE2-E926880562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200D5C-3B78-48C9-B08F-9E59BBD08E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37"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38"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FA93A4-54BF-408F-B429-1AD7BFDFAA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40"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41"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42"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43"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FB320D4-C445-451B-A6EE-01439AFB30E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45"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46"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47"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48"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49"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50"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AA3456E-EE9D-4BA1-9513-D59487D793D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F58592D-3970-4DBE-8B29-B357F0525C4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57"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7E2C4D-A9CB-48A6-9F43-8010F87CD86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59"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65FDEB-038C-4464-8EDD-9BC8486AED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61"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62"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CE1861-9427-4C27-BE48-304A720B604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31BBB0-E9F9-4CE3-829E-33A30DB4D1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D2EFCA-87C5-45F8-9FCF-27271FE97E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66"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67"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68"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15FD99-1D58-43C8-B160-CBDB59ADE8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7"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B7E70-1365-40D1-864F-E3967B93E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70"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71"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72"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10C29D-15A3-49CA-83AF-1BF4BBEDA4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74"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75"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76"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4987B8-02E9-496F-BD81-6DAF9DF3D4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78"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79"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FE3C51-E746-497C-881B-723E2A6218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81"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82"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83"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84"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A2FB416-132B-476D-94C9-6794E7CBB9A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86"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87"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88"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89"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90"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91"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EA97F5B-0E9C-4BE6-B988-3BEE068FF39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C4B41ED-9342-43E7-BE01-4F4B1F9F24D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98"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A79E8B9-C144-4F3B-BA18-189B6CC2B66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00"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B20EF53-97AA-4192-8A99-14EA9C422A1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02"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03"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353856E-82D5-4AA9-8666-880097ECF3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E56FC33-B39F-4736-BCEB-B6453213A33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9"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6EE8A-798C-46EE-815F-8A478A55C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529B1FB-B168-431C-A70C-6AC2EB1E5AB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07"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08"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09"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CE5526-B0A7-4EC6-9E06-8F4E70EC92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11"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12"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13"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6B44F1D-1718-406B-A66D-B2A823A065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15"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16"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17"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E6EEA9-BDA6-4139-BDC1-1339E269F0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19"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20"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2308283-2605-49D4-8A40-700CF28329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22"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23"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24"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25"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9FD5D8D-9B09-447B-B24B-AC0C4867D1A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27"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28"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29"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30"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31"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32"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06F4188-4CCE-4BEC-BA53-910384B0A0B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9C97C3E-051A-4FD9-84FC-64F0FB7875E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39"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481A428-7736-44EC-9F34-7FC69BBEBA5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41"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62133C7-FB05-43C6-9A32-1E2D3022804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1"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2"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F6638-2E77-47A4-A9B2-B17B2B313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43"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44"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C3F5C07-2057-4038-ABBC-7127A86C83F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A3BD07D-D40B-47C0-8D1F-E5B3891B9AC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3DF9FCD-7BE3-4E84-A1A2-50BF7E8A28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48"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49"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50"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ED7309F-5B1A-490C-A96C-FBA51E3E8EA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52"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53"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54"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83E5D31-1E8B-4977-BA63-F9B151D433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56"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57"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58"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F457CA-7443-4D68-AD4C-947F078718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60"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61"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A96F391-9B47-40BF-9A74-0AD42EF14FD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63"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64"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65"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66"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F6ADC82-B510-4E7F-8831-FB36EE4202F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68"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69"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70"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71"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72"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73"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FC33E4F-CFEF-4B74-B3DA-B7B2E6F3400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4A88D-C8A1-4ADF-B14A-EAEB04FB2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9CCA6-A50C-4134-AA72-62DEE4B0A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6"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7"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8"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E3358-2E33-4620-8EB3-9CBE59956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6"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E4EF1-5150-4C2A-A950-B4A89457A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60"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1"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2"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9344C-DCE5-4AD8-9FFB-87C827A9A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64"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5"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6"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FAC32-A21B-43AF-A866-E6438E33E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68"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9"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A30E9-84C9-428D-AC25-F2BBA8BFD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71"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2"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3"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4"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105CE5-F6A3-4E3A-886B-AD4942FC71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76"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7"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8"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9"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80"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81"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0ECA46-F966-4DB5-8B7E-3250C6E22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9B6C5B-8D54-498C-A648-8696A30FE9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88"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C58D4D-BA1D-4720-89A8-F22EDEF6F0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90"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106B17-27A1-4CCC-A330-0729129E5F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92"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3"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A78D63-BA27-4663-94FD-0C3ED16CD3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A0D33C-24CC-4CD0-A85B-083A101096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8"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2F789-BDA0-4F6E-9B7B-02FF0EF75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92B9F1-E328-4F1B-9B88-B1F5551CAA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97"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8"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9"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741BE7-9B22-4B2A-9214-B40B0BF58C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01"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2"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3"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E304E7-4E3B-4475-AA52-8E1B944B58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05"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6"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7"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1DA4EA-80FE-4789-B86C-79BC505F1C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09"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0"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BC41F5-8737-4A5A-A509-EB51D80F87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12"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3"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4"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5"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70A03A-99A9-435B-90AF-D2283178BB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17"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8"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9"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20"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21"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22"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30A977-DCF6-4D1E-8162-8FC7BDE5BA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90F680-DDA0-4CD0-8E56-25E1FA682C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29"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DDD359-DDE4-42FC-8E4C-4F0BD49824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31"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27D093-7B44-4C63-8BE7-7A4F75B455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0"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247C1-DE00-49B2-9679-77ED9125E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33"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34"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C460B4-03D5-4125-90C4-0D8AE3EA8E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45391A-D697-4E53-BDE1-4FCB36575B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265162-5865-46E4-BFEA-385B745268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38"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39"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0"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E0806F-FDEA-4433-9691-026E88989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42"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3"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4"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8FF72-F622-46A4-AAF4-ACFD1602EE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46"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7"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8"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C8C9AC-D408-4BA1-BF33-794C6DEB46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50"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1"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F3B0DD-A5D7-4192-922B-E4DF6684F3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53"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4"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5"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6"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2432AD-1ECB-4CFC-BC1C-14FF1FD8DF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58"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9"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0"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1"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2"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3"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64D068-2243-46E4-82FE-3B69D8DA8F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AAEDAF-36C8-44E8-B352-60092D81D0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15549-20DF-49C5-8EDD-6FA1D9961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70"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DB4D99-E321-451B-9365-C223864CA6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72"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C0EE5D-264F-46B1-A063-85B7C0C7CA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74"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75"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02C887-3752-4D05-9399-EEE85975A4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B4591C-36E7-4346-9A34-0185111461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A6387F-F9D8-42C7-B152-23BD09C532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79"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0"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1"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886788-FDC2-4D9B-B52E-E028059BD5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83"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4"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5"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B4CFA8-C776-42F0-9C97-08F9D29EF3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87"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8"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9"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C15A75-1625-4339-929B-1B74C4E4A5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91"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92"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62293F-3B20-4CE5-94AB-E68657E0EC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94"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95"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96"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97"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CE6782-7C6E-4AB8-AEB2-7BBED2048D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3790A-CECA-4416-B8A4-C9DB5A1A1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99"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0"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1"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2"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3"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4"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706190-214B-436D-8075-00AFBA37B1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D5BAD7-EE67-4177-B4E7-2F8028FCB0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11"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5FA548-114F-4E80-819F-79FA150B31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13"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C8B406-E207-448A-8414-DDFC6D0DCB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15"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16"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71CB15-B3B6-4C03-ADA1-3656EC9CEC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48495F-C219-4810-A906-4DA9544A35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059A01-703D-4CC3-90A0-3FD2C1E141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20"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21"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22"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958A45-2A72-4EFF-9DAF-55BF83F7A5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24"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25"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26"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B29625-F725-472A-BA77-6E18696CED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28"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29"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30"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E8F3CC-4FF9-49F6-A364-8BF58832CF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5"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7"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68972-EC60-4658-8729-9AC1AC649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32"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33"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2D5A75-70CF-4148-BB2E-E30E812652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35"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36"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37"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38"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AFE309-ECE5-45E4-A97A-315AF069F1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40"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41"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42"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43"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44"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45"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201A2E-F0A0-41DE-9B4F-989590D704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4EF62D-3A52-4E2A-85E4-DB18B9BFE3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52"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BF8CA0-FABE-4784-898D-16486BA42F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54"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C0EAB2-94C3-44C9-A905-05656C00C6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56"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57"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B7C1FD-EA64-403C-BE66-4A3AAA5480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2C604C-0047-42B9-9799-251B702308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13E64F-2B47-4856-9149-A64B6C8F99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61"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62"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63"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08F459-15BB-4BDD-AD0F-4A14586F9A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9"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1"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99ECB-3503-4C2C-BDC3-0D07AFCB5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65"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66"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67"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FA594C-3002-4D54-872F-DFC4E99878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69"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70"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71"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717903-90FA-492A-8487-8C892B080D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73"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74"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7E7DB0-584A-4846-BB24-576D62AE0D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76"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77"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78"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79"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2BC5B5-0F51-4B5B-818C-9780CF9F27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81"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82"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83"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84"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85"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86"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E7FBCF-61FA-40EC-AD3D-33B4DF2F40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5E331C-31DB-43A5-B509-D03D6CD151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93"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89A882-3DBD-4FEB-AF25-B72550756A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95"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4E99E3-4454-4CD3-BBB6-670AF2D5AE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97"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98"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A492A1-E284-4F06-854C-8F95E23877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B995D1-677C-4C87-8193-6F388A11CE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3"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4"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5"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040BA-D415-4520-8B2C-7BA7F4E2D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8B106C-A7D6-4C59-84ED-820FEA2A57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02"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03"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04"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D18392-3224-4C80-AF0D-3AE010BCCD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06"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07"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08"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8BBE0E-CFD2-401C-9A42-38606054B1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10"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11"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12"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42967D-A989-4C7E-B315-46C4954ADF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14"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15"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651B07-3ADC-4AAF-8F24-74FD495356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17"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18"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19"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20"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08124A-54C7-404A-9FAD-03749BDCC6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22"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23"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24"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25"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26"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27"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8B5E4F-5D2A-4928-9060-691DE76DEF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538422-76A0-4B28-964A-0A6ADA3249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34"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707611-BDE7-4C7A-9431-F861B29784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36"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5B003F-076B-4379-A229-3686F83461C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13FCD2-C79C-4240-B91E-867139C1C92D}"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71640" y="662040"/>
            <a:ext cx="8673840" cy="1317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Click to edit the title text format</a:t>
            </a:r>
            <a:endParaRPr b="0" lang="en-US" sz="4100" spc="-1" strike="noStrike">
              <a:solidFill>
                <a:srgbClr val="ffffff"/>
              </a:solidFill>
              <a:latin typeface="Arial"/>
            </a:endParaRPr>
          </a:p>
        </p:txBody>
      </p:sp>
      <p:sp>
        <p:nvSpPr>
          <p:cNvPr id="370" name="PlaceHolder 2"/>
          <p:cNvSpPr>
            <a:spLocks noGrp="1"/>
          </p:cNvSpPr>
          <p:nvPr>
            <p:ph type="body"/>
          </p:nvPr>
        </p:nvSpPr>
        <p:spPr>
          <a:xfrm>
            <a:off x="1260360" y="2128680"/>
            <a:ext cx="8313840" cy="4168800"/>
          </a:xfrm>
          <a:prstGeom prst="rect">
            <a:avLst/>
          </a:prstGeom>
          <a:noFill/>
          <a:ln w="0">
            <a:noFill/>
          </a:ln>
        </p:spPr>
        <p:txBody>
          <a:bodyPr lIns="0" rIns="0" tIns="28080" bIns="0" anchor="t">
            <a:normAutofit fontScale="97000"/>
          </a:bodyPr>
          <a:p>
            <a:pPr marL="3326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1" name="PlaceHolder 3"/>
          <p:cNvSpPr>
            <a:spLocks noGrp="1"/>
          </p:cNvSpPr>
          <p:nvPr>
            <p:ph type="dt" idx="28"/>
          </p:nvPr>
        </p:nvSpPr>
        <p:spPr>
          <a:xfrm>
            <a:off x="971280" y="6743520"/>
            <a:ext cx="2346120" cy="51876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699000" y="6743520"/>
            <a:ext cx="3193920" cy="51876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7335720" y="6743520"/>
            <a:ext cx="2346480" cy="5187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D8201E-D7C9-483B-9510-FDE0072661EB}" type="slidenum">
              <a:rPr b="0" lang="en-US"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60000" y="372600"/>
            <a:ext cx="9358200" cy="957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000000"/>
                </a:solidFill>
                <a:latin typeface="Arial"/>
              </a:rPr>
              <a:t>Click to edit the title text format</a:t>
            </a:r>
            <a:endParaRPr b="0" lang="en-US" sz="4100" spc="-1" strike="noStrike">
              <a:solidFill>
                <a:srgbClr val="000000"/>
              </a:solidFill>
              <a:latin typeface="Arial"/>
            </a:endParaRPr>
          </a:p>
        </p:txBody>
      </p:sp>
      <p:sp>
        <p:nvSpPr>
          <p:cNvPr id="411" name="PlaceHolder 2"/>
          <p:cNvSpPr>
            <a:spLocks noGrp="1"/>
          </p:cNvSpPr>
          <p:nvPr>
            <p:ph type="body"/>
          </p:nvPr>
        </p:nvSpPr>
        <p:spPr>
          <a:xfrm>
            <a:off x="539640" y="2519280"/>
            <a:ext cx="9034560" cy="4237200"/>
          </a:xfrm>
          <a:prstGeom prst="rect">
            <a:avLst/>
          </a:prstGeom>
          <a:noFill/>
          <a:ln w="0">
            <a:noFill/>
          </a:ln>
        </p:spPr>
        <p:txBody>
          <a:bodyPr lIns="0" rIns="0" tIns="28080" bIns="0" anchor="t">
            <a:normAutofit fontScale="99000"/>
          </a:bodyPr>
          <a:p>
            <a:pPr marL="3394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502920" y="703116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448080" y="703116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7227720" y="703116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D1C74A-7578-4C2B-A691-210FD7124A08}"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100" spc="-1" strike="noStrike">
                <a:solidFill>
                  <a:srgbClr val="ffffff"/>
                </a:solidFill>
                <a:latin typeface="Times New Roman"/>
              </a:rPr>
              <a:t>Click to edit the title text format</a:t>
            </a:r>
            <a:endParaRPr b="1" i="1" lang="en-US" sz="4100" spc="-1" strike="noStrike">
              <a:solidFill>
                <a:srgbClr val="ffffff"/>
              </a:solidFill>
              <a:latin typeface="Times New Roman"/>
            </a:endParaRPr>
          </a:p>
        </p:txBody>
      </p:sp>
      <p:sp>
        <p:nvSpPr>
          <p:cNvPr id="452" name="PlaceHolder 2"/>
          <p:cNvSpPr>
            <a:spLocks noGrp="1"/>
          </p:cNvSpPr>
          <p:nvPr>
            <p:ph type="body"/>
          </p:nvPr>
        </p:nvSpPr>
        <p:spPr>
          <a:xfrm>
            <a:off x="502920" y="2057040"/>
            <a:ext cx="9069480" cy="4349880"/>
          </a:xfrm>
          <a:prstGeom prst="rect">
            <a:avLst/>
          </a:prstGeom>
          <a:noFill/>
          <a:ln w="0">
            <a:noFill/>
          </a:ln>
        </p:spPr>
        <p:txBody>
          <a:bodyPr lIns="0" rIns="0" tIns="20160" bIns="0" anchor="t">
            <a:normAutofit fontScale="99000"/>
          </a:bodyPr>
          <a:p>
            <a:pPr marL="3394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53" name="PlaceHolder 3"/>
          <p:cNvSpPr>
            <a:spLocks noGrp="1"/>
          </p:cNvSpPr>
          <p:nvPr>
            <p:ph type="dt" idx="34"/>
          </p:nvPr>
        </p:nvSpPr>
        <p:spPr>
          <a:xfrm>
            <a:off x="502920" y="6994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448080" y="6994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7227720" y="6994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4119BC-884C-4D1B-B4C2-77E4BF69B871}" type="slidenum">
              <a:rPr b="0" lang="en-US"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828360" y="717480"/>
            <a:ext cx="83502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000000"/>
                </a:solidFill>
                <a:latin typeface="Arial"/>
              </a:rPr>
              <a:t>Click to edit the title text format</a:t>
            </a:r>
            <a:endParaRPr b="0" lang="en-US" sz="4100" spc="-1" strike="noStrike">
              <a:solidFill>
                <a:srgbClr val="000000"/>
              </a:solidFill>
              <a:latin typeface="Arial"/>
            </a:endParaRPr>
          </a:p>
        </p:txBody>
      </p:sp>
      <p:sp>
        <p:nvSpPr>
          <p:cNvPr id="493" name="PlaceHolder 2"/>
          <p:cNvSpPr>
            <a:spLocks noGrp="1"/>
          </p:cNvSpPr>
          <p:nvPr>
            <p:ph type="body"/>
          </p:nvPr>
        </p:nvSpPr>
        <p:spPr>
          <a:xfrm>
            <a:off x="899640" y="2160720"/>
            <a:ext cx="8278920" cy="431784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850B0D-2F78-46C1-9788-87A44D48BB2E}"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000000"/>
                </a:solidFill>
                <a:latin typeface="Arial"/>
              </a:rPr>
              <a:t>Click to edit the title text format</a:t>
            </a:r>
            <a:endParaRPr b="1" lang="en-US" sz="4100" spc="-1" strike="noStrike">
              <a:solidFill>
                <a:srgbClr val="000000"/>
              </a:solidFill>
              <a:latin typeface="Arial"/>
            </a:endParaRPr>
          </a:p>
        </p:txBody>
      </p:sp>
      <p:sp>
        <p:nvSpPr>
          <p:cNvPr id="534" name="PlaceHolder 2"/>
          <p:cNvSpPr>
            <a:spLocks noGrp="1"/>
          </p:cNvSpPr>
          <p:nvPr>
            <p:ph type="body"/>
          </p:nvPr>
        </p:nvSpPr>
        <p:spPr>
          <a:xfrm>
            <a:off x="791640" y="1979280"/>
            <a:ext cx="8278920" cy="3957480"/>
          </a:xfrm>
          <a:prstGeom prst="rect">
            <a:avLst/>
          </a:prstGeom>
          <a:noFill/>
          <a:ln w="0">
            <a:noFill/>
          </a:ln>
        </p:spPr>
        <p:txBody>
          <a:bodyPr lIns="0" rIns="0" tIns="28080" bIns="0" anchor="t">
            <a:normAutofit fontScale="92000"/>
          </a:bodyPr>
          <a:p>
            <a:pPr marL="31536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535" name="PlaceHolder 3"/>
          <p:cNvSpPr>
            <a:spLocks noGrp="1"/>
          </p:cNvSpPr>
          <p:nvPr>
            <p:ph type="dt" idx="40"/>
          </p:nvPr>
        </p:nvSpPr>
        <p:spPr>
          <a:xfrm>
            <a:off x="539640" y="641988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448080" y="641988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7083360" y="641988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374467-2623-4EB9-B2AF-00AB219AEA5B}"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502920" y="2165400"/>
            <a:ext cx="9069480" cy="427680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502920" y="6994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448080" y="6994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7227720" y="6994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8BC013-0432-4F6E-822E-6A8200C7E5A1}" type="slidenum">
              <a:rPr b="0" lang="en-US" sz="1400" spc="-1" strike="noStrike">
                <a:solidFill>
                  <a:srgbClr val="ffffff"/>
                </a:solidFill>
                <a:latin typeface="Times New Roman"/>
                <a:ea typeface="Lucida Sans Unicode"/>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000000"/>
                </a:solidFill>
                <a:latin typeface="Arial"/>
              </a:rPr>
              <a:t>Click to edit the title text format</a:t>
            </a:r>
            <a:endParaRPr b="1" lang="en-US" sz="4100" spc="-1" strike="noStrike">
              <a:solidFill>
                <a:srgbClr val="000000"/>
              </a:solidFill>
              <a:latin typeface="Arial"/>
            </a:endParaRPr>
          </a:p>
        </p:txBody>
      </p:sp>
      <p:sp>
        <p:nvSpPr>
          <p:cNvPr id="83" name="PlaceHolder 2"/>
          <p:cNvSpPr>
            <a:spLocks noGrp="1"/>
          </p:cNvSpPr>
          <p:nvPr>
            <p:ph type="body"/>
          </p:nvPr>
        </p:nvSpPr>
        <p:spPr>
          <a:xfrm>
            <a:off x="502920" y="2160720"/>
            <a:ext cx="9069480" cy="45972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758AC2-4417-4069-A52A-950B5F049CEC}" type="slidenum">
              <a:rPr b="0" lang="en-US"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Click to edit the title text format</a:t>
            </a:r>
            <a:endParaRPr b="0" lang="en-US" sz="4100" spc="-1" strike="noStrike">
              <a:solidFill>
                <a:srgbClr val="ffffff"/>
              </a:solidFill>
              <a:latin typeface="Arial"/>
            </a:endParaRPr>
          </a:p>
        </p:txBody>
      </p:sp>
      <p:sp>
        <p:nvSpPr>
          <p:cNvPr id="124"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93A4C3-649D-4572-836A-533D13C7509D}" type="slidenum">
              <a:rPr b="0" lang="en-US"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000080"/>
                </a:solidFill>
                <a:latin typeface="Times New Roman"/>
              </a:rPr>
              <a:t>Click to edit the title text format</a:t>
            </a:r>
            <a:endParaRPr b="0" lang="en-US" sz="4100" spc="-1" strike="noStrike">
              <a:solidFill>
                <a:srgbClr val="000080"/>
              </a:solidFill>
              <a:latin typeface="Times New Roman"/>
            </a:endParaRPr>
          </a:p>
        </p:txBody>
      </p:sp>
      <p:sp>
        <p:nvSpPr>
          <p:cNvPr id="165" name="PlaceHolder 2"/>
          <p:cNvSpPr>
            <a:spLocks noGrp="1"/>
          </p:cNvSpPr>
          <p:nvPr>
            <p:ph type="body"/>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315CF9-E54E-434D-AC64-E5FF228FD1AF}"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2920" y="622584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06" name="PlaceHolder 2"/>
          <p:cNvSpPr>
            <a:spLocks noGrp="1"/>
          </p:cNvSpPr>
          <p:nvPr>
            <p:ph type="body"/>
          </p:nvPr>
        </p:nvSpPr>
        <p:spPr>
          <a:xfrm>
            <a:off x="502920" y="791640"/>
            <a:ext cx="9069480" cy="4138920"/>
          </a:xfrm>
          <a:prstGeom prst="rect">
            <a:avLst/>
          </a:prstGeom>
          <a:noFill/>
          <a:ln w="0">
            <a:noFill/>
          </a:ln>
        </p:spPr>
        <p:txBody>
          <a:bodyPr lIns="0" rIns="0" tIns="28080" bIns="0" anchor="t">
            <a:normAutofit fontScale="96000"/>
          </a:bodyPr>
          <a:p>
            <a:pPr marL="3290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502920" y="537516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448080" y="537516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7227720" y="537516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2E8B4B-FE52-4FD3-A72A-77E1D0476C70}"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100" spc="-1" strike="noStrike">
                <a:solidFill>
                  <a:srgbClr val="ffffff"/>
                </a:solidFill>
                <a:latin typeface="Times New Roman"/>
              </a:rPr>
              <a:t>Click to edit the title text format</a:t>
            </a:r>
            <a:endParaRPr b="1" i="1" lang="en-US" sz="4100" spc="-1" strike="noStrike">
              <a:solidFill>
                <a:srgbClr val="ffffff"/>
              </a:solidFill>
              <a:latin typeface="Times New Roman"/>
            </a:endParaRPr>
          </a:p>
        </p:txBody>
      </p:sp>
      <p:sp>
        <p:nvSpPr>
          <p:cNvPr id="247" name="PlaceHolder 2"/>
          <p:cNvSpPr>
            <a:spLocks noGrp="1"/>
          </p:cNvSpPr>
          <p:nvPr>
            <p:ph type="body"/>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48" name="PlaceHolder 3"/>
          <p:cNvSpPr>
            <a:spLocks noGrp="1"/>
          </p:cNvSpPr>
          <p:nvPr>
            <p:ph type="dt" idx="19"/>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249" name="PlaceHolder 4"/>
          <p:cNvSpPr>
            <a:spLocks noGrp="1"/>
          </p:cNvSpPr>
          <p:nvPr>
            <p:ph type="ftr" idx="20"/>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250" name="PlaceHolder 5"/>
          <p:cNvSpPr>
            <a:spLocks noGrp="1"/>
          </p:cNvSpPr>
          <p:nvPr>
            <p:ph type="sldNum" idx="21"/>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9C5282-CED8-4312-ACF2-1CFF6F75ABF3}" type="slidenum">
              <a:rPr b="0" lang="en-US" sz="1400" spc="-1" strike="noStrike">
                <a:solidFill>
                  <a:srgbClr val="ffffff"/>
                </a:solidFill>
                <a:latin typeface="Times New Roman"/>
                <a:ea typeface="Lucida Sans Unicode"/>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02920" y="48060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000000"/>
                </a:solidFill>
                <a:latin typeface="Arial"/>
              </a:rPr>
              <a:t>Click to edit the title text format</a:t>
            </a:r>
            <a:endParaRPr b="0" lang="en-US" sz="4100" spc="-1" strike="noStrike">
              <a:solidFill>
                <a:srgbClr val="000000"/>
              </a:solidFill>
              <a:latin typeface="Arial"/>
            </a:endParaRPr>
          </a:p>
        </p:txBody>
      </p:sp>
      <p:sp>
        <p:nvSpPr>
          <p:cNvPr id="288" name="PlaceHolder 2"/>
          <p:cNvSpPr>
            <a:spLocks noGrp="1"/>
          </p:cNvSpPr>
          <p:nvPr>
            <p:ph type="body"/>
          </p:nvPr>
        </p:nvSpPr>
        <p:spPr>
          <a:xfrm>
            <a:off x="647280" y="1913040"/>
            <a:ext cx="8674200" cy="4349520"/>
          </a:xfrm>
          <a:prstGeom prst="rect">
            <a:avLst/>
          </a:prstGeom>
          <a:noFill/>
          <a:ln w="0">
            <a:noFill/>
          </a:ln>
        </p:spPr>
        <p:txBody>
          <a:bodyPr lIns="0" rIns="0" tIns="20160" bIns="0" anchor="t">
            <a:normAutofit fontScale="99000"/>
          </a:bodyPr>
          <a:p>
            <a:pPr marL="3394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502920" y="65278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411000" y="6527880"/>
            <a:ext cx="319428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7154640" y="65278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7A17BC-2E5E-486B-9E20-568EC7BA3A6B}"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000000"/>
                </a:solidFill>
                <a:latin typeface="Arial"/>
              </a:rPr>
              <a:t>Click to edit the title text format</a:t>
            </a:r>
            <a:endParaRPr b="0" lang="en-US" sz="4100" spc="-1" strike="noStrike">
              <a:solidFill>
                <a:srgbClr val="000000"/>
              </a:solidFill>
              <a:latin typeface="Arial"/>
            </a:endParaRPr>
          </a:p>
        </p:txBody>
      </p:sp>
      <p:sp>
        <p:nvSpPr>
          <p:cNvPr id="329" name="PlaceHolder 2"/>
          <p:cNvSpPr>
            <a:spLocks noGrp="1"/>
          </p:cNvSpPr>
          <p:nvPr>
            <p:ph type="body"/>
          </p:nvPr>
        </p:nvSpPr>
        <p:spPr>
          <a:xfrm>
            <a:off x="539640" y="1767960"/>
            <a:ext cx="8818560" cy="5069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539280" y="6995880"/>
            <a:ext cx="2336760" cy="5173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31" name="PlaceHolder 4"/>
          <p:cNvSpPr>
            <a:spLocks noGrp="1"/>
          </p:cNvSpPr>
          <p:nvPr>
            <p:ph type="ftr" idx="26"/>
          </p:nvPr>
        </p:nvSpPr>
        <p:spPr>
          <a:xfrm>
            <a:off x="3471480" y="6995880"/>
            <a:ext cx="3179880" cy="5173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7237080" y="6995880"/>
            <a:ext cx="2336760" cy="5173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1CFA14-411B-4CDD-9EAF-4802EC71A102}" type="slidenum">
              <a:rPr b="0" lang="en-US" sz="1400" spc="-1" strike="noStrike">
                <a:solidFill>
                  <a:srgbClr val="ffffff"/>
                </a:solidFill>
                <a:latin typeface="Times New Roman"/>
                <a:ea typeface="Lucida Sans Unicode"/>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hyperlink" Target="http://www.musictuitions.com.au/music-theory-lessons" TargetMode="External"/><Relationship Id="rId4" Type="http://schemas.openxmlformats.org/officeDocument/2006/relationships/image" Target="../media/image15.jpeg"/><Relationship Id="rId5"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hyperlink" Target="http://www.musictuitions.com.au/music-theory-lessons" TargetMode="External"/><Relationship Id="rId4"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hyperlink" Target="http://www.musictuitions.com.au/music-theory-lessons" TargetMode="External"/><Relationship Id="rId4"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hyperlink" Target="http://www.musictuitions.com.au/music-theory-lessons" TargetMode="External"/><Relationship Id="rId4"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hyperlink" Target="http://www.musictuitions.com.au/music-theory-lessons" TargetMode="External"/><Relationship Id="rId4"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hyperlink" Target="http://www.musictuitions.com.au/music-theory-lessons" TargetMode="External"/><Relationship Id="rId4" Type="http://schemas.openxmlformats.org/officeDocument/2006/relationships/image" Target="../media/image16.jpeg"/><Relationship Id="rId5"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hyperlink" Target="http://www.musictuitions.com.au/music-theory-lessons" TargetMode="External"/><Relationship Id="rId4" Type="http://schemas.openxmlformats.org/officeDocument/2006/relationships/hyperlink" Target="http://www.musictuitions.com.au/music-theory-lessons" TargetMode="External"/><Relationship Id="rId5"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hyperlink" Target="http://www.musictuitions.com.au/music-theory-lessons" TargetMode="External"/><Relationship Id="rId4"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4" name="" descr=""/>
          <p:cNvPicPr/>
          <p:nvPr/>
        </p:nvPicPr>
        <p:blipFill>
          <a:blip r:embed="rId2"/>
          <a:stretch/>
        </p:blipFill>
        <p:spPr>
          <a:xfrm>
            <a:off x="6126120" y="0"/>
            <a:ext cx="3952800" cy="1006560"/>
          </a:xfrm>
          <a:prstGeom prst="rect">
            <a:avLst/>
          </a:prstGeom>
          <a:ln w="0">
            <a:noFill/>
          </a:ln>
        </p:spPr>
      </p:pic>
      <p:sp>
        <p:nvSpPr>
          <p:cNvPr id="575" name=""/>
          <p:cNvSpPr/>
          <p:nvPr/>
        </p:nvSpPr>
        <p:spPr>
          <a:xfrm>
            <a:off x="39600" y="82440"/>
            <a:ext cx="2611440" cy="557280"/>
          </a:xfrm>
          <a:prstGeom prst="rect">
            <a:avLst/>
          </a:prstGeom>
          <a:noFill/>
          <a:ln w="0">
            <a:noFill/>
          </a:ln>
        </p:spPr>
        <p:style>
          <a:lnRef idx="0"/>
          <a:fillRef idx="0"/>
          <a:effectRef idx="0"/>
          <a:fontRef idx="minor"/>
        </p:style>
        <p:txBody>
          <a:bodyPr lIns="90000" rIns="90000" tIns="45000" bIns="45000" anchor="t">
            <a:noAutofit/>
          </a:bodyPr>
          <a:p>
            <a:pPr>
              <a:lnSpc>
                <a:spcPct val="118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Black"/>
              </a:rPr>
              <a:t>Music Tuition</a:t>
            </a:r>
            <a:endParaRPr b="0" lang="en-US" sz="2600" spc="-1" strike="noStrike">
              <a:solidFill>
                <a:srgbClr val="000000"/>
              </a:solidFill>
              <a:latin typeface="Arial"/>
            </a:endParaRPr>
          </a:p>
        </p:txBody>
      </p:sp>
      <p:sp>
        <p:nvSpPr>
          <p:cNvPr id="576" name=""/>
          <p:cNvSpPr/>
          <p:nvPr/>
        </p:nvSpPr>
        <p:spPr>
          <a:xfrm>
            <a:off x="1176480" y="658800"/>
            <a:ext cx="4767120" cy="50184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ccccff"/>
                </a:solidFill>
                <a:uFillTx/>
                <a:latin typeface="Vijaya"/>
                <a:hlinkClick r:id="rId3"/>
              </a:rPr>
              <a:t>Music Theory Lessons Sutherland Shire</a:t>
            </a:r>
            <a:endParaRPr b="0" lang="en-US" sz="2400" spc="-1" strike="noStrike">
              <a:solidFill>
                <a:srgbClr val="000000"/>
              </a:solidFill>
              <a:latin typeface="Arial"/>
            </a:endParaRPr>
          </a:p>
        </p:txBody>
      </p:sp>
      <p:pic>
        <p:nvPicPr>
          <p:cNvPr id="577" name="" descr=""/>
          <p:cNvPicPr/>
          <p:nvPr/>
        </p:nvPicPr>
        <p:blipFill>
          <a:blip r:embed="rId4"/>
          <a:stretch/>
        </p:blipFill>
        <p:spPr>
          <a:xfrm>
            <a:off x="457200" y="1189080"/>
            <a:ext cx="9051840" cy="5851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8" name="" descr=""/>
          <p:cNvPicPr/>
          <p:nvPr/>
        </p:nvPicPr>
        <p:blipFill>
          <a:blip r:embed="rId2"/>
          <a:stretch/>
        </p:blipFill>
        <p:spPr>
          <a:xfrm>
            <a:off x="6126120" y="0"/>
            <a:ext cx="3952800" cy="1006560"/>
          </a:xfrm>
          <a:prstGeom prst="rect">
            <a:avLst/>
          </a:prstGeom>
          <a:ln w="0">
            <a:noFill/>
          </a:ln>
        </p:spPr>
      </p:pic>
      <p:sp>
        <p:nvSpPr>
          <p:cNvPr id="579" name=""/>
          <p:cNvSpPr/>
          <p:nvPr/>
        </p:nvSpPr>
        <p:spPr>
          <a:xfrm>
            <a:off x="39600" y="82440"/>
            <a:ext cx="2611440" cy="557280"/>
          </a:xfrm>
          <a:prstGeom prst="rect">
            <a:avLst/>
          </a:prstGeom>
          <a:noFill/>
          <a:ln w="0">
            <a:noFill/>
          </a:ln>
        </p:spPr>
        <p:style>
          <a:lnRef idx="0"/>
          <a:fillRef idx="0"/>
          <a:effectRef idx="0"/>
          <a:fontRef idx="minor"/>
        </p:style>
        <p:txBody>
          <a:bodyPr lIns="90000" rIns="90000" tIns="45000" bIns="45000" anchor="t">
            <a:noAutofit/>
          </a:bodyPr>
          <a:p>
            <a:pPr>
              <a:lnSpc>
                <a:spcPct val="118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Black"/>
              </a:rPr>
              <a:t>Music Tuition</a:t>
            </a:r>
            <a:endParaRPr b="0" lang="en-US" sz="2600" spc="-1" strike="noStrike">
              <a:solidFill>
                <a:srgbClr val="000000"/>
              </a:solidFill>
              <a:latin typeface="Arial"/>
            </a:endParaRPr>
          </a:p>
        </p:txBody>
      </p:sp>
      <p:sp>
        <p:nvSpPr>
          <p:cNvPr id="580" name=""/>
          <p:cNvSpPr/>
          <p:nvPr/>
        </p:nvSpPr>
        <p:spPr>
          <a:xfrm>
            <a:off x="1176480" y="658800"/>
            <a:ext cx="4767120" cy="50184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ccccff"/>
                </a:solidFill>
                <a:uFillTx/>
                <a:latin typeface="Vijaya"/>
                <a:hlinkClick r:id="rId3"/>
              </a:rPr>
              <a:t>Music Theory Lessons Sutherland Shire</a:t>
            </a:r>
            <a:endParaRPr b="0" lang="en-US" sz="2400" spc="-1" strike="noStrike">
              <a:solidFill>
                <a:srgbClr val="000000"/>
              </a:solidFill>
              <a:latin typeface="Arial"/>
            </a:endParaRPr>
          </a:p>
        </p:txBody>
      </p:sp>
      <p:sp>
        <p:nvSpPr>
          <p:cNvPr id="581" name=""/>
          <p:cNvSpPr/>
          <p:nvPr/>
        </p:nvSpPr>
        <p:spPr>
          <a:xfrm>
            <a:off x="639720" y="2103480"/>
            <a:ext cx="8686800" cy="4846680"/>
          </a:xfrm>
          <a:prstGeom prst="rect">
            <a:avLst/>
          </a:prstGeom>
          <a:noFill/>
          <a:ln w="0">
            <a:noFill/>
          </a:ln>
        </p:spPr>
        <p:style>
          <a:lnRef idx="0"/>
          <a:fillRef idx="0"/>
          <a:effectRef idx="0"/>
          <a:fontRef idx="minor"/>
        </p:style>
        <p:txBody>
          <a:bodyPr lIns="90000" rIns="90000" tIns="5400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9966cc"/>
                </a:solidFill>
                <a:latin typeface="Cambria"/>
              </a:rPr>
              <a:t>Caterina Franco Music Tuition costs provides music theory lessons Sutherland Shire for students from Shire’s best music instructors with an interesting and advice on guitar selection. </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2" name="" descr=""/>
          <p:cNvPicPr/>
          <p:nvPr/>
        </p:nvPicPr>
        <p:blipFill>
          <a:blip r:embed="rId2"/>
          <a:stretch/>
        </p:blipFill>
        <p:spPr>
          <a:xfrm>
            <a:off x="6126120" y="0"/>
            <a:ext cx="3952800" cy="1006560"/>
          </a:xfrm>
          <a:prstGeom prst="rect">
            <a:avLst/>
          </a:prstGeom>
          <a:ln w="0">
            <a:noFill/>
          </a:ln>
        </p:spPr>
      </p:pic>
      <p:sp>
        <p:nvSpPr>
          <p:cNvPr id="583" name=""/>
          <p:cNvSpPr/>
          <p:nvPr/>
        </p:nvSpPr>
        <p:spPr>
          <a:xfrm>
            <a:off x="39600" y="82440"/>
            <a:ext cx="2611440" cy="557280"/>
          </a:xfrm>
          <a:prstGeom prst="rect">
            <a:avLst/>
          </a:prstGeom>
          <a:noFill/>
          <a:ln w="0">
            <a:noFill/>
          </a:ln>
        </p:spPr>
        <p:style>
          <a:lnRef idx="0"/>
          <a:fillRef idx="0"/>
          <a:effectRef idx="0"/>
          <a:fontRef idx="minor"/>
        </p:style>
        <p:txBody>
          <a:bodyPr lIns="90000" rIns="90000" tIns="45000" bIns="45000" anchor="t">
            <a:noAutofit/>
          </a:bodyPr>
          <a:p>
            <a:pPr>
              <a:lnSpc>
                <a:spcPct val="118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Black"/>
              </a:rPr>
              <a:t>Music Tuition</a:t>
            </a:r>
            <a:endParaRPr b="0" lang="en-US" sz="2600" spc="-1" strike="noStrike">
              <a:solidFill>
                <a:srgbClr val="000000"/>
              </a:solidFill>
              <a:latin typeface="Arial"/>
            </a:endParaRPr>
          </a:p>
        </p:txBody>
      </p:sp>
      <p:sp>
        <p:nvSpPr>
          <p:cNvPr id="584" name=""/>
          <p:cNvSpPr/>
          <p:nvPr/>
        </p:nvSpPr>
        <p:spPr>
          <a:xfrm>
            <a:off x="1176480" y="658800"/>
            <a:ext cx="4767120" cy="50184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ccccff"/>
                </a:solidFill>
                <a:uFillTx/>
                <a:latin typeface="Vijaya"/>
                <a:hlinkClick r:id="rId3"/>
              </a:rPr>
              <a:t>Music Theory Lessons Sutherland Shire</a:t>
            </a:r>
            <a:endParaRPr b="0" lang="en-US" sz="2400" spc="-1" strike="noStrike">
              <a:solidFill>
                <a:srgbClr val="000000"/>
              </a:solidFill>
              <a:latin typeface="Arial"/>
            </a:endParaRPr>
          </a:p>
        </p:txBody>
      </p:sp>
      <p:sp>
        <p:nvSpPr>
          <p:cNvPr id="585" name=""/>
          <p:cNvSpPr/>
          <p:nvPr/>
        </p:nvSpPr>
        <p:spPr>
          <a:xfrm>
            <a:off x="639720" y="2103480"/>
            <a:ext cx="8686800" cy="4846680"/>
          </a:xfrm>
          <a:prstGeom prst="rect">
            <a:avLst/>
          </a:prstGeom>
          <a:noFill/>
          <a:ln w="0">
            <a:noFill/>
          </a:ln>
        </p:spPr>
        <p:style>
          <a:lnRef idx="0"/>
          <a:fillRef idx="0"/>
          <a:effectRef idx="0"/>
          <a:fontRef idx="minor"/>
        </p:style>
        <p:txBody>
          <a:bodyPr lIns="90000" rIns="90000" tIns="5400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9966cc"/>
                </a:solidFill>
                <a:latin typeface="Cambria"/>
              </a:rPr>
              <a:t>We have students of all age groups to appreciate their musical show journe under the recommendations of our professional teachers.</a:t>
            </a:r>
            <a:r>
              <a:rPr b="0" lang="en-US" sz="3600" spc="-1" strike="noStrike">
                <a:solidFill>
                  <a:srgbClr val="9966cc"/>
                </a:solidFill>
                <a:latin typeface="Cambria"/>
              </a:rPr>
              <a:t>	</a:t>
            </a:r>
            <a:endParaRPr b="0" lang="en-US" sz="36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6" name="" descr=""/>
          <p:cNvPicPr/>
          <p:nvPr/>
        </p:nvPicPr>
        <p:blipFill>
          <a:blip r:embed="rId2"/>
          <a:stretch/>
        </p:blipFill>
        <p:spPr>
          <a:xfrm>
            <a:off x="6126120" y="0"/>
            <a:ext cx="3952800" cy="1006560"/>
          </a:xfrm>
          <a:prstGeom prst="rect">
            <a:avLst/>
          </a:prstGeom>
          <a:ln w="0">
            <a:noFill/>
          </a:ln>
        </p:spPr>
      </p:pic>
      <p:sp>
        <p:nvSpPr>
          <p:cNvPr id="587" name=""/>
          <p:cNvSpPr/>
          <p:nvPr/>
        </p:nvSpPr>
        <p:spPr>
          <a:xfrm>
            <a:off x="39600" y="82440"/>
            <a:ext cx="2611440" cy="557280"/>
          </a:xfrm>
          <a:prstGeom prst="rect">
            <a:avLst/>
          </a:prstGeom>
          <a:noFill/>
          <a:ln w="0">
            <a:noFill/>
          </a:ln>
        </p:spPr>
        <p:style>
          <a:lnRef idx="0"/>
          <a:fillRef idx="0"/>
          <a:effectRef idx="0"/>
          <a:fontRef idx="minor"/>
        </p:style>
        <p:txBody>
          <a:bodyPr lIns="90000" rIns="90000" tIns="45000" bIns="45000" anchor="t">
            <a:noAutofit/>
          </a:bodyPr>
          <a:p>
            <a:pPr>
              <a:lnSpc>
                <a:spcPct val="118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Black"/>
              </a:rPr>
              <a:t>Music Tuition</a:t>
            </a:r>
            <a:endParaRPr b="0" lang="en-US" sz="2600" spc="-1" strike="noStrike">
              <a:solidFill>
                <a:srgbClr val="000000"/>
              </a:solidFill>
              <a:latin typeface="Arial"/>
            </a:endParaRPr>
          </a:p>
        </p:txBody>
      </p:sp>
      <p:sp>
        <p:nvSpPr>
          <p:cNvPr id="588" name=""/>
          <p:cNvSpPr/>
          <p:nvPr/>
        </p:nvSpPr>
        <p:spPr>
          <a:xfrm>
            <a:off x="1176480" y="658800"/>
            <a:ext cx="4767120" cy="50184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ccccff"/>
                </a:solidFill>
                <a:uFillTx/>
                <a:latin typeface="Vijaya"/>
                <a:hlinkClick r:id="rId3"/>
              </a:rPr>
              <a:t>Music Theory Lessons Sutherland Shire</a:t>
            </a:r>
            <a:endParaRPr b="0" lang="en-US" sz="2400" spc="-1" strike="noStrike">
              <a:solidFill>
                <a:srgbClr val="000000"/>
              </a:solidFill>
              <a:latin typeface="Arial"/>
            </a:endParaRPr>
          </a:p>
        </p:txBody>
      </p:sp>
      <p:sp>
        <p:nvSpPr>
          <p:cNvPr id="589" name=""/>
          <p:cNvSpPr/>
          <p:nvPr/>
        </p:nvSpPr>
        <p:spPr>
          <a:xfrm>
            <a:off x="639720" y="2103480"/>
            <a:ext cx="8686800" cy="4846680"/>
          </a:xfrm>
          <a:prstGeom prst="rect">
            <a:avLst/>
          </a:prstGeom>
          <a:noFill/>
          <a:ln w="0">
            <a:noFill/>
          </a:ln>
        </p:spPr>
        <p:style>
          <a:lnRef idx="0"/>
          <a:fillRef idx="0"/>
          <a:effectRef idx="0"/>
          <a:fontRef idx="minor"/>
        </p:style>
        <p:txBody>
          <a:bodyPr lIns="90000" rIns="90000" tIns="5400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9966cc"/>
                </a:solidFill>
                <a:latin typeface="Cambria"/>
              </a:rPr>
              <a:t>The Caterina Franco Music Educational costs group will be there to help you acquire your objectives. We offer students the choice of seated for examinations or playing our interesting show  activities which are organized twice a year.</a:t>
            </a:r>
            <a:endParaRPr b="0" lang="en-US" sz="36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0" name="" descr=""/>
          <p:cNvPicPr/>
          <p:nvPr/>
        </p:nvPicPr>
        <p:blipFill>
          <a:blip r:embed="rId2"/>
          <a:stretch/>
        </p:blipFill>
        <p:spPr>
          <a:xfrm>
            <a:off x="6126120" y="0"/>
            <a:ext cx="3952800" cy="1006560"/>
          </a:xfrm>
          <a:prstGeom prst="rect">
            <a:avLst/>
          </a:prstGeom>
          <a:ln w="0">
            <a:noFill/>
          </a:ln>
        </p:spPr>
      </p:pic>
      <p:sp>
        <p:nvSpPr>
          <p:cNvPr id="591" name=""/>
          <p:cNvSpPr/>
          <p:nvPr/>
        </p:nvSpPr>
        <p:spPr>
          <a:xfrm>
            <a:off x="39600" y="82440"/>
            <a:ext cx="2611440" cy="557280"/>
          </a:xfrm>
          <a:prstGeom prst="rect">
            <a:avLst/>
          </a:prstGeom>
          <a:noFill/>
          <a:ln w="0">
            <a:noFill/>
          </a:ln>
        </p:spPr>
        <p:style>
          <a:lnRef idx="0"/>
          <a:fillRef idx="0"/>
          <a:effectRef idx="0"/>
          <a:fontRef idx="minor"/>
        </p:style>
        <p:txBody>
          <a:bodyPr lIns="90000" rIns="90000" tIns="45000" bIns="45000" anchor="t">
            <a:noAutofit/>
          </a:bodyPr>
          <a:p>
            <a:pPr>
              <a:lnSpc>
                <a:spcPct val="118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Black"/>
              </a:rPr>
              <a:t>Music Tuition</a:t>
            </a:r>
            <a:endParaRPr b="0" lang="en-US" sz="2600" spc="-1" strike="noStrike">
              <a:solidFill>
                <a:srgbClr val="000000"/>
              </a:solidFill>
              <a:latin typeface="Arial"/>
            </a:endParaRPr>
          </a:p>
        </p:txBody>
      </p:sp>
      <p:sp>
        <p:nvSpPr>
          <p:cNvPr id="592" name=""/>
          <p:cNvSpPr/>
          <p:nvPr/>
        </p:nvSpPr>
        <p:spPr>
          <a:xfrm>
            <a:off x="1176480" y="658800"/>
            <a:ext cx="4767120" cy="50184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ccccff"/>
                </a:solidFill>
                <a:uFillTx/>
                <a:latin typeface="Vijaya"/>
                <a:hlinkClick r:id="rId3"/>
              </a:rPr>
              <a:t>Music Theory Lessons Sutherland Shire</a:t>
            </a:r>
            <a:endParaRPr b="0" lang="en-US" sz="2400" spc="-1" strike="noStrike">
              <a:solidFill>
                <a:srgbClr val="000000"/>
              </a:solidFill>
              <a:latin typeface="Arial"/>
            </a:endParaRPr>
          </a:p>
        </p:txBody>
      </p:sp>
      <p:sp>
        <p:nvSpPr>
          <p:cNvPr id="593" name=""/>
          <p:cNvSpPr/>
          <p:nvPr/>
        </p:nvSpPr>
        <p:spPr>
          <a:xfrm>
            <a:off x="731880" y="1332000"/>
            <a:ext cx="8686800" cy="6530760"/>
          </a:xfrm>
          <a:prstGeom prst="rect">
            <a:avLst/>
          </a:prstGeom>
          <a:noFill/>
          <a:ln w="0">
            <a:noFill/>
          </a:ln>
        </p:spPr>
        <p:style>
          <a:lnRef idx="0"/>
          <a:fillRef idx="0"/>
          <a:effectRef idx="0"/>
          <a:fontRef idx="minor"/>
        </p:style>
        <p:txBody>
          <a:bodyPr lIns="90000" rIns="90000" tIns="5400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9966cc"/>
                </a:solidFill>
                <a:latin typeface="Cambria"/>
              </a:rPr>
              <a:t>'Your professionals will educate you how to play typical notices and quick modifying chords! your preferred songs! how to study music lessons! concentrate on reed reality techniques! improve on an limitless flow of innovative musical show phrases! etc. Like all musical show instruments! playing for individual enjoyment is all aspect of the procedure at any stage but the music is still a challenging to be an expert.</a:t>
            </a:r>
            <a:endParaRPr b="0" lang="en-US" sz="36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4" name="" descr=""/>
          <p:cNvPicPr/>
          <p:nvPr/>
        </p:nvPicPr>
        <p:blipFill>
          <a:blip r:embed="rId2"/>
          <a:stretch/>
        </p:blipFill>
        <p:spPr>
          <a:xfrm>
            <a:off x="6126120" y="0"/>
            <a:ext cx="3952800" cy="1006560"/>
          </a:xfrm>
          <a:prstGeom prst="rect">
            <a:avLst/>
          </a:prstGeom>
          <a:ln w="0">
            <a:noFill/>
          </a:ln>
        </p:spPr>
      </p:pic>
      <p:sp>
        <p:nvSpPr>
          <p:cNvPr id="595" name=""/>
          <p:cNvSpPr/>
          <p:nvPr/>
        </p:nvSpPr>
        <p:spPr>
          <a:xfrm>
            <a:off x="39600" y="82440"/>
            <a:ext cx="2611440" cy="557280"/>
          </a:xfrm>
          <a:prstGeom prst="rect">
            <a:avLst/>
          </a:prstGeom>
          <a:noFill/>
          <a:ln w="0">
            <a:noFill/>
          </a:ln>
        </p:spPr>
        <p:style>
          <a:lnRef idx="0"/>
          <a:fillRef idx="0"/>
          <a:effectRef idx="0"/>
          <a:fontRef idx="minor"/>
        </p:style>
        <p:txBody>
          <a:bodyPr lIns="90000" rIns="90000" tIns="45000" bIns="45000" anchor="t">
            <a:noAutofit/>
          </a:bodyPr>
          <a:p>
            <a:pPr>
              <a:lnSpc>
                <a:spcPct val="118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Black"/>
              </a:rPr>
              <a:t>Music Tuition</a:t>
            </a:r>
            <a:endParaRPr b="0" lang="en-US" sz="2600" spc="-1" strike="noStrike">
              <a:solidFill>
                <a:srgbClr val="000000"/>
              </a:solidFill>
              <a:latin typeface="Arial"/>
            </a:endParaRPr>
          </a:p>
        </p:txBody>
      </p:sp>
      <p:sp>
        <p:nvSpPr>
          <p:cNvPr id="596" name=""/>
          <p:cNvSpPr/>
          <p:nvPr/>
        </p:nvSpPr>
        <p:spPr>
          <a:xfrm>
            <a:off x="1189080" y="503280"/>
            <a:ext cx="4767120" cy="50148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ccccff"/>
                </a:solidFill>
                <a:uFillTx/>
                <a:latin typeface="Vijaya"/>
                <a:hlinkClick r:id="rId3"/>
              </a:rPr>
              <a:t>Music Theory Lessons Sutherland Shire</a:t>
            </a:r>
            <a:endParaRPr b="0" lang="en-US" sz="2400" spc="-1" strike="noStrike">
              <a:solidFill>
                <a:srgbClr val="000000"/>
              </a:solidFill>
              <a:latin typeface="Arial"/>
            </a:endParaRPr>
          </a:p>
        </p:txBody>
      </p:sp>
      <p:sp>
        <p:nvSpPr>
          <p:cNvPr id="597" name=""/>
          <p:cNvSpPr/>
          <p:nvPr/>
        </p:nvSpPr>
        <p:spPr>
          <a:xfrm>
            <a:off x="731880" y="1332000"/>
            <a:ext cx="8686800" cy="4846680"/>
          </a:xfrm>
          <a:prstGeom prst="rect">
            <a:avLst/>
          </a:prstGeom>
          <a:noFill/>
          <a:ln w="0">
            <a:noFill/>
          </a:ln>
        </p:spPr>
        <p:style>
          <a:lnRef idx="0"/>
          <a:fillRef idx="0"/>
          <a:effectRef idx="0"/>
          <a:fontRef idx="minor"/>
        </p:style>
        <p:txBody>
          <a:bodyPr lIns="90000" rIns="90000" tIns="5400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p:txBody>
      </p:sp>
      <p:pic>
        <p:nvPicPr>
          <p:cNvPr id="598" name="" descr=""/>
          <p:cNvPicPr/>
          <p:nvPr/>
        </p:nvPicPr>
        <p:blipFill>
          <a:blip r:embed="rId4"/>
          <a:stretch/>
        </p:blipFill>
        <p:spPr>
          <a:xfrm>
            <a:off x="0" y="1006560"/>
            <a:ext cx="10094760" cy="6554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9" name="" descr=""/>
          <p:cNvPicPr/>
          <p:nvPr/>
        </p:nvPicPr>
        <p:blipFill>
          <a:blip r:embed="rId2"/>
          <a:stretch/>
        </p:blipFill>
        <p:spPr>
          <a:xfrm>
            <a:off x="6126120" y="0"/>
            <a:ext cx="3952800" cy="1006560"/>
          </a:xfrm>
          <a:prstGeom prst="rect">
            <a:avLst/>
          </a:prstGeom>
          <a:ln w="0">
            <a:noFill/>
          </a:ln>
        </p:spPr>
      </p:pic>
      <p:sp>
        <p:nvSpPr>
          <p:cNvPr id="600" name=""/>
          <p:cNvSpPr/>
          <p:nvPr/>
        </p:nvSpPr>
        <p:spPr>
          <a:xfrm>
            <a:off x="39600" y="82440"/>
            <a:ext cx="2611440" cy="557280"/>
          </a:xfrm>
          <a:prstGeom prst="rect">
            <a:avLst/>
          </a:prstGeom>
          <a:noFill/>
          <a:ln w="0">
            <a:noFill/>
          </a:ln>
        </p:spPr>
        <p:style>
          <a:lnRef idx="0"/>
          <a:fillRef idx="0"/>
          <a:effectRef idx="0"/>
          <a:fontRef idx="minor"/>
        </p:style>
        <p:txBody>
          <a:bodyPr lIns="90000" rIns="90000" tIns="45000" bIns="45000" anchor="t">
            <a:noAutofit/>
          </a:bodyPr>
          <a:p>
            <a:pPr>
              <a:lnSpc>
                <a:spcPct val="118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Black"/>
              </a:rPr>
              <a:t>Music Tuition</a:t>
            </a:r>
            <a:endParaRPr b="0" lang="en-US" sz="2600" spc="-1" strike="noStrike">
              <a:solidFill>
                <a:srgbClr val="000000"/>
              </a:solidFill>
              <a:latin typeface="Arial"/>
            </a:endParaRPr>
          </a:p>
        </p:txBody>
      </p:sp>
      <p:sp>
        <p:nvSpPr>
          <p:cNvPr id="601" name=""/>
          <p:cNvSpPr/>
          <p:nvPr/>
        </p:nvSpPr>
        <p:spPr>
          <a:xfrm>
            <a:off x="1176480" y="658800"/>
            <a:ext cx="4767120" cy="50184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ccccff"/>
                </a:solidFill>
                <a:uFillTx/>
                <a:latin typeface="Vijaya"/>
                <a:hlinkClick r:id="rId3"/>
              </a:rPr>
              <a:t>Music Theory Lessons Sutherland Shire</a:t>
            </a:r>
            <a:endParaRPr b="0" lang="en-US" sz="2400" spc="-1" strike="noStrike">
              <a:solidFill>
                <a:srgbClr val="000000"/>
              </a:solidFill>
              <a:latin typeface="Arial"/>
            </a:endParaRPr>
          </a:p>
        </p:txBody>
      </p:sp>
      <p:sp>
        <p:nvSpPr>
          <p:cNvPr id="602" name=""/>
          <p:cNvSpPr/>
          <p:nvPr/>
        </p:nvSpPr>
        <p:spPr>
          <a:xfrm>
            <a:off x="731880" y="1920960"/>
            <a:ext cx="8686800" cy="5470560"/>
          </a:xfrm>
          <a:prstGeom prst="rect">
            <a:avLst/>
          </a:prstGeom>
          <a:noFill/>
          <a:ln w="0">
            <a:noFill/>
          </a:ln>
        </p:spPr>
        <p:style>
          <a:lnRef idx="0"/>
          <a:fillRef idx="0"/>
          <a:effectRef idx="0"/>
          <a:fontRef idx="minor"/>
        </p:style>
        <p:txBody>
          <a:bodyPr lIns="90000" rIns="90000" tIns="5400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9966cc"/>
                </a:solidFill>
                <a:latin typeface="Cambria"/>
              </a:rPr>
              <a:t>To know much more about Music Theory Lessons Sutherland Shire at Caterina Franco Music Tuition simply give us a call on 0418 245 658 or Click Here - </a:t>
            </a:r>
            <a:r>
              <a:rPr b="0" lang="en-US" sz="2200" spc="-1" strike="noStrike" u="sng">
                <a:solidFill>
                  <a:srgbClr val="ccccff"/>
                </a:solidFill>
                <a:uFillTx/>
                <a:latin typeface="Cambria"/>
                <a:hlinkClick r:id="rId4"/>
              </a:rPr>
              <a:t>http://www.musictuitions.com.au/music-theory-lessons</a:t>
            </a:r>
            <a:endParaRPr b="0" lang="en-US" sz="22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3" name="" descr=""/>
          <p:cNvPicPr/>
          <p:nvPr/>
        </p:nvPicPr>
        <p:blipFill>
          <a:blip r:embed="rId2"/>
          <a:stretch/>
        </p:blipFill>
        <p:spPr>
          <a:xfrm>
            <a:off x="6126120" y="0"/>
            <a:ext cx="3952800" cy="1006560"/>
          </a:xfrm>
          <a:prstGeom prst="rect">
            <a:avLst/>
          </a:prstGeom>
          <a:ln w="0">
            <a:noFill/>
          </a:ln>
        </p:spPr>
      </p:pic>
      <p:sp>
        <p:nvSpPr>
          <p:cNvPr id="604" name=""/>
          <p:cNvSpPr/>
          <p:nvPr/>
        </p:nvSpPr>
        <p:spPr>
          <a:xfrm>
            <a:off x="39600" y="82440"/>
            <a:ext cx="2611440" cy="557280"/>
          </a:xfrm>
          <a:prstGeom prst="rect">
            <a:avLst/>
          </a:prstGeom>
          <a:noFill/>
          <a:ln w="0">
            <a:noFill/>
          </a:ln>
        </p:spPr>
        <p:style>
          <a:lnRef idx="0"/>
          <a:fillRef idx="0"/>
          <a:effectRef idx="0"/>
          <a:fontRef idx="minor"/>
        </p:style>
        <p:txBody>
          <a:bodyPr lIns="90000" rIns="90000" tIns="45000" bIns="45000" anchor="t">
            <a:noAutofit/>
          </a:bodyPr>
          <a:p>
            <a:pPr>
              <a:lnSpc>
                <a:spcPct val="118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Black"/>
              </a:rPr>
              <a:t>Music Tuition</a:t>
            </a:r>
            <a:endParaRPr b="0" lang="en-US" sz="2600" spc="-1" strike="noStrike">
              <a:solidFill>
                <a:srgbClr val="000000"/>
              </a:solidFill>
              <a:latin typeface="Arial"/>
            </a:endParaRPr>
          </a:p>
        </p:txBody>
      </p:sp>
      <p:sp>
        <p:nvSpPr>
          <p:cNvPr id="605" name=""/>
          <p:cNvSpPr/>
          <p:nvPr/>
        </p:nvSpPr>
        <p:spPr>
          <a:xfrm>
            <a:off x="1176480" y="658800"/>
            <a:ext cx="4767120" cy="50184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ccccff"/>
                </a:solidFill>
                <a:uFillTx/>
                <a:latin typeface="Vijaya"/>
                <a:hlinkClick r:id="rId3"/>
              </a:rPr>
              <a:t>Music Theory Lessons Sutherland Shire</a:t>
            </a:r>
            <a:endParaRPr b="0" lang="en-US" sz="2400" spc="-1" strike="noStrike">
              <a:solidFill>
                <a:srgbClr val="000000"/>
              </a:solidFill>
              <a:latin typeface="Arial"/>
            </a:endParaRPr>
          </a:p>
        </p:txBody>
      </p:sp>
      <p:sp>
        <p:nvSpPr>
          <p:cNvPr id="606" name=""/>
          <p:cNvSpPr/>
          <p:nvPr/>
        </p:nvSpPr>
        <p:spPr>
          <a:xfrm>
            <a:off x="549360" y="3017880"/>
            <a:ext cx="8686800" cy="2428920"/>
          </a:xfrm>
          <a:prstGeom prst="rect">
            <a:avLst/>
          </a:prstGeom>
          <a:noFill/>
          <a:ln w="0">
            <a:noFill/>
          </a:ln>
        </p:spPr>
        <p:style>
          <a:lnRef idx="0"/>
          <a:fillRef idx="0"/>
          <a:effectRef idx="0"/>
          <a:fontRef idx="minor"/>
        </p:style>
        <p:txBody>
          <a:bodyPr lIns="90000" rIns="90000" tIns="140400" bIns="45000" anchor="t">
            <a:noAutofit/>
          </a:bodyPr>
          <a:p>
            <a:pPr algn="ctr">
              <a:lnSpc>
                <a:spcPct val="8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i="1" lang="en-US" sz="5400" spc="-1" strike="noStrike">
                <a:solidFill>
                  <a:srgbClr val="660066"/>
                </a:solidFill>
                <a:latin typeface="Times New Roman"/>
              </a:rPr>
              <a:t>Thank You.</a:t>
            </a:r>
            <a:endParaRPr b="0" lang="en-US" sz="5400" spc="-1" strike="noStrike">
              <a:solidFill>
                <a:srgbClr val="000000"/>
              </a:solidFill>
              <a:latin typeface="Arial"/>
            </a:endParaRPr>
          </a:p>
          <a:p>
            <a:pPr algn="ctr">
              <a:lnSpc>
                <a:spcPct val="8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i="1" lang="en-US" sz="4000" spc="-1" strike="noStrike">
                <a:solidFill>
                  <a:srgbClr val="660066"/>
                </a:solidFill>
                <a:latin typeface="Times New Roman"/>
              </a:rPr>
              <a:t>We Look Ahead To Hear From You.</a:t>
            </a:r>
            <a:endParaRPr b="0" lang="en-US" sz="40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8T08:32:30Z</dcterms:created>
  <dc:creator/>
  <dc:description/>
  <dc:language>en-US</dc:language>
  <cp:lastModifiedBy/>
  <cp:revision>1</cp:revision>
  <dc:subject/>
  <dc:title/>
</cp:coreProperties>
</file>