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AD7AA-D0F9-4225-BFAD-319B7E8B9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B4C63-75A2-43C7-BB6F-075985ED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8"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98CC34-E858-4196-A879-4596B500BE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2DFBCF-0D7D-4925-9215-33518DC36F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723ED7B-A793-43C4-BFF1-9FFF1DDEF1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4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4E9FA-3E8A-4E30-8F7B-17B5168ACA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47"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49"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B523D3-61DE-4CE1-81E5-E881884C4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3"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118B5E-28E9-483E-88DF-8A881CA2A6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5"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6"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FE941C-0037-4A32-A8EE-5F5BECA8E4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5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1"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E0D1A0-B631-49A7-8CC3-CED5DBA7FC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63"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4"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5"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6"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7"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8"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A8FE81-D187-43A3-9246-45F9577F3D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7BA2C9-6BE3-43C8-A65D-315CCDDDE4F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8C80A-6059-41B9-9ECC-C79443D6B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5"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E3DE66-49FD-41D4-94E2-6C48BFC86E3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7"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B2F3F16-2694-4A23-9FF7-AF7C0A39B6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7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0"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B6E0CEE-18AE-46FB-B315-FCFFB8CC4B9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306552-25F2-4C6A-BE0E-DC46DDDDFE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00BF9E-562F-4AC7-BFFE-539E17AED5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8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5"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6"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FAB350-B7E5-4D31-875D-4180C8B9C4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88"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0"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7C3F30-EB67-4EF1-BA2C-B21794628E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4"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86637C-B7B0-4E8A-B5F2-A7B5CE0A606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6"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7"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E0214D-12AB-4390-A37D-632ADA71DC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9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1"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2"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B81D6A-C357-4AE6-A4E2-7FABBAA0F5C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5"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98505-4EE0-4AC6-808F-3571B708B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04"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5"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6"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7"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8"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9"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C745D0-8B12-4A1E-90A6-9072A93F77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73ADE8-1538-48C7-BE9B-837E6CA1FB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16"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476EE8-AE85-4CF9-BA33-CE81DD150A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18"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D5BE48-D4FF-4FAB-9B9F-F94BB2B84C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E1C3A0-083F-4BD8-A7BE-A45E660955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30F937-9BCD-466C-A58E-3C4614D50A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76930A-FF1B-496E-B452-B9E7A50602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2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6528DD-0910-4783-B371-3EF4A49A34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2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1"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64CFEC-F4CF-45A6-BA0F-7CC7CF5E48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3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5"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9C0D47-0A9F-4B9F-89E8-EF05AE1C25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05969B-4180-4E6C-8AAB-116D07260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37"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38"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F0BC8B-06F6-4063-88B6-E34F3DC0E8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4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3"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BB24A54-0F58-424B-9087-ADC571D0D4B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45"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6"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7"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8"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49"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50"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8F5DC40-3F9D-4F37-826B-218A4826D68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5CC810-474D-4DAD-B732-E9C6070DD9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57"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39CB70-4417-4FB3-AC95-4A8705C64D4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59"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FDB1BD-0C4B-43E0-866C-3EFE3C6EB5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6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BD719F-BA9F-480A-BDAA-AE249E8F00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1D8DBF-A24D-4C21-A2C9-B5266BA942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A35D59-D8BB-46F6-A8F6-44F35CBD8B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6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6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5A2194-CFF5-42A9-A3D2-79C6C31116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B72B3-9634-4AE0-A7D3-100C3ABB8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2"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7FFFF2-E65D-4300-B820-F9DBC95C8F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6"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6D4D07-2921-4E8A-A43B-6FB1B267AD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78"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79"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D8C508-03BB-4E3B-8A5E-9619588414E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8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4"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89940F0-6357-4C12-AB55-D829510D985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86"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7"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8"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89"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90"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91"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6A8D520-7401-4C67-A25B-5ACD4D0933D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2CE7DF1-3092-4D09-AC48-611BE901D3D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98"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020DD8-577B-4BF7-B6E7-98DECCBCA6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0"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0AF0ACD-267C-4596-8707-6BC7BF2370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669F35F-07AB-432D-9ED0-0340E375D3E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C743B9-DE59-49FC-AF20-B7F2BC2FEB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49"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B8A58-5538-4CF8-96F0-FE5E3761FC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183EDF-9DC0-4E66-98BE-A2C9671F33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0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0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9D4904-98D7-46FC-AFAB-F7202B34A3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3"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D9FC62-4C0D-4DAE-82CC-289FFB5E3A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17"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C85D27-4969-481E-8B96-4BAF135EEF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9"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0"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6AAD2D-D51A-46DC-80A5-CB3D48182B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2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5"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E0E67D1-4352-4748-BCF6-829FBD422B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27"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8"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9"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0"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1"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32"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A5A4927-3A0A-42BF-A630-70A976B5FA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6043F73-5366-46BB-94B2-650DBD84A58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39"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B35ED6-3C63-470D-862E-EFAFEA823C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1"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CDBEA70-9C7C-4746-8638-7416BC7EC77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E77DF-D211-49DB-B9BC-99E0A9207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4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D644CC-6B83-4795-82AE-B3B13112D1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BDE056-BEB8-4341-89AC-451BFDDDBC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A7DC2F-D133-46F6-A4A2-2964381DB6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4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4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96E823-A7C6-48DA-82A8-203DEE5D84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5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4"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47EE9AF-4918-473A-A005-A171A50C48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5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58"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8D22A8-0AD1-4FB4-834C-C66F829CB6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0"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1"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D017BE-1A04-4796-8201-28033F8AE35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6"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5861A47-4373-4A27-8BA6-76E374EDA5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8"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69"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0"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1"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2"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3"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3110C95-51F7-4756-9293-D776F44AC0E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A6761D-FC47-4E2B-93E8-6ABA9A369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5FB41-94BF-4709-82D6-3B4BB6822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5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1532DD-F1C2-460C-8CF0-29C1481D1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38F1-3E29-416C-BB9D-1EE39CD8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0FDEE-9BFF-4047-BAAC-87015272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CBD4F-8615-4AFE-AB50-F70735AD6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68"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B46A7-1302-4614-B830-B93338F44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7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B54A8-8B8D-4947-8CE1-40488868B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76"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9D2C6-5F8D-4C4C-87FF-F23DB9FFD6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BBE113-42D9-4088-AEC6-0711390726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88"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2A46CB-FBD3-4C99-8B5D-CCC80D92F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0"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BB6855-8125-437C-8C83-9ECF81050C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CD1325-6154-44EC-A4A8-B75A4D8251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600210-B821-4360-8221-030E51B3F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8"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7F70-4E4C-4E81-900E-16C212D4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8E0674-E43E-4A5E-9D03-D502959C79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9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5D8526-8212-4726-BAD0-B2E765FDF1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1"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6A017-FE65-4C2F-B593-F5777B5424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796E6-4181-4803-80F4-3AEE6810D3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9"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021A6F-5D87-4608-9EF3-AA6DCE3694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1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968D88-5F12-481D-956C-5514CC54C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17"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41E395-969C-4883-BE59-BBA9D31D2B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3F0D14-B115-491E-B51E-EF3B97238C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29"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C53594-173A-44F6-AA1C-7A8CB69293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1"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95096-1E8D-431E-A1CB-148F041912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0"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2DC93-1AD2-4A46-BAC8-F12F804B6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4"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A8B564-92AB-4460-9656-D7AF348B18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C88DDC-E80E-41C8-96B2-C775D94D5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C950EE-696F-478E-B218-A108F63E5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3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9"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0"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A9ED07-BBAF-4F7C-BD0E-8BBDBAADDA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42"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3"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4"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D181A-3C6E-425D-83B2-4DD8B16A8F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4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8"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EED52-3347-43D1-941B-10AA7E59D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0"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1"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E8807-56BD-4A33-8A6F-2BEE787B7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5"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6"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54FAB-8E04-4C70-85C1-752FC97E27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8"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9"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0"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1"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2"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3"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7574D2-4771-4B18-909D-B2CB5304E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66E9A6-F728-40A4-A96B-19FA8074D9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14057-E572-4374-8ECE-8903CBB6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0"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F64974-8192-4AFA-8BD5-5E9A74DFA6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2"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B0E6B6-239B-4AD6-A7A3-E425A1DF8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4"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5"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F44029-286B-4D51-9FBB-4A4B089FDD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34E3B-612E-4B2B-8657-2B38F6048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70F06-1F83-4160-A03D-8F5961CB03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7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0"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1"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CD336-DE58-4543-850C-E41657E49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83"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5"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F1E38-2BE6-410B-AE4F-3185D80205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8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9"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2910FC-EFB0-4148-8DAD-D55657735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1"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2"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FE1109-B746-4217-9CFC-03A96F1FF6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4"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6"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7"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4A5E51-6CEA-463A-88D0-614B0312CB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C670E-AECB-4A43-BDE4-95CE6E35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9"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0"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1"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2"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3"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4"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A997D7-3A78-4615-AF67-FF03B0EDC5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1A839E-2CA3-4DDB-98FF-3FFCAC900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1"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515D4A-9CAF-40E8-86D4-6363CC591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3"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787114-311F-440E-B446-B21A25C18A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15"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1708AB-720B-42C1-AA50-2D0D953064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6F2773-D6E2-4B81-90E6-2423F29A70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D939B7-C32C-417E-B709-D76636C2C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1"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2"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72F3CB-A327-48C4-99D8-2E70C6F6E0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4"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5"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6"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CABF3C-C799-463E-81FE-E5929C4A9C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28"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29"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0"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EA7A4-D766-4438-92CE-B7E192479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D6A01-7286-452C-B212-C5FDDB85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2"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3"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F8A3C-C297-435D-8C92-E6B2F1B281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5"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7"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38"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868FFA-3110-461F-9703-2843296E43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40"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1"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2"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3"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4"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5"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2DC153-E757-470F-8915-37872793D8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D3B043-66BC-4B26-A5D2-648645358B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2"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2F1EB1-12DF-4D6D-9185-907653FC0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4"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FFB87E-7786-411D-886F-8A88C97E74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56"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7"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6E09CC-A878-4413-9AD2-9987E3A9D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BDFCC4-51AF-4C2F-92A2-D514315E1C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F109F5-3CCC-4284-A83C-1192E6C06F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1"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2"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3"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BE2569-48F3-4411-9B42-639A62E500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19"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ED6B-900E-45B0-B40E-35B32EB16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5"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6"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67"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51AA59-7EF7-43BC-9AA4-93AFC716E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69"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0"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1"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49983-A914-48F1-AE8E-5B9FF6C4A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3"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4"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2718A4-9189-4B2E-8F69-6E7AE18A2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76"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8"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79"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BAEABE-EAE1-4E82-8DAD-3D5C7E227F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81"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2"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3"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4"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5"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6"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ED81DC-D3F5-4EDD-ACE5-93DE20000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20DD1-5DBE-42AB-9DC8-2275AFBAB3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3"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036DA2-C6C2-451A-865D-7B2D7229F0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5"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7F5AB6-73D6-49FF-A023-4C3815DCC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97"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98"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F6A4BA-CA41-4643-8E35-B4492EAC5C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E38530-0974-41A5-8B04-2CA3FB1EDA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23"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83932-F1F1-459E-9E0D-D96C39B58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2920" y="553680"/>
            <a:ext cx="885492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C1DA4-A964-4AA3-B077-F14BC6774A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2"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3" name="PlaceHolder 3"/>
          <p:cNvSpPr>
            <a:spLocks noGrp="1"/>
          </p:cNvSpPr>
          <p:nvPr>
            <p:ph/>
          </p:nvPr>
        </p:nvSpPr>
        <p:spPr>
          <a:xfrm>
            <a:off x="503388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4"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7EEBE9-C272-4920-A246-0DB407191C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06" name="PlaceHolder 2"/>
          <p:cNvSpPr>
            <a:spLocks noGrp="1"/>
          </p:cNvSpPr>
          <p:nvPr>
            <p:ph/>
          </p:nvPr>
        </p:nvSpPr>
        <p:spPr>
          <a:xfrm>
            <a:off x="791640" y="1979280"/>
            <a:ext cx="4039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7"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08" name="PlaceHolder 4"/>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1AAFC3-FB52-4D07-B0D5-E730C41E78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0"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1"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2" name="PlaceHolder 4"/>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A23FED-DC46-4FBF-B7F8-23826F601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4" name="PlaceHolder 2"/>
          <p:cNvSpPr>
            <a:spLocks noGrp="1"/>
          </p:cNvSpPr>
          <p:nvPr>
            <p:ph/>
          </p:nvPr>
        </p:nvSpPr>
        <p:spPr>
          <a:xfrm>
            <a:off x="791640" y="197928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5" name="PlaceHolder 3"/>
          <p:cNvSpPr>
            <a:spLocks noGrp="1"/>
          </p:cNvSpPr>
          <p:nvPr>
            <p:ph/>
          </p:nvPr>
        </p:nvSpPr>
        <p:spPr>
          <a:xfrm>
            <a:off x="791640" y="4046400"/>
            <a:ext cx="8278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9691D4-B051-4F8F-A768-E7D1524F9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17" name="PlaceHolder 2"/>
          <p:cNvSpPr>
            <a:spLocks noGrp="1"/>
          </p:cNvSpPr>
          <p:nvPr>
            <p:ph/>
          </p:nvPr>
        </p:nvSpPr>
        <p:spPr>
          <a:xfrm>
            <a:off x="79164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8" name="PlaceHolder 3"/>
          <p:cNvSpPr>
            <a:spLocks noGrp="1"/>
          </p:cNvSpPr>
          <p:nvPr>
            <p:ph/>
          </p:nvPr>
        </p:nvSpPr>
        <p:spPr>
          <a:xfrm>
            <a:off x="5033880" y="197928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9" name="PlaceHolder 4"/>
          <p:cNvSpPr>
            <a:spLocks noGrp="1"/>
          </p:cNvSpPr>
          <p:nvPr>
            <p:ph/>
          </p:nvPr>
        </p:nvSpPr>
        <p:spPr>
          <a:xfrm>
            <a:off x="79164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0" name="PlaceHolder 5"/>
          <p:cNvSpPr>
            <a:spLocks noGrp="1"/>
          </p:cNvSpPr>
          <p:nvPr>
            <p:ph/>
          </p:nvPr>
        </p:nvSpPr>
        <p:spPr>
          <a:xfrm>
            <a:off x="5033880" y="4046400"/>
            <a:ext cx="403992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F4682-51C4-449E-A9DD-08A35F42C7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22" name="PlaceHolder 2"/>
          <p:cNvSpPr>
            <a:spLocks noGrp="1"/>
          </p:cNvSpPr>
          <p:nvPr>
            <p:ph/>
          </p:nvPr>
        </p:nvSpPr>
        <p:spPr>
          <a:xfrm>
            <a:off x="791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3" name="PlaceHolder 3"/>
          <p:cNvSpPr>
            <a:spLocks noGrp="1"/>
          </p:cNvSpPr>
          <p:nvPr>
            <p:ph/>
          </p:nvPr>
        </p:nvSpPr>
        <p:spPr>
          <a:xfrm>
            <a:off x="359064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4" name="PlaceHolder 4"/>
          <p:cNvSpPr>
            <a:spLocks noGrp="1"/>
          </p:cNvSpPr>
          <p:nvPr>
            <p:ph/>
          </p:nvPr>
        </p:nvSpPr>
        <p:spPr>
          <a:xfrm>
            <a:off x="6390000" y="197928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5" name="PlaceHolder 5"/>
          <p:cNvSpPr>
            <a:spLocks noGrp="1"/>
          </p:cNvSpPr>
          <p:nvPr>
            <p:ph/>
          </p:nvPr>
        </p:nvSpPr>
        <p:spPr>
          <a:xfrm>
            <a:off x="791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6" name="PlaceHolder 6"/>
          <p:cNvSpPr>
            <a:spLocks noGrp="1"/>
          </p:cNvSpPr>
          <p:nvPr>
            <p:ph/>
          </p:nvPr>
        </p:nvSpPr>
        <p:spPr>
          <a:xfrm>
            <a:off x="359064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7" name="PlaceHolder 7"/>
          <p:cNvSpPr>
            <a:spLocks noGrp="1"/>
          </p:cNvSpPr>
          <p:nvPr>
            <p:ph/>
          </p:nvPr>
        </p:nvSpPr>
        <p:spPr>
          <a:xfrm>
            <a:off x="6390000" y="4046400"/>
            <a:ext cx="2665440" cy="188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40EE21-4D28-40C4-9D58-A45C8F13AB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3D1EA2-A21F-4E5A-BA7E-35E7BB43F1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4" name="PlaceHolder 2"/>
          <p:cNvSpPr>
            <a:spLocks noGrp="1"/>
          </p:cNvSpPr>
          <p:nvPr>
            <p:ph type="subTitle"/>
          </p:nvPr>
        </p:nvSpPr>
        <p:spPr>
          <a:xfrm>
            <a:off x="791640" y="1979280"/>
            <a:ext cx="8278920" cy="39574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21BEF-DC38-4025-9600-97CC7600E39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000000"/>
              </a:solidFill>
              <a:latin typeface="Arial"/>
            </a:endParaRPr>
          </a:p>
        </p:txBody>
      </p:sp>
      <p:sp>
        <p:nvSpPr>
          <p:cNvPr id="336" name="PlaceHolder 2"/>
          <p:cNvSpPr>
            <a:spLocks noGrp="1"/>
          </p:cNvSpPr>
          <p:nvPr>
            <p:ph/>
          </p:nvPr>
        </p:nvSpPr>
        <p:spPr>
          <a:xfrm>
            <a:off x="791640" y="1979280"/>
            <a:ext cx="8278920" cy="39574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B1404F-36F4-4132-A65A-A8CBC312CC4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C86D7-816E-4220-9E31-F1087903BCB8}"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71640" y="662040"/>
            <a:ext cx="8673840" cy="1317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370" name="PlaceHolder 2"/>
          <p:cNvSpPr>
            <a:spLocks noGrp="1"/>
          </p:cNvSpPr>
          <p:nvPr>
            <p:ph type="body"/>
          </p:nvPr>
        </p:nvSpPr>
        <p:spPr>
          <a:xfrm>
            <a:off x="1260360" y="2128680"/>
            <a:ext cx="831384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1" name="PlaceHolder 3"/>
          <p:cNvSpPr>
            <a:spLocks noGrp="1"/>
          </p:cNvSpPr>
          <p:nvPr>
            <p:ph type="dt" idx="28"/>
          </p:nvPr>
        </p:nvSpPr>
        <p:spPr>
          <a:xfrm>
            <a:off x="971280" y="6743520"/>
            <a:ext cx="2346120" cy="51876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372" name="PlaceHolder 4"/>
          <p:cNvSpPr>
            <a:spLocks noGrp="1"/>
          </p:cNvSpPr>
          <p:nvPr>
            <p:ph type="ftr" idx="29"/>
          </p:nvPr>
        </p:nvSpPr>
        <p:spPr>
          <a:xfrm>
            <a:off x="3699000" y="6743520"/>
            <a:ext cx="3193920" cy="51876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7335720" y="6743520"/>
            <a:ext cx="2346480" cy="51876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156088-B723-45EC-A866-2BAC86BEBE25}"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60000" y="372600"/>
            <a:ext cx="9358200" cy="957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11" name="PlaceHolder 2"/>
          <p:cNvSpPr>
            <a:spLocks noGrp="1"/>
          </p:cNvSpPr>
          <p:nvPr>
            <p:ph type="body"/>
          </p:nvPr>
        </p:nvSpPr>
        <p:spPr>
          <a:xfrm>
            <a:off x="539640" y="2519280"/>
            <a:ext cx="9034560" cy="4237200"/>
          </a:xfrm>
          <a:prstGeom prst="rect">
            <a:avLst/>
          </a:prstGeom>
          <a:noFill/>
          <a:ln w="0">
            <a:noFill/>
          </a:ln>
        </p:spPr>
        <p:txBody>
          <a:bodyPr lIns="0" rIns="0" tIns="28080" bIns="0" anchor="t">
            <a:normAutofit fontScale="99000"/>
          </a:bodyPr>
          <a:p>
            <a:pPr marL="3394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9480" indent="-3394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502920" y="70311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13" name="PlaceHolder 4"/>
          <p:cNvSpPr>
            <a:spLocks noGrp="1"/>
          </p:cNvSpPr>
          <p:nvPr>
            <p:ph type="ftr" idx="32"/>
          </p:nvPr>
        </p:nvSpPr>
        <p:spPr>
          <a:xfrm>
            <a:off x="3448080" y="703116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7227720" y="703116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C9F63E-19BF-47C4-87E6-B9FF708738F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452" name="PlaceHolder 2"/>
          <p:cNvSpPr>
            <a:spLocks noGrp="1"/>
          </p:cNvSpPr>
          <p:nvPr>
            <p:ph type="body"/>
          </p:nvPr>
        </p:nvSpPr>
        <p:spPr>
          <a:xfrm>
            <a:off x="502920" y="2057040"/>
            <a:ext cx="9069480" cy="434988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53" name="PlaceHolder 3"/>
          <p:cNvSpPr>
            <a:spLocks noGrp="1"/>
          </p:cNvSpPr>
          <p:nvPr>
            <p:ph type="dt" idx="3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454" name="PlaceHolder 4"/>
          <p:cNvSpPr>
            <a:spLocks noGrp="1"/>
          </p:cNvSpPr>
          <p:nvPr>
            <p:ph type="ftr" idx="3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2D3EEE-6030-4458-97F1-BA8B30B1B73F}"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828360" y="717480"/>
            <a:ext cx="8350200" cy="1260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493" name="PlaceHolder 2"/>
          <p:cNvSpPr>
            <a:spLocks noGrp="1"/>
          </p:cNvSpPr>
          <p:nvPr>
            <p:ph type="body"/>
          </p:nvPr>
        </p:nvSpPr>
        <p:spPr>
          <a:xfrm>
            <a:off x="899640" y="2160720"/>
            <a:ext cx="8278920" cy="43178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495" name="PlaceHolder 4"/>
          <p:cNvSpPr>
            <a:spLocks noGrp="1"/>
          </p:cNvSpPr>
          <p:nvPr>
            <p:ph type="ftr" idx="3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177CBE-0C73-4356-A5B4-EF89F55B8ECE}"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02920" y="553680"/>
            <a:ext cx="885492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534" name="PlaceHolder 2"/>
          <p:cNvSpPr>
            <a:spLocks noGrp="1"/>
          </p:cNvSpPr>
          <p:nvPr>
            <p:ph type="body"/>
          </p:nvPr>
        </p:nvSpPr>
        <p:spPr>
          <a:xfrm>
            <a:off x="791640" y="1979280"/>
            <a:ext cx="8278920" cy="3957480"/>
          </a:xfrm>
          <a:prstGeom prst="rect">
            <a:avLst/>
          </a:prstGeom>
          <a:noFill/>
          <a:ln w="0">
            <a:noFill/>
          </a:ln>
        </p:spPr>
        <p:txBody>
          <a:bodyPr lIns="0" rIns="0" tIns="28080" bIns="0" anchor="t">
            <a:normAutofit fontScale="92000"/>
          </a:bodyPr>
          <a:p>
            <a:pPr marL="31536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15360" indent="-31536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535" name="PlaceHolder 3"/>
          <p:cNvSpPr>
            <a:spLocks noGrp="1"/>
          </p:cNvSpPr>
          <p:nvPr>
            <p:ph type="dt" idx="40"/>
          </p:nvPr>
        </p:nvSpPr>
        <p:spPr>
          <a:xfrm>
            <a:off x="539640" y="641988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536" name="PlaceHolder 4"/>
          <p:cNvSpPr>
            <a:spLocks noGrp="1"/>
          </p:cNvSpPr>
          <p:nvPr>
            <p:ph type="ftr" idx="41"/>
          </p:nvPr>
        </p:nvSpPr>
        <p:spPr>
          <a:xfrm>
            <a:off x="3448080" y="641988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7083360" y="641988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A8B30E-5A5B-4264-A20D-21035F15F79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502920" y="2165400"/>
            <a:ext cx="9069480" cy="4276800"/>
          </a:xfrm>
          <a:prstGeom prst="rect">
            <a:avLst/>
          </a:prstGeom>
          <a:noFill/>
          <a:ln w="0">
            <a:noFill/>
          </a:ln>
        </p:spPr>
        <p:txBody>
          <a:bodyPr lIns="0" rIns="0" tIns="28080" bIns="0" anchor="t">
            <a:normAutofit fontScale="99000"/>
          </a:bodyPr>
          <a:p>
            <a:pPr marL="3394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39480" indent="-3394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E0BF25-F737-49BD-9D6F-9D21D784FA72}"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83" name="PlaceHolder 2"/>
          <p:cNvSpPr>
            <a:spLocks noGrp="1"/>
          </p:cNvSpPr>
          <p:nvPr>
            <p:ph type="body"/>
          </p:nvPr>
        </p:nvSpPr>
        <p:spPr>
          <a:xfrm>
            <a:off x="502920" y="2160720"/>
            <a:ext cx="9069480" cy="45972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C2A9F4-0183-42DF-9E6E-F84BF83AEEB9}"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Arial"/>
              </a:rPr>
              <a:t>Click to edit the title text format</a:t>
            </a:r>
            <a:endParaRPr b="0" lang="en-US" sz="4100" spc="-1" strike="noStrike">
              <a:solidFill>
                <a:srgbClr val="ffffff"/>
              </a:solidFill>
              <a:latin typeface="Arial"/>
            </a:endParaRPr>
          </a:p>
        </p:txBody>
      </p:sp>
      <p:sp>
        <p:nvSpPr>
          <p:cNvPr id="124"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5" name="PlaceHolder 3"/>
          <p:cNvSpPr>
            <a:spLocks noGrp="1"/>
          </p:cNvSpPr>
          <p:nvPr>
            <p:ph type="dt" idx="10"/>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6C42C-CF71-4339-B793-7084633AC5DC}" type="slidenum">
              <a:rPr b="0" lang="en-US" sz="1400" spc="-1" strike="noStrike">
                <a:solidFill>
                  <a:srgbClr val="ffffff"/>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3624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80"/>
                </a:solidFill>
                <a:latin typeface="Times New Roman"/>
              </a:rPr>
              <a:t>Click to edit the title text format</a:t>
            </a:r>
            <a:endParaRPr b="0" lang="en-US" sz="4100" spc="-1" strike="noStrike">
              <a:solidFill>
                <a:srgbClr val="000080"/>
              </a:solidFill>
              <a:latin typeface="Times New Roman"/>
            </a:endParaRPr>
          </a:p>
        </p:txBody>
      </p:sp>
      <p:sp>
        <p:nvSpPr>
          <p:cNvPr id="165" name="PlaceHolder 2"/>
          <p:cNvSpPr>
            <a:spLocks noGrp="1"/>
          </p:cNvSpPr>
          <p:nvPr>
            <p:ph type="body"/>
          </p:nvPr>
        </p:nvSpPr>
        <p:spPr>
          <a:xfrm>
            <a:off x="502920" y="1767960"/>
            <a:ext cx="9069480" cy="4529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502920" y="667080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670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670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B11B90-E8F6-45A3-96E7-2E9D5C6BA177}"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02920" y="622584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206" name="PlaceHolder 2"/>
          <p:cNvSpPr>
            <a:spLocks noGrp="1"/>
          </p:cNvSpPr>
          <p:nvPr>
            <p:ph type="body"/>
          </p:nvPr>
        </p:nvSpPr>
        <p:spPr>
          <a:xfrm>
            <a:off x="502920" y="791640"/>
            <a:ext cx="9069480" cy="413892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502920" y="537516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08" name="PlaceHolder 4"/>
          <p:cNvSpPr>
            <a:spLocks noGrp="1"/>
          </p:cNvSpPr>
          <p:nvPr>
            <p:ph type="ftr" idx="17"/>
          </p:nvPr>
        </p:nvSpPr>
        <p:spPr>
          <a:xfrm>
            <a:off x="3448080" y="537516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7227720" y="537516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684B40-19DE-46B6-929E-E1FBDFC385F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100" spc="-1" strike="noStrike">
                <a:solidFill>
                  <a:srgbClr val="ffffff"/>
                </a:solidFill>
                <a:latin typeface="Times New Roman"/>
              </a:rPr>
              <a:t>Click to edit the title text format</a:t>
            </a:r>
            <a:endParaRPr b="1" i="1" lang="en-US" sz="4100" spc="-1" strike="noStrike">
              <a:solidFill>
                <a:srgbClr val="ffffff"/>
              </a:solidFill>
              <a:latin typeface="Times New Roman"/>
            </a:endParaRPr>
          </a:p>
        </p:txBody>
      </p:sp>
      <p:sp>
        <p:nvSpPr>
          <p:cNvPr id="247"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48" name="PlaceHolder 3"/>
          <p:cNvSpPr>
            <a:spLocks noGrp="1"/>
          </p:cNvSpPr>
          <p:nvPr>
            <p:ph type="dt" idx="19"/>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249" name="PlaceHolder 4"/>
          <p:cNvSpPr>
            <a:spLocks noGrp="1"/>
          </p:cNvSpPr>
          <p:nvPr>
            <p:ph type="ftr" idx="20"/>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250" name="PlaceHolder 5"/>
          <p:cNvSpPr>
            <a:spLocks noGrp="1"/>
          </p:cNvSpPr>
          <p:nvPr>
            <p:ph type="sldNum" idx="21"/>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424D52-F393-4E9C-BD57-D929E8407BC9}"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02920" y="48060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288" name="PlaceHolder 2"/>
          <p:cNvSpPr>
            <a:spLocks noGrp="1"/>
          </p:cNvSpPr>
          <p:nvPr>
            <p:ph type="body"/>
          </p:nvPr>
        </p:nvSpPr>
        <p:spPr>
          <a:xfrm>
            <a:off x="647280" y="1913040"/>
            <a:ext cx="8674200" cy="434952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502920" y="652788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Times New Roman"/>
            </a:endParaRPr>
          </a:p>
        </p:txBody>
      </p:sp>
      <p:sp>
        <p:nvSpPr>
          <p:cNvPr id="290" name="PlaceHolder 4"/>
          <p:cNvSpPr>
            <a:spLocks noGrp="1"/>
          </p:cNvSpPr>
          <p:nvPr>
            <p:ph type="ftr" idx="23"/>
          </p:nvPr>
        </p:nvSpPr>
        <p:spPr>
          <a:xfrm>
            <a:off x="3411000" y="6527880"/>
            <a:ext cx="319428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7154640" y="6527880"/>
            <a:ext cx="234612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138C8-1FF0-4DC8-99FB-B1AD6C5B879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539640"/>
            <a:ext cx="8818560" cy="1022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000000"/>
                </a:solidFill>
                <a:latin typeface="Arial"/>
              </a:rPr>
              <a:t>Click to edit the title text format</a:t>
            </a:r>
            <a:endParaRPr b="0" lang="en-US" sz="4100" spc="-1" strike="noStrike">
              <a:solidFill>
                <a:srgbClr val="000000"/>
              </a:solidFill>
              <a:latin typeface="Arial"/>
            </a:endParaRPr>
          </a:p>
        </p:txBody>
      </p:sp>
      <p:sp>
        <p:nvSpPr>
          <p:cNvPr id="329" name="PlaceHolder 2"/>
          <p:cNvSpPr>
            <a:spLocks noGrp="1"/>
          </p:cNvSpPr>
          <p:nvPr>
            <p:ph type="body"/>
          </p:nvPr>
        </p:nvSpPr>
        <p:spPr>
          <a:xfrm>
            <a:off x="539640" y="1767960"/>
            <a:ext cx="8818560" cy="5069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539280" y="6995880"/>
            <a:ext cx="2336760" cy="5173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date/time&gt;</a:t>
            </a:r>
            <a:endParaRPr b="0" lang="en-US" sz="1400" spc="-1" strike="noStrike">
              <a:solidFill>
                <a:srgbClr val="ffffff"/>
              </a:solidFill>
              <a:latin typeface="Times New Roman"/>
            </a:endParaRPr>
          </a:p>
        </p:txBody>
      </p:sp>
      <p:sp>
        <p:nvSpPr>
          <p:cNvPr id="331" name="PlaceHolder 4"/>
          <p:cNvSpPr>
            <a:spLocks noGrp="1"/>
          </p:cNvSpPr>
          <p:nvPr>
            <p:ph type="ftr" idx="26"/>
          </p:nvPr>
        </p:nvSpPr>
        <p:spPr>
          <a:xfrm>
            <a:off x="3471480" y="6995880"/>
            <a:ext cx="3179880" cy="5173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Lucida Sans Unicode"/>
              </a:rPr>
              <a:t>&lt;footer&gt;</a:t>
            </a:r>
            <a:endParaRPr b="0" lang="en-US" sz="1400" spc="-1" strike="noStrike">
              <a:solidFill>
                <a:srgbClr val="ffffff"/>
              </a:solidFill>
              <a:latin typeface="Times New Roman"/>
            </a:endParaRPr>
          </a:p>
        </p:txBody>
      </p:sp>
      <p:sp>
        <p:nvSpPr>
          <p:cNvPr id="332" name="PlaceHolder 5"/>
          <p:cNvSpPr>
            <a:spLocks noGrp="1"/>
          </p:cNvSpPr>
          <p:nvPr>
            <p:ph type="sldNum" idx="27"/>
          </p:nvPr>
        </p:nvSpPr>
        <p:spPr>
          <a:xfrm>
            <a:off x="7237080" y="6995880"/>
            <a:ext cx="2336760" cy="5173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6D1A32-9185-4068-A382-03CAAFB41DA0}" type="slidenum">
              <a:rPr b="0" lang="en-US" sz="1400" spc="-1" strike="noStrike">
                <a:solidFill>
                  <a:srgbClr val="ffffff"/>
                </a:solidFill>
                <a:latin typeface="Times New Roman"/>
                <a:ea typeface="Lucida Sans Unicode"/>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image" Target="../media/image15.jpeg"/><Relationship Id="rId5"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image" Target="../media/image16.jpeg"/><Relationship Id="rId5"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hyperlink" Target="http://www.musictuitions.com.au/music-theory-lessons" TargetMode="External"/><Relationship Id="rId5"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hyperlink" Target="http://www.musictuitions.com.au/music-theory-lessons" TargetMode="External"/><Relationship Id="rId4"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4" name="" descr=""/>
          <p:cNvPicPr/>
          <p:nvPr/>
        </p:nvPicPr>
        <p:blipFill>
          <a:blip r:embed="rId2"/>
          <a:stretch/>
        </p:blipFill>
        <p:spPr>
          <a:xfrm>
            <a:off x="6126120" y="0"/>
            <a:ext cx="3952800" cy="1006560"/>
          </a:xfrm>
          <a:prstGeom prst="rect">
            <a:avLst/>
          </a:prstGeom>
          <a:ln w="0">
            <a:noFill/>
          </a:ln>
        </p:spPr>
      </p:pic>
      <p:sp>
        <p:nvSpPr>
          <p:cNvPr id="575"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76"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pic>
        <p:nvPicPr>
          <p:cNvPr id="577" name="" descr=""/>
          <p:cNvPicPr/>
          <p:nvPr/>
        </p:nvPicPr>
        <p:blipFill>
          <a:blip r:embed="rId4"/>
          <a:stretch/>
        </p:blipFill>
        <p:spPr>
          <a:xfrm>
            <a:off x="457200" y="1189080"/>
            <a:ext cx="9051840" cy="58514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8" name="" descr=""/>
          <p:cNvPicPr/>
          <p:nvPr/>
        </p:nvPicPr>
        <p:blipFill>
          <a:blip r:embed="rId2"/>
          <a:stretch/>
        </p:blipFill>
        <p:spPr>
          <a:xfrm>
            <a:off x="6126120" y="0"/>
            <a:ext cx="3952800" cy="1006560"/>
          </a:xfrm>
          <a:prstGeom prst="rect">
            <a:avLst/>
          </a:prstGeom>
          <a:ln w="0">
            <a:noFill/>
          </a:ln>
        </p:spPr>
      </p:pic>
      <p:sp>
        <p:nvSpPr>
          <p:cNvPr id="579"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0"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1"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Caterina Franco Music Tuition costs provides music theory lessons Sutherland Shire for students from Shire’s best music instructors with an interesting and advice on guitar selection. </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2" name="" descr=""/>
          <p:cNvPicPr/>
          <p:nvPr/>
        </p:nvPicPr>
        <p:blipFill>
          <a:blip r:embed="rId2"/>
          <a:stretch/>
        </p:blipFill>
        <p:spPr>
          <a:xfrm>
            <a:off x="6126120" y="0"/>
            <a:ext cx="3952800" cy="1006560"/>
          </a:xfrm>
          <a:prstGeom prst="rect">
            <a:avLst/>
          </a:prstGeom>
          <a:ln w="0">
            <a:noFill/>
          </a:ln>
        </p:spPr>
      </p:pic>
      <p:sp>
        <p:nvSpPr>
          <p:cNvPr id="583"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4"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5"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We have students of all age groups to appreciate their musical show journe under the recommendations of our professional teachers.</a:t>
            </a:r>
            <a:r>
              <a:rPr b="0" lang="en-US" sz="3600" spc="-1" strike="noStrike">
                <a:solidFill>
                  <a:srgbClr val="9966cc"/>
                </a:solidFill>
                <a:latin typeface="Cambria"/>
              </a:rPr>
              <a:t>	</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6" name="" descr=""/>
          <p:cNvPicPr/>
          <p:nvPr/>
        </p:nvPicPr>
        <p:blipFill>
          <a:blip r:embed="rId2"/>
          <a:stretch/>
        </p:blipFill>
        <p:spPr>
          <a:xfrm>
            <a:off x="6126120" y="0"/>
            <a:ext cx="3952800" cy="1006560"/>
          </a:xfrm>
          <a:prstGeom prst="rect">
            <a:avLst/>
          </a:prstGeom>
          <a:ln w="0">
            <a:noFill/>
          </a:ln>
        </p:spPr>
      </p:pic>
      <p:sp>
        <p:nvSpPr>
          <p:cNvPr id="587"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88"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89" name=""/>
          <p:cNvSpPr/>
          <p:nvPr/>
        </p:nvSpPr>
        <p:spPr>
          <a:xfrm>
            <a:off x="639720" y="210348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The Caterina Franco Music Educational costs group will be there to help you acquire your objectives. We offer students the choice of seated for examinations or playing our interesting show  activities which are organized twice a year.</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0" name="" descr=""/>
          <p:cNvPicPr/>
          <p:nvPr/>
        </p:nvPicPr>
        <p:blipFill>
          <a:blip r:embed="rId2"/>
          <a:stretch/>
        </p:blipFill>
        <p:spPr>
          <a:xfrm>
            <a:off x="6126120" y="0"/>
            <a:ext cx="3952800" cy="1006560"/>
          </a:xfrm>
          <a:prstGeom prst="rect">
            <a:avLst/>
          </a:prstGeom>
          <a:ln w="0">
            <a:noFill/>
          </a:ln>
        </p:spPr>
      </p:pic>
      <p:sp>
        <p:nvSpPr>
          <p:cNvPr id="591"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92"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93" name=""/>
          <p:cNvSpPr/>
          <p:nvPr/>
        </p:nvSpPr>
        <p:spPr>
          <a:xfrm>
            <a:off x="731880" y="1332000"/>
            <a:ext cx="8686800" cy="653076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Your professionals will educate you how to play typical notices and quick modifying chords! your preferred songs! how to study music lessons! concentrate on reed reality techniques! improve on an limitless flow of innovative musical show phrases! etc. Like all musical show instruments! playing for individual enjoyment is all aspect of the procedure at any stage but the music is still a challenging to be an expert.</a:t>
            </a: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4" name="" descr=""/>
          <p:cNvPicPr/>
          <p:nvPr/>
        </p:nvPicPr>
        <p:blipFill>
          <a:blip r:embed="rId2"/>
          <a:stretch/>
        </p:blipFill>
        <p:spPr>
          <a:xfrm>
            <a:off x="6126120" y="0"/>
            <a:ext cx="3952800" cy="1006560"/>
          </a:xfrm>
          <a:prstGeom prst="rect">
            <a:avLst/>
          </a:prstGeom>
          <a:ln w="0">
            <a:noFill/>
          </a:ln>
        </p:spPr>
      </p:pic>
      <p:sp>
        <p:nvSpPr>
          <p:cNvPr id="595"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596" name=""/>
          <p:cNvSpPr/>
          <p:nvPr/>
        </p:nvSpPr>
        <p:spPr>
          <a:xfrm>
            <a:off x="1189080" y="503280"/>
            <a:ext cx="4767120" cy="50148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597" name=""/>
          <p:cNvSpPr/>
          <p:nvPr/>
        </p:nvSpPr>
        <p:spPr>
          <a:xfrm>
            <a:off x="731880" y="1332000"/>
            <a:ext cx="8686800" cy="484668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pic>
        <p:nvPicPr>
          <p:cNvPr id="598" name="" descr=""/>
          <p:cNvPicPr/>
          <p:nvPr/>
        </p:nvPicPr>
        <p:blipFill>
          <a:blip r:embed="rId4"/>
          <a:stretch/>
        </p:blipFill>
        <p:spPr>
          <a:xfrm>
            <a:off x="0" y="1006560"/>
            <a:ext cx="10094760" cy="6554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9" name="" descr=""/>
          <p:cNvPicPr/>
          <p:nvPr/>
        </p:nvPicPr>
        <p:blipFill>
          <a:blip r:embed="rId2"/>
          <a:stretch/>
        </p:blipFill>
        <p:spPr>
          <a:xfrm>
            <a:off x="6126120" y="0"/>
            <a:ext cx="3952800" cy="1006560"/>
          </a:xfrm>
          <a:prstGeom prst="rect">
            <a:avLst/>
          </a:prstGeom>
          <a:ln w="0">
            <a:noFill/>
          </a:ln>
        </p:spPr>
      </p:pic>
      <p:sp>
        <p:nvSpPr>
          <p:cNvPr id="600"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601"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602" name=""/>
          <p:cNvSpPr/>
          <p:nvPr/>
        </p:nvSpPr>
        <p:spPr>
          <a:xfrm>
            <a:off x="731880" y="1920960"/>
            <a:ext cx="8686800" cy="5470560"/>
          </a:xfrm>
          <a:prstGeom prst="rect">
            <a:avLst/>
          </a:prstGeom>
          <a:noFill/>
          <a:ln w="0">
            <a:noFill/>
          </a:ln>
        </p:spPr>
        <p:style>
          <a:lnRef idx="0"/>
          <a:fillRef idx="0"/>
          <a:effectRef idx="0"/>
          <a:fontRef idx="minor"/>
        </p:style>
        <p:txBody>
          <a:bodyPr lIns="90000" rIns="90000" tIns="54000" bIns="45000" anchor="t">
            <a:noAutofit/>
          </a:bodyPr>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600" spc="-1" strike="noStrike">
                <a:solidFill>
                  <a:srgbClr val="9966cc"/>
                </a:solidFill>
                <a:latin typeface="Cambria"/>
              </a:rPr>
              <a:t>To know much more about Music Theory Lessons Sutherland Shire at Caterina Franco Music Tuition simply give us a call on 0418 245 658 or Click Here - </a:t>
            </a:r>
            <a:r>
              <a:rPr b="0" lang="en-US" sz="2200" spc="-1" strike="noStrike" u="sng">
                <a:solidFill>
                  <a:srgbClr val="ccccff"/>
                </a:solidFill>
                <a:uFillTx/>
                <a:latin typeface="Cambria"/>
                <a:hlinkClick r:id="rId4"/>
              </a:rPr>
              <a:t>http://www.musictuitions.com.au/music-theory-lessons</a:t>
            </a:r>
            <a:endParaRPr b="0" lang="en-US" sz="22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03" name="" descr=""/>
          <p:cNvPicPr/>
          <p:nvPr/>
        </p:nvPicPr>
        <p:blipFill>
          <a:blip r:embed="rId2"/>
          <a:stretch/>
        </p:blipFill>
        <p:spPr>
          <a:xfrm>
            <a:off x="6126120" y="0"/>
            <a:ext cx="3952800" cy="1006560"/>
          </a:xfrm>
          <a:prstGeom prst="rect">
            <a:avLst/>
          </a:prstGeom>
          <a:ln w="0">
            <a:noFill/>
          </a:ln>
        </p:spPr>
      </p:pic>
      <p:sp>
        <p:nvSpPr>
          <p:cNvPr id="604" name=""/>
          <p:cNvSpPr/>
          <p:nvPr/>
        </p:nvSpPr>
        <p:spPr>
          <a:xfrm>
            <a:off x="39600" y="82440"/>
            <a:ext cx="2611440" cy="557280"/>
          </a:xfrm>
          <a:prstGeom prst="rect">
            <a:avLst/>
          </a:prstGeom>
          <a:noFill/>
          <a:ln w="0">
            <a:noFill/>
          </a:ln>
        </p:spPr>
        <p:style>
          <a:lnRef idx="0"/>
          <a:fillRef idx="0"/>
          <a:effectRef idx="0"/>
          <a:fontRef idx="minor"/>
        </p:style>
        <p:txBody>
          <a:bodyPr lIns="90000" rIns="90000" tIns="45000" bIns="45000" anchor="t">
            <a:noAutofit/>
          </a:bodyPr>
          <a:p>
            <a:pPr>
              <a:lnSpc>
                <a:spcPct val="118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Black"/>
              </a:rPr>
              <a:t>Music Tuition</a:t>
            </a:r>
            <a:endParaRPr b="0" lang="en-US" sz="2600" spc="-1" strike="noStrike">
              <a:solidFill>
                <a:srgbClr val="000000"/>
              </a:solidFill>
              <a:latin typeface="Arial"/>
            </a:endParaRPr>
          </a:p>
        </p:txBody>
      </p:sp>
      <p:sp>
        <p:nvSpPr>
          <p:cNvPr id="605" name=""/>
          <p:cNvSpPr/>
          <p:nvPr/>
        </p:nvSpPr>
        <p:spPr>
          <a:xfrm>
            <a:off x="1176480" y="658800"/>
            <a:ext cx="4767120" cy="501840"/>
          </a:xfrm>
          <a:prstGeom prst="rect">
            <a:avLst/>
          </a:prstGeom>
          <a:noFill/>
          <a:ln w="0">
            <a:noFill/>
          </a:ln>
        </p:spPr>
        <p:style>
          <a:lnRef idx="0"/>
          <a:fillRef idx="0"/>
          <a:effectRef idx="0"/>
          <a:fontRef idx="minor"/>
        </p:style>
        <p:txBody>
          <a:bodyPr lIns="90000" rIns="90000" tIns="45000" bIns="45000" anchor="t">
            <a:noAutofit/>
          </a:bodyPr>
          <a:p>
            <a:pPr>
              <a:lnSpc>
                <a:spcPct val="11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Vijaya"/>
                <a:hlinkClick r:id="rId3"/>
              </a:rPr>
              <a:t>Music Theory Lessons Sutherland Shire</a:t>
            </a:r>
            <a:endParaRPr b="0" lang="en-US" sz="2400" spc="-1" strike="noStrike">
              <a:solidFill>
                <a:srgbClr val="000000"/>
              </a:solidFill>
              <a:latin typeface="Arial"/>
            </a:endParaRPr>
          </a:p>
        </p:txBody>
      </p:sp>
      <p:sp>
        <p:nvSpPr>
          <p:cNvPr id="606" name=""/>
          <p:cNvSpPr/>
          <p:nvPr/>
        </p:nvSpPr>
        <p:spPr>
          <a:xfrm>
            <a:off x="549360" y="3017880"/>
            <a:ext cx="8686800" cy="2428920"/>
          </a:xfrm>
          <a:prstGeom prst="rect">
            <a:avLst/>
          </a:prstGeom>
          <a:noFill/>
          <a:ln w="0">
            <a:noFill/>
          </a:ln>
        </p:spPr>
        <p:style>
          <a:lnRef idx="0"/>
          <a:fillRef idx="0"/>
          <a:effectRef idx="0"/>
          <a:fontRef idx="minor"/>
        </p:style>
        <p:txBody>
          <a:bodyPr lIns="90000" rIns="90000" tIns="140400" bIns="45000" anchor="t">
            <a:noAutofit/>
          </a:bodyPr>
          <a:p>
            <a:pPr algn="ctr">
              <a:lnSpc>
                <a:spcPct val="8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5400" spc="-1" strike="noStrike">
                <a:solidFill>
                  <a:srgbClr val="660066"/>
                </a:solidFill>
                <a:latin typeface="Times New Roman"/>
              </a:rPr>
              <a:t>Thank You.</a:t>
            </a:r>
            <a:endParaRPr b="0" lang="en-US" sz="5400" spc="-1" strike="noStrike">
              <a:solidFill>
                <a:srgbClr val="000000"/>
              </a:solidFill>
              <a:latin typeface="Arial"/>
            </a:endParaRPr>
          </a:p>
          <a:p>
            <a:pPr algn="ctr">
              <a:lnSpc>
                <a:spcPct val="86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000" spc="-1" strike="noStrike">
                <a:solidFill>
                  <a:srgbClr val="660066"/>
                </a:solidFill>
                <a:latin typeface="Times New Roman"/>
              </a:rPr>
              <a:t>We Look Ahead To Hear From You.</a:t>
            </a:r>
            <a:endParaRPr b="0" lang="en-US" sz="40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a:p>
            <a:pPr>
              <a:lnSpc>
                <a:spcPct val="98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8T08:32:30Z</dcterms:created>
  <dc:creator/>
  <dc:description/>
  <dc:language>en-US</dc:language>
  <cp:lastModifiedBy/>
  <cp:revision>1</cp:revision>
  <dc:subject/>
  <dc:title/>
</cp:coreProperties>
</file>