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4F31-098A-48D4-B566-2137924A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58F5-86A5-46D5-889C-7C3EC92F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C060-33A4-4761-8EE5-3762354E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4DA-1C73-4BD4-AC81-C58642B6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9AE8-756B-4728-B021-3B724BDA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76A-BF48-46A6-895D-AEFB78BB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B7D1-A647-483C-AF6F-41468033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2DAC-FF4E-4C1C-8968-EA8A7072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9CD0-3526-492E-B6EF-E1D4FB98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F951-9FFE-4A91-A199-30026CE0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115C-A3B9-46E4-BF08-CA6AC0BF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795-8F57-414A-8C86-C45B5513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3D6F-AF19-4F4F-90E0-E27DC7AA2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74760"/>
            <a:ext cx="9144000" cy="61084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74760"/>
            <a:ext cx="9144000" cy="61084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46240"/>
            <a:ext cx="9144000" cy="6365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2133600">
            <a:off x="5703120" y="1295280"/>
            <a:ext cx="23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en-US" sz="16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en-US" sz="1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ffff00"/>
                </a:solidFill>
                <a:latin typeface="Comic Sans MS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77840"/>
            <a:ext cx="9144000" cy="65023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743040"/>
            <a:ext cx="9144000" cy="5371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97964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72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43000" y="1066680"/>
            <a:ext cx="1066680" cy="914400"/>
          </a:xfrm>
          <a:prstGeom prst="line">
            <a:avLst/>
          </a:prstGeom>
          <a:ln w="63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-6480"/>
            <a:ext cx="8229600" cy="69184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12840"/>
            <a:ext cx="9144000" cy="62323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8400"/>
            <a:ext cx="9144000" cy="67212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8:33:03Z</dcterms:created>
  <dc:creator>fperez</dc:creator>
  <dc:description/>
  <dc:language>en-US</dc:language>
  <cp:lastModifiedBy>Smets</cp:lastModifiedBy>
  <dcterms:modified xsi:type="dcterms:W3CDTF">2008-08-25T19:55:39Z</dcterms:modified>
  <cp:revision>10</cp:revision>
  <dc:subject/>
  <dc:title>Presentación de PowerPoint</dc:title>
</cp:coreProperties>
</file>