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B21-5B5A-41A9-87D5-8F4E6BD2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9E21-5CBE-4D2E-8870-8D04FC3D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C6FE-361F-45CB-8D3B-FE89B56E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FE4-ADFB-4DFA-826E-4A51FFDF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F2C-BE2A-4F32-B9FF-C74597B5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3864-5011-4E51-8E4A-BC11729B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D62F-A2F8-40FA-AFDB-5879B36F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06C-C2B2-4F55-A3B8-562E2786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FC9-4337-4FFD-9488-5A7982F7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6C5-459B-437F-8927-C6DEEF12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1A8-71EB-438E-8396-E3057839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B17-F707-417C-B6EA-03574004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8914-480E-41B8-B012-C789CA6D2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74760"/>
            <a:ext cx="9144000" cy="61084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74760"/>
            <a:ext cx="9144000" cy="61084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46240"/>
            <a:ext cx="9144000" cy="6365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2133600">
            <a:off x="5703120" y="1295280"/>
            <a:ext cx="23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1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ffff00"/>
                </a:solidFill>
                <a:latin typeface="Comic Sans MS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77840"/>
            <a:ext cx="9144000" cy="65023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743040"/>
            <a:ext cx="9144000" cy="5371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7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43000" y="1066680"/>
            <a:ext cx="1066680" cy="914400"/>
          </a:xfrm>
          <a:prstGeom prst="line">
            <a:avLst/>
          </a:prstGeom>
          <a:ln w="63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-6480"/>
            <a:ext cx="8229600" cy="69184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12840"/>
            <a:ext cx="9144000" cy="62323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7212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8:33:03Z</dcterms:created>
  <dc:creator>fperez</dc:creator>
  <dc:description/>
  <dc:language>en-US</dc:language>
  <cp:lastModifiedBy>Smets</cp:lastModifiedBy>
  <dcterms:modified xsi:type="dcterms:W3CDTF">2008-08-25T19:55:39Z</dcterms:modified>
  <cp:revision>10</cp:revision>
  <dc:subject/>
  <dc:title>Presentación de PowerPoint</dc:title>
</cp:coreProperties>
</file>