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49A5-E034-4BBD-AFC7-1397E7B6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D5C1-F4AE-4670-B7F4-8921B44B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7155-4B50-45AB-BA11-FA7461FD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43D6-BD62-4CDB-A994-A83612C2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259E-9946-4A10-B32C-BBD7161B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6B8E-1A81-4C1B-87CA-0F73CAF4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1E41-B014-4E59-A8D1-5E33ACA5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2E33-3399-4014-9EDC-3FD5AC4B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9199-57B3-4D0D-9FFB-D3D99483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8BA4-F2D4-4BA1-978A-628BD3D0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0C03-A74C-40D0-A1E1-7003CA98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D963-E8C7-474D-99E3-944EF2AA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D6B1-1A69-4EF0-BD15-39AA9B28A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00360" y="3645000"/>
            <a:ext cx="395928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ต่อมไร้ท่อ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68360" y="907920"/>
            <a:ext cx="4896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Endocrine system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crine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ระบบต่อมไร้ท่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ขั้นต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ur 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พฤติ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enger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คนนำข่าวมาบอ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erty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วัยหนุ่มสา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ารเคม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ผ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nd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ต่อ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ion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ารหลั่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olism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ารเผาพลาญอาห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tuitary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ต่อมใต้สมอ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ารสั่งสอ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nad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ต่อมเพ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e cell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เซลล์ประสา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mped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ารสู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ารบี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ly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อย่าเฉียบพลั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le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ล้ามเนื้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hood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วัยเด็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ating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เป็นตัวกระตุ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ปัสสาว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ntrated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จับกลุ่มเข้าด้วยกั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ynx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ล่องเสีย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ly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อย่างเหมาะส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se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ชีพจ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large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ขยา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รักษ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ควบคุ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ure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จริญเติบโตเต็มที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creas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ตับอ่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estion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การย่อยอาหา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พลัง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bete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โรคเบาหว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d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ช่วยเหลื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7T09:33:34Z</dcterms:created>
  <dc:creator>CasperX</dc:creator>
  <dc:description/>
  <dc:language>en-US</dc:language>
  <cp:lastModifiedBy>CasperX</cp:lastModifiedBy>
  <dcterms:modified xsi:type="dcterms:W3CDTF">2012-08-07T14:29:16Z</dcterms:modified>
  <cp:revision>3</cp:revision>
  <dc:subject/>
  <dc:title>ภาพนิ่ง 1</dc:title>
</cp:coreProperties>
</file>