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006-335C-4303-9A09-FA87D4B0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AEE-F28D-48D8-BE88-2C24651A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50B-CC02-431A-A605-997A71D7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BF7-F72D-4161-B948-28EEF8BC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154-5B21-4CA7-9FD3-43879477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C83-EA12-441E-8759-8983E348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C45-44BB-4F2A-97A5-030A071C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672-B2FB-458F-9C83-66B775E5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958-718E-41F4-83B4-0A862FA0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E69-22C5-4C99-8F23-FB2E7F17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5DE-8D04-4B04-AB0A-189A684E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18B-E15A-4E39-ACD2-B13ADEEC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324C-DC29-4B03-9C98-D4B6A76D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3645000"/>
            <a:ext cx="39592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ต่อมไร้ท่อ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68360" y="907920"/>
            <a:ext cx="489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ndocrine syste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ระบบต่อมไร้ท่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ขั้นต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ur 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enger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นนำข่าวมาบ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erty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วัยหนุ่มสา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ารเคม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ผ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nd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่อ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ion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หลั่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sm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เผาพลาญอาห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uitary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ต่อมใต้สม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สั่งสอ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na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ต่อมเพ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cell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ซลล์ประสา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e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สู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ารบี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ly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ย่าเฉียบพลั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ล้ามเนื้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hoo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วัยเด็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ing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เป็นตัวกระตุ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ปัสสาว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e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จับกลุ่มเข้าด้วยกั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ynx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กล่องเสีย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ly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อย่างเหมาะส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s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ชีพจ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arge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ขย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รักษ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วบคุ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e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จริญเติบโตเต็มที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s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ตับอ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การย่อย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พลัง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โรคเบาหว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d 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ช่วยเหล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9:33:34Z</dcterms:created>
  <dc:creator>CasperX</dc:creator>
  <dc:description/>
  <dc:language>en-US</dc:language>
  <cp:lastModifiedBy>CasperX</cp:lastModifiedBy>
  <dcterms:modified xsi:type="dcterms:W3CDTF">2012-08-07T14:29:16Z</dcterms:modified>
  <cp:revision>3</cp:revision>
  <dc:subject/>
  <dc:title>ภาพนิ่ง 1</dc:title>
</cp:coreProperties>
</file>