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CE1-ADC7-405A-9C87-C0F25CA8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575-DB18-4DF3-B8DD-899E98F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1BA-EDC2-4816-8A99-8F4461B7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509-A264-4CC4-975A-D9D165FB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08A-729A-47F0-8D79-CDA832C3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01D-2A1D-4BCB-B921-AF513F3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FD5-C92A-4D67-9D97-57E67864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1AC-FF81-4C60-B830-789F9E84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E96-FFA3-4B82-99A2-052F0CBD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36C-547E-4231-B70D-03A0963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183-2ADD-4FB3-BFAB-A13981E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1AE-69F7-4649-8161-B7143951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CAD-B11A-49A5-993B-939122D6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81120" y="592200"/>
            <a:ext cx="61214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FACULTAD DE MEDICINA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ESCUELA DE ENFERMERÍA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DEPARTAMENTO DE CIENCIAS BÁSICAS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FARMACOLOGÍA CLÍ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3680" y="6035760"/>
            <a:ext cx="763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 Black"/>
              </a:rPr>
              <a:t>PROF.: ALEXIS D. FUENMAYOR BOSC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2727360"/>
            <a:ext cx="775800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Farmacología Respirator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24440" y="824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 Black"/>
              </a:rPr>
              <a:t>Fármacos Antitusíg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76120" y="765000"/>
          <a:ext cx="8578800" cy="4556160"/>
        </p:xfrm>
        <a:graphic>
          <a:graphicData uri="http://schemas.openxmlformats.org/drawingml/2006/table">
            <a:tbl>
              <a:tblPr/>
              <a:tblGrid>
                <a:gridCol w="1919520"/>
                <a:gridCol w="1800000"/>
                <a:gridCol w="2016360"/>
                <a:gridCol w="2842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IPO DE MEDICAMEN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ntitusíge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Gené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Present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Efectos Adve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de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dipront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delasa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extrometorf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nyli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heraflu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evodropropiz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ntux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evopront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xol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xo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rebró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tracto Hied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spá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buti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ilomat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2680" y="689040"/>
              <a:ext cx="8353440" cy="48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rocesos inflamatorios crónicos de las vías respiratori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Ejemplo: EPOC, Asma): Producen secreciones abundantes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espesas y adheren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on difíciles de eliminar mediante la t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Favorecen la obstrucción bronquial, las infecciones y l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atelectas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Mucolític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Son fármacos capaces de fluidificar l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secreciones bronqui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spesamiento del moc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Inadecuada hidratación gener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	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scasa humidificación del aire inspir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l mejor mucolítico es 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2680" y="689040"/>
              <a:ext cx="8353440" cy="37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. CLÁSICOS (INHALATORI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CETILCISTEÍNA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MERCAPTO-ETANO-SULFONATO DE SODIO (MESN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utilizan por vía inhalatoria para actuar localmente en el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interior del bronqui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Útiles en algunos casos de obstrucción bronquial por retención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e moc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Broncoespasmo. Olor desagradable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(Acetilcisteína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2680" y="689040"/>
              <a:ext cx="8353440" cy="32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B. MUCORREGUL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CARBOXIMETILCISTEÍNA, BROMHEXINA, AMBROX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ctúan sobre el mecanismo bioquímico de las glándulas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secretoras del bronquio, produciendo un moco menos viscos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e administran por V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on empleados frecuente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unca se ha demostrado definitivamente su utilid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2680" y="689040"/>
              <a:ext cx="8353440" cy="41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C. MUCOLÍTICOS ESPECI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DORNASA ALFA (</a:t>
              </a:r>
              <a:r>
                <a:rPr b="0" lang="el-GR" sz="2000" spc="-1" strike="noStrike">
                  <a:solidFill>
                    <a:srgbClr val="ffff00"/>
                  </a:solidFill>
                  <a:latin typeface="Arial Black"/>
                </a:rPr>
                <a:t>α</a:t>
              </a: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Indicada únicamente en la Fibrosis Quíst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Lisa el moco viscoso bronquial característico de esta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enfermedad, mejorando la función respirato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obtiene por técnica recombina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administra por medio de un nebulizador de aire comprim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Dosis: 2.500 U/dí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fectos Adversos: Reacciones de hipersensibilid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Mucolít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2680" y="689040"/>
              <a:ext cx="8353440" cy="56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Es un concepto no bien defin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on fármacos capaces de estimular la expectoración de las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secreciones bronqui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CAUSAS DE EXPECTORACIÓN INSUFIC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alta de fuerza para tos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Hidratación inadecuad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hibición de la tos por el dolor (Cirugía torácica, Fracturas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costale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MANEJ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Fisioterapia respirato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Hidratación adecuada del aire inspira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Administración de analgésic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ármacos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2680" y="689040"/>
              <a:ext cx="8353440" cy="55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SALES ORGÁNICAS E INORGÁNICAS DE YO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on irritantes de las vías respirator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Hacen que se secrete más moco, que el que se expecto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Yodismo: Alteraciones cutáneas, Sabor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metálic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No deben emplearse hoy dí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MBROXOL, ACEBROFIL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ERDOSTE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olécula nueva, derivada de la homocisteí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Uso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Tratamiento de las afecciones respiratorias que cursan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con dificultad para expulsar las secreciones bronqui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Epigastralgia, Náuseas, Vómitos, Eritema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Prurito, Cefale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ármacos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924440" y="824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 Black"/>
              </a:rPr>
              <a:t>Fármacos Mucolí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6120" y="765000"/>
          <a:ext cx="8578800" cy="4500720"/>
        </p:xfrm>
        <a:graphic>
          <a:graphicData uri="http://schemas.openxmlformats.org/drawingml/2006/table">
            <a:tbl>
              <a:tblPr/>
              <a:tblGrid>
                <a:gridCol w="1919520"/>
                <a:gridCol w="1800000"/>
                <a:gridCol w="2016360"/>
                <a:gridCol w="2842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IPO DE MEDICAMENT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ucolíticos y Expector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Genér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ombre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Present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Efectos Adve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arboximetilcis-te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ulaper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ovisco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mhex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isolvo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mbrox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ucosolva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mbri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ornasa 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cozyme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ebrofi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ixilon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onilis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rdoste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ukial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92680" y="3436920"/>
            <a:ext cx="3740040" cy="272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82680" y="689040"/>
              <a:ext cx="8353440" cy="42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TROS FÁRMACOS UTILIZADOS EN LAS ENFERMEDADES D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00"/>
                  </a:solidFill>
                  <a:latin typeface="Arial Black"/>
                </a:rPr>
                <a:t>α</a:t>
              </a: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1-ANTITRIP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Déficit congénito de 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 Black"/>
                </a:rPr>
                <a:t>α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1-Antitripsina es una Enfermedad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Heredita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Clínica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Bronquitis crónica, Enfisema, Bronquiectasias y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Cirrosis hepát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TRAT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anejo específico de las infecciones respirator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dministración de </a:t>
              </a:r>
              <a:r>
                <a:rPr b="0" lang="el-GR" sz="1800" spc="-1" strike="noStrike">
                  <a:solidFill>
                    <a:srgbClr val="ffffff"/>
                  </a:solidFill>
                  <a:latin typeface="Arial Black"/>
                </a:rPr>
                <a:t>α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1-Antitripsina, VI, 60 mg/kg, seman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roduce mejoría de las lesiones pulmonare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5280" y="82440"/>
              <a:ext cx="863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Otros Fármacos Utilizados en 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2680" y="689040"/>
              <a:ext cx="8353440" cy="51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TROS FÁRMACOS UTILIZADOS EN LAS ENFERMEDADES D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TENSIOACTIVO PULMONAR – SURFACTANTES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CUROSURF® (Fracción fosfolípida pulmón porcino)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SURVANTA® (Fosfolípidos de pulmón bovi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ustancia secretada por los neumocitos alveolar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roporciona estabilidad a los alvéolos al producir una baja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tensión superfici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u destrucción o desaparición (Síndrome de distres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respiratorio agudo), ocasiona inestabilidad de los alvéolos con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tendencia al colapso alveol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Tensioactivo Pulmonar Bovino y Porci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dministración inhalato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Resultados poco clar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80" y="82440"/>
              <a:ext cx="863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Otros Fármacos Utilizados en 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 txBox="1"/>
          <p:nvPr/>
        </p:nvSpPr>
        <p:spPr>
          <a:xfrm>
            <a:off x="684360" y="1052640"/>
            <a:ext cx="775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Antitusígeno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Mucolítico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Expectorant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82680" y="689040"/>
              <a:ext cx="8353440" cy="41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TROS FÁRMACOS UTILIZADOS EN LAS ENFERMEDADES D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PALIVIZUMAB</a:t>
              </a:r>
              <a:br>
                <a:rPr sz="2000"/>
              </a:b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SYNAGIS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nticuerpo monoclonal IgG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utiliza como preventivo de infecciones pulmonares por el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Virus Respiratorio Sincitial (VRS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Uso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Niños con displasia pulmonar u otras neumopatí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crón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Dosi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15 mg/kg. IM. Mensual. Meses de inviern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Reacciones Adversa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Alérgicas y Anafiláctic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82440"/>
              <a:ext cx="863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Otros Fármacos Utilizados en el 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042920" y="82440"/>
              <a:ext cx="798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Antitusígenos, Mucolíticos y Expectora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9600" y="695160"/>
              <a:ext cx="84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PUNTOS IMPORTANTES EN ENFERM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336600" y="1209600"/>
              <a:ext cx="3076560" cy="50277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3551400" y="1150920"/>
              <a:ext cx="5400360" cy="39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l administrar jarabes para la tos, tener presente la composición con Codeína que están contraindicados en niñ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Uno de los mejores mucolíticos es el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La hidratación general, la humidificación del aire inspirado, el tratamiento del dolor y la terapia respiratoria, son las medidas más eficaces para lograr la expector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El vapor de agua es mucolítico y expectorante. Puede ser beneficioso en las laringitis agu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Recordar la “sopita de pollo” cali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Aparato Respirato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9360" y="861840"/>
              <a:ext cx="8528040" cy="5110200"/>
              <a:chOff x="279360" y="861840"/>
              <a:chExt cx="8528040" cy="5110200"/>
            </a:xfrm>
          </p:grpSpPr>
          <p:pic>
            <p:nvPicPr>
              <p:cNvPr id="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360" y="861840"/>
                <a:ext cx="4076640" cy="508968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3"/>
              <a:srcRect l="2638" t="0" r="2876" b="3377"/>
              <a:stretch/>
            </p:blipFill>
            <p:spPr>
              <a:xfrm>
                <a:off x="4716360" y="882360"/>
                <a:ext cx="4091040" cy="508968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Reflejo de la 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80080" y="1887480"/>
              <a:ext cx="71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8080" y="4551480"/>
              <a:ext cx="1871640" cy="93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Taquikin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Sustancia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Neuroquinina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7960" y="3687840"/>
              <a:ext cx="2664000" cy="576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75360" y="2463840"/>
              <a:ext cx="2664000" cy="1079640"/>
            </a:xfrm>
            <a:prstGeom prst="downArrowCallout">
              <a:avLst>
                <a:gd name="adj1" fmla="val 57054"/>
                <a:gd name="adj2" fmla="val 58089"/>
                <a:gd name="adj3" fmla="val 21574"/>
                <a:gd name="adj4" fmla="val 66616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Efe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lot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Músculos Respira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6480" y="942840"/>
              <a:ext cx="2664000" cy="614520"/>
            </a:xfrm>
            <a:prstGeom prst="downArrowCallout">
              <a:avLst>
                <a:gd name="adj1" fmla="val 108387"/>
                <a:gd name="adj2" fmla="val 108377"/>
                <a:gd name="adj3" fmla="val 16667"/>
                <a:gd name="adj4" fmla="val 66667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Estímulos de la 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1520" y="1646280"/>
              <a:ext cx="2663640" cy="3090960"/>
            </a:xfrm>
            <a:prstGeom prst="downArrowCallout">
              <a:avLst>
                <a:gd name="adj1" fmla="val 23123"/>
                <a:gd name="adj2" fmla="val 25000"/>
                <a:gd name="adj3" fmla="val 4040"/>
                <a:gd name="adj4" fmla="val 92778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Mecán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Cuerpo Extra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Polvo, Mo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Quím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Nico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Capsaic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Ácido Cí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Agentes Osmót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0000ff"/>
                  </a:solidFill>
                  <a:latin typeface="Arial Black"/>
                </a:rPr>
                <a:t>Inflamato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Histam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Black"/>
                </a:rPr>
                <a:t>Prostaglandi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4760" y="4830840"/>
              <a:ext cx="3168720" cy="12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Receptores de la Tos</a:t>
              </a:r>
              <a:br>
                <a:rPr sz="1800"/>
              </a:b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Nervios Sensor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Receptor de adaptación rápi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Fibra Pulmonar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Fibra Bronquial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91120" y="2174760"/>
              <a:ext cx="0" cy="331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555720" y="5487840"/>
              <a:ext cx="647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7400" y="3005280"/>
              <a:ext cx="1150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Nervio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Va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(+/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14640" y="1598760"/>
              <a:ext cx="266400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Centro de la 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9360" y="735120"/>
              <a:ext cx="237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Corteza Cereb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   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(+/-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1720" y="1095480"/>
              <a:ext cx="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99360" y="1874880"/>
              <a:ext cx="0" cy="503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6554880" y="4449600"/>
              <a:ext cx="1871640" cy="19195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2680" y="701640"/>
              <a:ext cx="8353440" cy="47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La tos es un complejo acto reflej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antiene las vías respiratorias libres de cuerpos extraño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(moco bronquial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Cuerpos extraños </a:t>
              </a:r>
              <a:r>
                <a:rPr b="0" lang="es-E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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Infecciones, Atelectasi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Mecanismo de defensa del aparato respiratori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No es conveniente prescindir de ell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Conviene animar al paciente a tos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ORIGEN DE LA 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Irritación de faringe o laringe. No hay participación de vía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respiratorias. Tos irritativa o “tos seca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Vías respiratorias. Tos productiva o “tos húmeda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2680" y="689040"/>
              <a:ext cx="8353440" cy="58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A. DERIVADOS DE LA MORF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ctúan sobre el Sistema Nervioso Centr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tenúan el reflejo de la tos, deprimiendo el Centro de la T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CODEÍNA Y DIHIDROCODEÍ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e utilizan en la tos irritativa, no productiva, V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Dosis: 10 – 20 mg/6 horas de Codeína. 60 – 120 mg/día de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ihidrocodeí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ueden llegar a producir adicción. Aunque muy rar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Contraindicados en los niñ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DEXTROMETORF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arece ser igual de eficaz que la Codeí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No produce adicción. Efectos secundarios muy lev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Puede usarse en niñ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2680" y="689040"/>
              <a:ext cx="8353440" cy="53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Arial Black"/>
                </a:rPr>
                <a:t>B. ANTITUSÍGENOS DE ACCIÓN PERIFÉ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Actúan inhibiendo las terminaciones nerviosas bronquiales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onde se origina la t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Son de eficacia dudos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LEVODROPROPIZINA, OXOLAM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Somnolencia, Disminución de la capacidad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e concentración, Mareo, Cefalea, Palpitaciones, Náuseas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Vómitos y Diarrea. Rash cutáneo. Alucinac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XTRACTO DE HOJAS DE HIEDRA </a:t>
              </a:r>
              <a:r>
                <a:rPr b="0" i="1" lang="es-ES" sz="1800" spc="-1" strike="noStrike">
                  <a:solidFill>
                    <a:srgbClr val="ffff00"/>
                  </a:solidFill>
                  <a:latin typeface="Arial Black"/>
                </a:rPr>
                <a:t>(Hedera heli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Diarrea. Intolerancia gástric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CLOBUTI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 Black"/>
                </a:rPr>
                <a:t>Efectos Adversos: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Agitación, Temblor, Náuseas, Vómitos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Mareo, Rash pruriginoso, Molestias Gastrointestinales. Raras: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Disnea, Hipertonía muscular, Convulsiones, Urticaria, </a:t>
              </a:r>
              <a:br>
                <a:rPr sz="1800"/>
              </a:br>
              <a:r>
                <a:rPr b="0" lang="es-ES" sz="1800" spc="-1" strike="noStrike">
                  <a:solidFill>
                    <a:srgbClr val="ffffff"/>
                  </a:solidFill>
                  <a:latin typeface="Arial Black"/>
                </a:rPr>
                <a:t>  Angioedema, Anafilaxi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82680" y="689040"/>
              <a:ext cx="835344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C. OTR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BALSÁMICOS (MENTOL, EUCALIP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on sustancias aromáticas de origen veget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Reducen la sensibilidad de los receptores bronquiales de la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tos. (¿?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No se ha podido demostrar su efecto terapéutic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Se pueden administrar en forma de vapores calientes (vahos)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 como remedio caser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El mayor beneficio deriva del propio vapor de agu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EMOLIENTES (JARABES SIMPLES, CARAMEL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440"/>
            <a:ext cx="9142560" cy="6856560"/>
            <a:chOff x="0" y="1440"/>
            <a:chExt cx="9142560" cy="6856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924440" y="82440"/>
              <a:ext cx="41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Arial Black"/>
                </a:rPr>
                <a:t>Fármacos Antitusíge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17600" y="679320"/>
              <a:ext cx="8280360" cy="5591160"/>
              <a:chOff x="417600" y="679320"/>
              <a:chExt cx="8280360" cy="55911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17600" y="679320"/>
                <a:ext cx="3960720" cy="198432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65600" y="679320"/>
                <a:ext cx="4032360" cy="198252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80120" y="2839680"/>
                <a:ext cx="3384360" cy="342288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7600" y="2839680"/>
                <a:ext cx="4608360" cy="3430800"/>
              </a:xfrm>
              <a:prstGeom prst="rect">
                <a:avLst/>
              </a:prstGeom>
              <a:ln w="38160">
                <a:solidFill>
                  <a:srgbClr val="ff0000"/>
                </a:solidFill>
                <a:miter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3:57:16Z</dcterms:created>
  <dc:creator>Orbis Terrae</dc:creator>
  <dc:description/>
  <dc:language>en-US</dc:language>
  <cp:lastModifiedBy>Orbis Terrae</cp:lastModifiedBy>
  <dcterms:modified xsi:type="dcterms:W3CDTF">2009-12-04T05:28:07Z</dcterms:modified>
  <cp:revision>4</cp:revision>
  <dc:subject/>
  <dc:title>Diapositiva 1</dc:title>
</cp:coreProperties>
</file>