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724-CE05-4E9C-8577-4C13FA73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1D8-86D9-4EF2-924E-4379C119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6C8-4930-4808-AE71-B32C4C9F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E73-BF90-4C52-89F0-98C41827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77E-87D4-4717-A875-25F57A8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149-242B-4B3D-B79C-8C88B1C7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8CB-C3FA-4BBF-8637-DB39446D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75C-F4CD-4A0C-8D48-BCC8A03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2B1-EC7D-4842-B875-A6185FDE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5CE-835B-4359-8BE1-F43E067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B34-9A9A-48D9-A0CC-9AA106A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927-88D1-4602-9E85-A0A2D29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03D-830D-43C9-B97C-7DCBDD81F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concurrent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nement: entité faite de menaces et d’opportun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Porter (1980): l’industrie où opère l’entreprise est soumise à de multiples pressions concurrentie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oin de stabilité et évitement du conflit voire la coopé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entreprises doivent modeler les structures de leur industrie à des stratégies différentes, correspondant à des positionnement concurrentiels différ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concurrent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 déterminisme de la stratégie dans le modèle LCAG, répond dans l’analyse stratégique moderne, une vision beaucoup plus contingent des choix concurrentie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20:07Z</dcterms:created>
  <dc:creator>Salem</dc:creator>
  <dc:description/>
  <dc:language>en-US</dc:language>
  <cp:lastModifiedBy>Salem</cp:lastModifiedBy>
  <dcterms:modified xsi:type="dcterms:W3CDTF">2003-01-04T17:57:49Z</dcterms:modified>
  <cp:revision>3</cp:revision>
  <dc:subject/>
  <dc:title>Environnement concurrentiel</dc:title>
</cp:coreProperties>
</file>