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6C5-F241-4EF7-9B1D-F7BB4811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ECC-369E-4BEF-9FB8-5228258D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D4A-236C-42C4-8A86-F6966D49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8D0-7D13-4937-A42E-DB603015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C03-95AB-4580-B3BC-9EE8723C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267-3A82-4722-97B2-E8792DD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E25-DB54-42A1-876F-B7A1BC1D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A05-0CA1-4BD3-9E14-C98F4CFC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B41-601B-46D4-A43E-25E8390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D19-981C-46B9-9D9A-B616E6C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813-29DA-48F6-BAAD-A7C76A8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49A-5CC3-4608-B94C-EF70DEBF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BC6F-736E-4EA5-9F69-698E1CBFF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vironnement concurrent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nement: entité faite de menaces et d’opportun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Porter (1980): l’industrie où opère l’entreprise est soumise à de multiples pressions concurrentie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oin de stabilité et évitement du conflit voire la coopé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entreprises doivent modeler les structures de leur industrie à des stratégies différentes, correspondant à des positionnement concurrentiels différ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vironnement concurrent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 déterminisme de la stratégie dans le modèle LCAG, répond dans l’analyse stratégique moderne, une vision beaucoup plus contingent des choix concurrentie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20:07Z</dcterms:created>
  <dc:creator>Salem</dc:creator>
  <dc:description/>
  <dc:language>en-US</dc:language>
  <cp:lastModifiedBy>Salem</cp:lastModifiedBy>
  <dcterms:modified xsi:type="dcterms:W3CDTF">2003-01-04T17:57:49Z</dcterms:modified>
  <cp:revision>3</cp:revision>
  <dc:subject/>
  <dc:title>Environnement concurrentiel</dc:title>
</cp:coreProperties>
</file>