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403-9221-435E-9155-CFECD37C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B25-17F9-4F86-A354-17642B14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806-8CD0-431E-8E6E-21D22687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8AF-4FE0-41A2-A5EA-6C27B558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75D-AED4-4BE9-9664-C0F7FF3F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EE3-C701-4C76-9669-1D61AB60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218-43BE-4DAF-B8CA-14C0CEDC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266-6971-47F8-8D72-03475E38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64F-1625-4684-A6E9-893C3A74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476-826D-4A3C-B9E9-19660E3A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DF1-321B-4A98-BF5A-8DA2FCCC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DCC-D14E-4ACB-BE1D-410306A1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44F2-D1D6-4A3D-9CB5-6BFD9E3F7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62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616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41018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762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76244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52680" y="533520"/>
            <a:ext cx="2995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8672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35004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762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9343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anj</cp:lastModifiedBy>
  <dcterms:modified xsi:type="dcterms:W3CDTF">2005-12-16T10:53:4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