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BD783-6371-484E-8E51-8D5EB7581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A5BE-5439-4E0C-83FE-A000D895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A63D5-A304-4DC8-A374-C8539BD35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9581D-DCA8-439A-BE51-90A88B530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1828-4B67-4758-802B-0E395D33F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42353-6A7A-4768-96B5-12927A2EA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1F3DE-FC91-4D9D-A11D-D2E1F6A57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72961-90E3-4DEA-A478-030E79926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C0E8-549D-4CB0-866B-7FDF0BF2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EF7F6-85F3-4155-9A01-69B55C34F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865C6-0BC0-4D96-86A2-3AB3C642F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92357-F651-4020-B7F5-733269C3B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8622-AB3C-4224-ACC8-96358BC35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NSELING DAN EMPATI</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2133360"/>
            <a:ext cx="640080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e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H. Ahmadi NH, Sp KJ</a:t>
            </a:r>
            <a:endParaRPr b="0" lang="en-US" sz="32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1"/>
          <p:cNvPicPr/>
          <p:nvPr/>
        </p:nvPicPr>
        <p:blipFill>
          <a:blip r:embed="rId1"/>
          <a:stretch/>
        </p:blipFill>
        <p:spPr>
          <a:xfrm>
            <a:off x="685800" y="1638360"/>
            <a:ext cx="8077320" cy="4838760"/>
          </a:xfrm>
          <a:prstGeom prst="rect">
            <a:avLst/>
          </a:prstGeom>
          <a:ln w="0">
            <a:noFill/>
          </a:ln>
        </p:spPr>
      </p:pic>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Tahap pertengahan (tahap kerja)</a:t>
            </a:r>
            <a:endParaRPr b="0" lang="en-US" sz="4000" spc="-1" strike="noStrike">
              <a:solidFill>
                <a:srgbClr val="000000"/>
              </a:solidFill>
              <a:latin typeface="Arial"/>
            </a:endParaRPr>
          </a:p>
        </p:txBody>
      </p:sp>
      <p:sp>
        <p:nvSpPr>
          <p:cNvPr id="62"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pijak dari definisi permasalahan klien yg telah disepakati bersa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giatan memfokuskan pd penjelajahan permasalahan klien, akan membantu klien memperoleh perspektif baru, adanya dinamika dlm diri klien utk menuju perubahan dan kemungkinan bantuan yg akan diberikan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juan tahap pertengah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jelajah, mengeksplorasi permasalahan dan kepedulian klien lebih lanjut. Konselor mengadakan penilaian kembali (</a:t>
            </a:r>
            <a:r>
              <a:rPr b="0" i="1" lang="en-US" sz="2000" spc="-1" strike="noStrike">
                <a:solidFill>
                  <a:srgbClr val="000000"/>
                </a:solidFill>
                <a:latin typeface="Arial"/>
              </a:rPr>
              <a:t>reassessment</a:t>
            </a:r>
            <a:r>
              <a:rPr b="0" lang="en-US" sz="2000" spc="-1" strike="noStrike">
                <a:solidFill>
                  <a:srgbClr val="000000"/>
                </a:solidFill>
                <a:latin typeface="Arial"/>
              </a:rPr>
              <a:t>) bersama-sama klien,  agar klien bisa lebih semangat dan mempunyai perspektif dan alternatif baru thd permasalahannya atau pandangan lain yg lebih obyekti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jaga agar hubungan klien tetap terpelihara. Klien merasa senang terlibat dlm proses konseling dan menampakkan kebutuhan utk mengembangkan potensi diri dan memecahkan permasalahannya. Konselor berusaha kreatif dengan ketrampilan konseling yg bervariasi, memelihara keramahan, empati, kejujuran, keikhlasan dlm memberikan bantuan. Termasuk alternatif dlm penyelesaian permasalahan dan pengembangan diri kli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ses konseling agar berjalan sesuai kontrak. Jaga kondisi kondusif, rasa aman, dekat. Upayakan Klien lebih terbuka, jujur, menggali lagi lebih dalam permasalahannya dan menemukan pilihan alternatif utk mengembangkan diri.</a:t>
            </a:r>
            <a:endParaRPr b="0" lang="en-US" sz="20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04560" y="1295280"/>
            <a:ext cx="84582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2"/>
          <p:cNvPicPr/>
          <p:nvPr/>
        </p:nvPicPr>
        <p:blipFill>
          <a:blip r:embed="rId1"/>
          <a:stretch/>
        </p:blipFill>
        <p:spPr>
          <a:xfrm>
            <a:off x="1295280" y="1203480"/>
            <a:ext cx="7162920" cy="5273640"/>
          </a:xfrm>
          <a:prstGeom prst="rect">
            <a:avLst/>
          </a:prstGeom>
          <a:ln w="0">
            <a:noFill/>
          </a:ln>
        </p:spPr>
      </p:pic>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Tahap akhir (tahap tindakan)</a:t>
            </a:r>
            <a:endParaRPr b="0" lang="en-US" sz="4400" spc="-1" strike="noStrike">
              <a:solidFill>
                <a:srgbClr val="000000"/>
              </a:solidFill>
              <a:latin typeface="Arial"/>
            </a:endParaRPr>
          </a:p>
        </p:txBody>
      </p:sp>
      <p:sp>
        <p:nvSpPr>
          <p:cNvPr id="67"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utuskan perubahan</a:t>
            </a:r>
            <a:r>
              <a:rPr b="0" lang="en-US" sz="2000" spc="-1" strike="noStrike">
                <a:solidFill>
                  <a:srgbClr val="000000"/>
                </a:solidFill>
                <a:latin typeface="Arial"/>
              </a:rPr>
              <a:t> sikap dan perilaku yg memadai. Klien sdh dpt menerima dan melakukan keputusan tsb berdasarkan kondisi obyektif dlm diri dan diluar dirinya, dpt berfikir realistik dan tau yg akan dilaksanakan sesuai dg tujuan utama yg diinginkanny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aksanakan perubahan</a:t>
            </a:r>
            <a:r>
              <a:rPr b="0" lang="en-US" sz="2000" spc="-1" strike="noStrike">
                <a:solidFill>
                  <a:srgbClr val="000000"/>
                </a:solidFill>
                <a:latin typeface="Arial"/>
              </a:rPr>
              <a:t> perilaku. Klien sadar akan adanya perubahan sikap dan perilak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jadi transfer of learning. Klien belajar dari proses konseling  mengenai permasalahannya dan hal diluar proses konseling yg membuatnya terbuka utk mengubah perilakunya dan mampu mengambil makna dari proses dan hubungan konseling utk kebutuhan dan perubahan dirinya yg lebih baik dan lebih positi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akhiri hubungan konseling. Mengakhiri proses konseling harus atas persetujuan klien. Sebelum diakhiri ada beberapa tugas utk klien: membuat kesimpulan hasil proses konseling, mengevaluasi jalannya proses konseling dan membuat perjanjian utuk pertemuan berikut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berapa indikator keberhasilan konseling: menurunya permasalahan klien, mempunyai rencana hidup yg pragmatis, praktis dan berguna. Ada perjanjian kapan rencananya akan dilaksana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3"/>
          <p:cNvPicPr/>
          <p:nvPr/>
        </p:nvPicPr>
        <p:blipFill>
          <a:blip r:embed="rId1"/>
          <a:stretch/>
        </p:blipFill>
        <p:spPr>
          <a:xfrm>
            <a:off x="914400" y="1371600"/>
            <a:ext cx="7238880" cy="5105520"/>
          </a:xfrm>
          <a:prstGeom prst="rect">
            <a:avLst/>
          </a:prstGeom>
          <a:ln w="0">
            <a:noFill/>
          </a:ln>
        </p:spPr>
      </p:pic>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ap akhir konseling ditandai sb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runnya permasalahan dan keluhan kli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jadinya perubahan perilaku yg lebih positif, sehat dan dinam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nya rencana kedepan dg program yg lebih jelas dan lebih manta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jadinya perubahan sikap positif, mau dan mampu koreksi diri, tdk selalu menyalahkan pihak lain spt orang tua, guru, teman dll.. Klien dpt berfikir realistik dan lebih percaya dir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KNIK KONSELING</a:t>
            </a:r>
            <a:endParaRPr b="0" lang="en-US" sz="4400" spc="-1" strike="noStrike">
              <a:solidFill>
                <a:srgbClr val="000000"/>
              </a:solidFill>
              <a:latin typeface="Arial"/>
            </a:endParaRPr>
          </a:p>
        </p:txBody>
      </p:sp>
      <p:sp>
        <p:nvSpPr>
          <p:cNvPr id="74" name="PlaceHolder 2"/>
          <p:cNvSpPr>
            <a:spLocks noGrp="1"/>
          </p:cNvSpPr>
          <p:nvPr>
            <p:ph/>
          </p:nvPr>
        </p:nvSpPr>
        <p:spPr>
          <a:xfrm>
            <a:off x="151920" y="914400"/>
            <a:ext cx="8991720" cy="5943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GERTI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ilah yg dipakai: ketrampilan konseling, strategi konseling, teknik konseling, d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ua istilah tsb mempunyai pengertian: cara yg digunakan oleh seorang konselor dalam hubungan konseling utk membantu klien agar berkembang potensinya serta mampu mengatasi masalah yg dihadapai dg mempertimbangkan kondisi lingkungan yakni nilai sosial, budaya, dan aga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i konselor menguasai teknik konseling adalah wajib. Seorang dokter umum sebaiknya juga demikian. Teknik yg baik mrpk kunci keberhasilan konse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 yg baik adalah pernyataan-2 verbal dan non verbal yg dpt menyentuh, merangsang dan mendorong klien shg terbuka utk menyatakan dg bebas tanpa hambatan perasaan, pikiran dan pengalamannya. selanjutnya klien terus terlibat dalam proses konse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laku verbal mencakup semua pernyataan baik kalimat yg panjang, singkat, maupun yg terpotong seperti oh, aduh, ya dll. Perilaku non verbal adalah semua perilaku tubuh dpt berupa isyarat, posisi tubuh, ekspresi wajah, kontak mata, letak tangan, anggukan kepala, jarak duduk, posisi kaki d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selor hrs peka akan bhs tubuh klien dan terlatih dlm menggunakan teknik konseling.</a:t>
            </a:r>
            <a:endParaRPr b="0" lang="en-US" sz="20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51920" y="152280"/>
            <a:ext cx="84582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KNIK KONS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yak dan beragam teknik atau ketrampilan dlm konseling, berikut akan dijelaskan masing-masing (</a:t>
            </a:r>
            <a:r>
              <a:rPr b="0" i="1" lang="en-US" sz="3200" spc="-1" strike="noStrike">
                <a:solidFill>
                  <a:srgbClr val="000000"/>
                </a:solidFill>
                <a:latin typeface="Arial"/>
              </a:rPr>
              <a:t>attending, empati, refleksi, eksplorasi, paraphrasing, open question, closed questions, minimal encouragement, interpretasi, directing, summarizing, leading, fokus, konfrontasi, facilitating, diam, inisiatif, </a:t>
            </a:r>
            <a:endParaRPr b="0" lang="en-US" sz="3200" spc="-1" strike="noStrike">
              <a:solidFill>
                <a:srgbClr val="000000"/>
              </a:solidFill>
              <a:latin typeface="Arial"/>
            </a:endParaRPr>
          </a:p>
        </p:txBody>
      </p:sp>
    </p:spTree>
  </p:cSld>
  <p:transition spd="slow">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5"/>
          <p:cNvPicPr/>
          <p:nvPr/>
        </p:nvPicPr>
        <p:blipFill>
          <a:blip r:embed="rId1"/>
          <a:stretch/>
        </p:blipFill>
        <p:spPr>
          <a:xfrm>
            <a:off x="533520" y="609480"/>
            <a:ext cx="8305560" cy="5666040"/>
          </a:xfrm>
          <a:prstGeom prst="rect">
            <a:avLst/>
          </a:prstGeom>
          <a:ln w="0">
            <a:noFill/>
          </a:ln>
        </p:spPr>
      </p:pic>
    </p:spTree>
  </p:cSld>
  <p:transition spd="slow">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28240"/>
            <a:ext cx="83818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ttending</a:t>
            </a:r>
            <a:br>
              <a:rPr sz="4000"/>
            </a:br>
            <a:endParaRPr b="0" lang="en-US" sz="3600" spc="-1" strike="noStrike">
              <a:solidFill>
                <a:srgbClr val="000000"/>
              </a:solidFill>
              <a:latin typeface="Arial"/>
            </a:endParaRPr>
          </a:p>
        </p:txBody>
      </p:sp>
      <p:sp>
        <p:nvSpPr>
          <p:cNvPr id="78" name="PlaceHolder 2"/>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laku menghampiri klien mencakup komponen kontak mata, bahasa badan dan bahasa lis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ing yg baik adalah kombinasi ketiga kompenen tsb, dpt </a:t>
            </a:r>
            <a:r>
              <a:rPr b="0" lang="en-US" sz="2000" spc="-1" strike="noStrike">
                <a:solidFill>
                  <a:srgbClr val="000000"/>
                </a:solidFill>
                <a:latin typeface="Arial"/>
                <a:ea typeface="Arial"/>
              </a:rPr>
              <a:t>↑ harga diri klien, menciptakan suasana aman dan nyaman dan mempermudah ekspresi perasaan klien dg beb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nampilan attending yg bai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kepala melakukan anggukan jika setuj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ekspresi wajah tenang, ceria dan senyu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osisi tubuh agak condong kearah klien, jarak konselor klien ag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kat, duduk akrab berdekatan atau berdamping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angan/lengan bervariasi gerakan spontan, berubah-ubah, gera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bg isyarat atau utk menekankan ucap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mendengarkan penuh perhatian, menunggu ucapan klien hingga selesa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iam, perhatian terarah pada lawan bica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laku attending yg tidak bai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kepala kaku, muka kaku, melamun, mengalihkan pandangan, tdk meli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klien saat bicara, mata melotot.  - posisi tubuh tegak kaku, bersand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iring, jarak duduk jauh, kurang akrab dan berpaling.  - memutus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embicaraan, banyak bicara tdk memberi kesempatan klien berfikir d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erbic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erhatian terpecah, mudah beralih oleh gangguan dari luar.</a:t>
            </a:r>
            <a:endParaRPr b="0" lang="en-US" sz="2000" spc="-1" strike="noStrike">
              <a:solidFill>
                <a:srgbClr val="000000"/>
              </a:solidFill>
              <a:latin typeface="Arial"/>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ngertian</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etimologis, istilah konseling berasal da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hasa Latin “</a:t>
            </a:r>
            <a:r>
              <a:rPr b="0" i="1" lang="en-US" sz="2000" spc="-1" strike="noStrike">
                <a:solidFill>
                  <a:srgbClr val="000000"/>
                </a:solidFill>
                <a:latin typeface="Arial"/>
              </a:rPr>
              <a:t>consilium</a:t>
            </a:r>
            <a:r>
              <a:rPr b="0" lang="en-US" sz="2000" spc="-1" strike="noStrike">
                <a:solidFill>
                  <a:srgbClr val="000000"/>
                </a:solidFill>
                <a:latin typeface="Arial"/>
              </a:rPr>
              <a:t>” yg berarti dengan atau bersama, dirangkai dg   istilah “menerima” atau “memaham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hasa Anglo-Saxon “</a:t>
            </a:r>
            <a:r>
              <a:rPr b="0" i="1" lang="en-US" sz="2000" spc="-1" strike="noStrike">
                <a:solidFill>
                  <a:srgbClr val="000000"/>
                </a:solidFill>
                <a:latin typeface="Arial"/>
              </a:rPr>
              <a:t>sellan</a:t>
            </a:r>
            <a:r>
              <a:rPr b="0" lang="en-US" sz="2000" spc="-1" strike="noStrike">
                <a:solidFill>
                  <a:srgbClr val="000000"/>
                </a:solidFill>
                <a:latin typeface="Arial"/>
              </a:rPr>
              <a:t>” yg berarti “menyerahkan” atau “menyampaik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ara Istilah konseling mengalami perkembangan. Scr singkat konseling: proses pemberian bantuan yg dilakukan melalui wawancara konseling oleh seorang ahli (konselor) kpd individu (klien) yg sdg mengalami sesuatu masalah yg sedang dihadap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seling digunakan utk menggantikan kata “penyuluhan” yg sering menyertai kata bimbingan. Bimbingan dan penyuluhan dari istilah “</a:t>
            </a:r>
            <a:r>
              <a:rPr b="0" i="1" lang="en-US" sz="2000" spc="-1" strike="noStrike">
                <a:solidFill>
                  <a:srgbClr val="000000"/>
                </a:solidFill>
                <a:latin typeface="Arial"/>
              </a:rPr>
              <a:t>guidance and counsel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yuluhan: usaha-usaha suatu badan, baik pemerintah maupun swasta utk meningkatkan kesadaran, pemahaman, sikap dan ketrampilan masyarakat berkenaan dg hal tertentu. Misal penyuluhan pertanian</a:t>
            </a:r>
            <a:endParaRPr b="0" lang="en-US" sz="2000" spc="-1" strike="noStrike">
              <a:solidFill>
                <a:srgbClr val="000000"/>
              </a:solidFill>
              <a:latin typeface="Arial"/>
            </a:endParaRPr>
          </a:p>
        </p:txBody>
      </p:sp>
    </p:spTree>
  </p:cSld>
  <p:transition spd="slow">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6840" y="0"/>
            <a:ext cx="83818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4" descr="9"/>
          <p:cNvPicPr/>
          <p:nvPr/>
        </p:nvPicPr>
        <p:blipFill>
          <a:blip r:embed="rId1"/>
          <a:stretch/>
        </p:blipFill>
        <p:spPr>
          <a:xfrm>
            <a:off x="533520" y="152280"/>
            <a:ext cx="8229600" cy="6477120"/>
          </a:xfrm>
          <a:prstGeom prst="rect">
            <a:avLst/>
          </a:prstGeom>
          <a:ln w="0">
            <a:noFill/>
          </a:ln>
        </p:spPr>
      </p:pic>
    </p:spTree>
  </p:cSld>
  <p:transition spd="slow">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6840" y="0"/>
            <a:ext cx="83818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11"/>
          <p:cNvPicPr/>
          <p:nvPr/>
        </p:nvPicPr>
        <p:blipFill>
          <a:blip r:embed="rId1"/>
          <a:stretch/>
        </p:blipFill>
        <p:spPr>
          <a:xfrm>
            <a:off x="457200" y="0"/>
            <a:ext cx="8305920" cy="6858000"/>
          </a:xfrm>
          <a:prstGeom prst="rect">
            <a:avLst/>
          </a:prstGeom>
          <a:ln w="0">
            <a:noFill/>
          </a:ln>
        </p:spPr>
      </p:pic>
    </p:spTree>
  </p:cSld>
  <p:transition spd="slow">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10"/>
          <p:cNvPicPr/>
          <p:nvPr/>
        </p:nvPicPr>
        <p:blipFill>
          <a:blip r:embed="rId1"/>
          <a:stretch/>
        </p:blipFill>
        <p:spPr>
          <a:xfrm>
            <a:off x="685800" y="1219320"/>
            <a:ext cx="8153280" cy="5410080"/>
          </a:xfrm>
          <a:prstGeom prst="rect">
            <a:avLst/>
          </a:prstGeom>
          <a:ln w="0">
            <a:noFill/>
          </a:ln>
        </p:spPr>
      </p:pic>
    </p:spTree>
  </p:cSld>
  <p:transition spd="slow">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52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ati</a:t>
            </a: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ati: kemampuan konselor utk merasakan apa yg dirasakan klien. Empati dilakukan bersama dg attending, tanpa attending sulit ada emp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ati ada dua mcm: 1. empati primer (</a:t>
            </a:r>
            <a:r>
              <a:rPr b="0" i="1" lang="en-US" sz="2000" spc="-1" strike="noStrike">
                <a:solidFill>
                  <a:srgbClr val="000000"/>
                </a:solidFill>
                <a:latin typeface="Arial"/>
              </a:rPr>
              <a:t>primary empathy</a:t>
            </a:r>
            <a:r>
              <a:rPr b="0" lang="en-US" sz="2000" spc="-1" strike="noStrike">
                <a:solidFill>
                  <a:srgbClr val="000000"/>
                </a:solidFill>
                <a:latin typeface="Arial"/>
              </a:rPr>
              <a:t>) yaitu suatu btk empati yg hanya memahami perasaan, pikiran, keinginan dan pengalaman klien. Tujuannya agar klien terlibat terlibat pembicaraan dan terbuka. 2. empati tingkat tinggi (</a:t>
            </a:r>
            <a:r>
              <a:rPr b="0" i="1" lang="en-US" sz="2000" spc="-1" strike="noStrike">
                <a:solidFill>
                  <a:srgbClr val="000000"/>
                </a:solidFill>
                <a:latin typeface="Arial"/>
              </a:rPr>
              <a:t>edvanced accurate empathy</a:t>
            </a:r>
            <a:r>
              <a:rPr b="0" lang="en-US" sz="2000" spc="-1" strike="noStrike">
                <a:solidFill>
                  <a:srgbClr val="000000"/>
                </a:solidFill>
                <a:latin typeface="Arial"/>
              </a:rPr>
              <a:t>) apabila perasaan, pikiran, keinginan serta pengalaman konselor bersama klien lebih mendalam dan menyentuh perasaan kli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lm melakukan empati konselor harus mamp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gosongkan perasaan dan pikiran egoisti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masuki dunia dalam kli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lakukan empati primer (sy dpt merasakan bgmn perasaan saudara, sy dpt memahami pikiran anda, sy dpt mengerti keinginan anda, d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lakukan empati tingkat tinggi (sy merasakan apa yg saudara rasakan, dan sy ikut  terluka dg pengalaman anda tsb)</a:t>
            </a:r>
            <a:endParaRPr b="0" lang="en-US" sz="2000" spc="-1" strike="noStrike">
              <a:solidFill>
                <a:srgbClr val="000000"/>
              </a:solidFill>
              <a:latin typeface="Arial"/>
            </a:endParaRPr>
          </a:p>
        </p:txBody>
      </p:sp>
    </p:spTree>
  </p:cSld>
  <p:transition spd="slow">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6840" y="0"/>
            <a:ext cx="84582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8"/>
          <p:cNvPicPr/>
          <p:nvPr/>
        </p:nvPicPr>
        <p:blipFill>
          <a:blip r:embed="rId1"/>
          <a:stretch/>
        </p:blipFill>
        <p:spPr>
          <a:xfrm>
            <a:off x="685800" y="0"/>
            <a:ext cx="8077320" cy="6858000"/>
          </a:xfrm>
          <a:prstGeom prst="rect">
            <a:avLst/>
          </a:prstGeom>
          <a:ln w="0">
            <a:noFill/>
          </a:ln>
        </p:spPr>
      </p:pic>
    </p:spTree>
  </p:cSld>
  <p:transition spd="slow">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7"/>
          <p:cNvPicPr/>
          <p:nvPr/>
        </p:nvPicPr>
        <p:blipFill>
          <a:blip r:embed="rId1"/>
          <a:stretch/>
        </p:blipFill>
        <p:spPr>
          <a:xfrm>
            <a:off x="685800" y="609480"/>
            <a:ext cx="7543800" cy="5639040"/>
          </a:xfrm>
          <a:prstGeom prst="rect">
            <a:avLst/>
          </a:prstGeom>
          <a:ln w="0">
            <a:noFill/>
          </a:ln>
        </p:spPr>
      </p:pic>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uasai teknik konseling</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k menguasai teknik konseling yg baik harus melalui berbagai latihan, yaitu latihan </a:t>
            </a:r>
            <a:r>
              <a:rPr b="0" i="1" lang="en-US" sz="2800" spc="-1" strike="noStrike">
                <a:solidFill>
                  <a:srgbClr val="000000"/>
                </a:solidFill>
                <a:latin typeface="Arial"/>
              </a:rPr>
              <a:t>microcounseling </a:t>
            </a:r>
            <a:r>
              <a:rPr b="0" lang="en-US" sz="2800" spc="-1" strike="noStrike">
                <a:solidFill>
                  <a:srgbClr val="000000"/>
                </a:solidFill>
                <a:latin typeface="Arial"/>
              </a:rPr>
              <a:t>dan </a:t>
            </a:r>
            <a:r>
              <a:rPr b="0" i="1" lang="en-US" sz="2800" spc="-1" strike="noStrike">
                <a:solidFill>
                  <a:srgbClr val="000000"/>
                </a:solidFill>
                <a:latin typeface="Arial"/>
              </a:rPr>
              <a:t>macrocounseling </a:t>
            </a:r>
            <a:r>
              <a:rPr b="0" lang="en-US" sz="2800" spc="-1" strike="noStrike">
                <a:solidFill>
                  <a:srgbClr val="000000"/>
                </a:solidFill>
                <a:latin typeface="Arial"/>
              </a:rPr>
              <a:t>berulangkali dan teratur, latihan setiap teknik konseling dlm simulasi (</a:t>
            </a:r>
            <a:r>
              <a:rPr b="0" i="1" lang="en-US" sz="2800" spc="-1" strike="noStrike">
                <a:solidFill>
                  <a:srgbClr val="000000"/>
                </a:solidFill>
                <a:latin typeface="Arial"/>
              </a:rPr>
              <a:t>role playing</a:t>
            </a:r>
            <a:r>
              <a:rPr b="0" lang="en-US" sz="2800" spc="-1" strike="noStrike">
                <a:solidFill>
                  <a:srgbClr val="000000"/>
                </a:solidFill>
                <a:latin typeface="Arial"/>
              </a:rPr>
              <a:t>) atau praktik konse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selor yg baik juga hrs menguasai teori-teori atau pendekatan konseling yg 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ihan </a:t>
            </a:r>
            <a:r>
              <a:rPr b="0" i="1" lang="en-US" sz="3600" spc="-1" strike="noStrike">
                <a:solidFill>
                  <a:srgbClr val="000000"/>
                </a:solidFill>
                <a:latin typeface="Arial"/>
              </a:rPr>
              <a:t>microcounseling (microtraining)</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lah suatu cara memberikan penguasaan teknik onseling tunggal kepada calon konselor. Setiap teknik konseling dilatihkan satu-persatu scr bertahap, bila perlu dilengkapi dg perekaman </a:t>
            </a:r>
            <a:r>
              <a:rPr b="0" i="1" lang="en-US" sz="3200" spc="-1" strike="noStrike">
                <a:solidFill>
                  <a:srgbClr val="000000"/>
                </a:solidFill>
                <a:latin typeface="Arial"/>
              </a:rPr>
              <a:t>tape recorder</a:t>
            </a:r>
            <a:r>
              <a:rPr b="0" lang="en-US" sz="3200" spc="-1" strike="noStrike">
                <a:solidFill>
                  <a:srgbClr val="000000"/>
                </a:solidFill>
                <a:latin typeface="Arial"/>
              </a:rPr>
              <a:t> atau vi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da akhir latihan diadakan diskusi dan evaluasi. Pengamat dan pembimbing memberikan penilaian dan masukan</a:t>
            </a:r>
            <a:endParaRPr b="0" lang="en-US" sz="3200" spc="-1" strike="noStrike">
              <a:solidFill>
                <a:srgbClr val="000000"/>
              </a:solidFill>
              <a:latin typeface="Arial"/>
            </a:endParaRPr>
          </a:p>
        </p:txBody>
      </p:sp>
    </p:spTree>
  </p:cSld>
  <p:transition spd="slow">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152280"/>
            <a:ext cx="8610480" cy="6553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t>
            </a:r>
            <a:r>
              <a:rPr b="0" i="1" lang="en-US" sz="2000" spc="-1" strike="noStrike">
                <a:solidFill>
                  <a:srgbClr val="000000"/>
                </a:solidFill>
                <a:latin typeface="Arial"/>
              </a:rPr>
              <a:t>microcounseling</a:t>
            </a:r>
            <a:r>
              <a:rPr b="0" lang="en-US" sz="2000" spc="-1" strike="noStrike">
                <a:solidFill>
                  <a:srgbClr val="000000"/>
                </a:solidFill>
                <a:latin typeface="Arial"/>
              </a:rPr>
              <a:t> dg sistematika kegiatan dg setting lab ole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vey Cs. (1978)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anyangkan contoh rekaman </a:t>
            </a:r>
            <a:r>
              <a:rPr b="0" i="1" lang="en-US" sz="2000" spc="-1" strike="noStrike">
                <a:solidFill>
                  <a:srgbClr val="000000"/>
                </a:solidFill>
                <a:latin typeface="Arial"/>
              </a:rPr>
              <a:t>microcounseling</a:t>
            </a:r>
            <a:r>
              <a:rPr b="0" lang="en-US" sz="2000" spc="-1" strike="noStrike">
                <a:solidFill>
                  <a:srgbClr val="000000"/>
                </a:solidFill>
                <a:latin typeface="Arial"/>
              </a:rPr>
              <a:t>, calon onselor mendengarkan/menonton bgmn teknik konseling dilakukan dlm btk bermain peran (</a:t>
            </a:r>
            <a:r>
              <a:rPr b="0" i="1" lang="en-US" sz="2000" spc="-1" strike="noStrike">
                <a:solidFill>
                  <a:srgbClr val="000000"/>
                </a:solidFill>
                <a:latin typeface="Arial"/>
              </a:rPr>
              <a:t>role playing</a:t>
            </a:r>
            <a:r>
              <a:rPr b="0" lang="en-US" sz="2000" spc="-1" strike="noStrike">
                <a:solidFill>
                  <a:srgbClr val="000000"/>
                </a:solidFill>
                <a:latin typeface="Arial"/>
              </a:rPr>
              <a:t>) oleh seorang konselor dan kli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embimbing memberikan materi tertulis yg menerangkan ttg ketrampilan tunggal (</a:t>
            </a:r>
            <a:r>
              <a:rPr b="0" i="1" lang="en-US" sz="2000" spc="-1" strike="noStrike">
                <a:solidFill>
                  <a:srgbClr val="000000"/>
                </a:solidFill>
                <a:latin typeface="Arial"/>
              </a:rPr>
              <a:t>the single skill</a:t>
            </a:r>
            <a:r>
              <a:rPr b="0" lang="en-US" sz="2000" spc="-1" strike="noStrike">
                <a:solidFill>
                  <a:srgbClr val="000000"/>
                </a:solidFill>
                <a:latin typeface="Arial"/>
              </a:rPr>
              <a:t>) utk dipelajari oleh mhs/calon konse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ilakukan latihan peran antara konselor dg klien yg memerankan satu teknik konseling, latihan tsb direk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asil rekaman diputar ulang dan di saksikan bersama, kmd dievaluasi &amp; didiskusikan bersa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 ketrampilan tunggal </a:t>
            </a:r>
            <a:r>
              <a:rPr b="0" i="1" lang="en-US" sz="2000" spc="-1" strike="noStrike">
                <a:solidFill>
                  <a:srgbClr val="000000"/>
                </a:solidFill>
                <a:latin typeface="Arial"/>
              </a:rPr>
              <a:t>microcounseling  </a:t>
            </a:r>
            <a:r>
              <a:rPr b="0" lang="en-US" sz="2000" spc="-1" strike="noStrike">
                <a:solidFill>
                  <a:srgbClr val="000000"/>
                </a:solidFill>
                <a:latin typeface="Arial"/>
              </a:rPr>
              <a:t>yg akan dilatihkan disusun scr sistematis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asional: mengapa ketrampilan itu diperlukan dan dlm kerangka ap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ujuan: menjelaskan tujuan latihan ketrampil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ateri: apa materi teknik konseling yg akan dilatih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sedur/proses latihan: menjelaskan sistematika ketrampilan konseling tungg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lat evaluasi: digunakan utk evaluasi proses latihan dan materi apakah sdh berhasil dikuasai atau belum.</a:t>
            </a:r>
            <a:endParaRPr b="0" lang="en-US" sz="2000" spc="-1" strike="noStrike">
              <a:solidFill>
                <a:srgbClr val="000000"/>
              </a:solidFill>
              <a:latin typeface="Arial"/>
            </a:endParaRPr>
          </a:p>
        </p:txBody>
      </p:sp>
    </p:spTree>
  </p:cSld>
  <p:transition spd="slow">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han macrocounsel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han scr </a:t>
            </a:r>
            <a:r>
              <a:rPr b="0" i="1" lang="en-US" sz="2000" spc="-1" strike="noStrike">
                <a:solidFill>
                  <a:srgbClr val="000000"/>
                </a:solidFill>
                <a:latin typeface="Arial"/>
              </a:rPr>
              <a:t>role playing</a:t>
            </a:r>
            <a:r>
              <a:rPr b="0" lang="en-US" sz="2000" spc="-1" strike="noStrike">
                <a:solidFill>
                  <a:srgbClr val="000000"/>
                </a:solidFill>
                <a:latin typeface="Arial"/>
              </a:rPr>
              <a:t> bbrp teknik konseling. Bbrp kegiatannya adala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tihan menulis kasus sebuah peristiwa scr deskripsi dan dialogn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yiapan peran pemain utk simulasi (klien dan konse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mperhatikan tayangan video macrocounseling yg digunakan sbg rujuk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lakukan latihan dan merekamn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gadakan tayangan ulang utk dievaluasi dg lembar evaluasi yg telah disediakan pembimb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gadakan diskusi dan latihan ulang utk memperbaiki ketrampilan macrocounseling berdasarkan evaluasi dan masukan dari pengamat dan pembimb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iap teknik konseling mempunyai manual dan prosedur latihannya.</a:t>
            </a:r>
            <a:endParaRPr b="0" lang="en-US" sz="2000" spc="-1" strike="noStrike">
              <a:solidFill>
                <a:srgbClr val="000000"/>
              </a:solidFill>
              <a:latin typeface="Arial"/>
            </a:endParaRPr>
          </a:p>
        </p:txBody>
      </p:sp>
    </p:spTree>
  </p:cSld>
  <p:transition spd="slow">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misi konseling</a:t>
            </a:r>
            <a:endParaRPr b="0" lang="en-US" sz="4400" spc="-1" strike="noStrike">
              <a:solidFill>
                <a:srgbClr val="000000"/>
              </a:solidFill>
              <a:latin typeface="Arial"/>
            </a:endParaRPr>
          </a:p>
        </p:txBody>
      </p:sp>
      <p:sp>
        <p:nvSpPr>
          <p:cNvPr id="46" name="PlaceHolder 2"/>
          <p:cNvSpPr>
            <a:spLocks noGrp="1"/>
          </p:cNvSpPr>
          <p:nvPr>
            <p:ph/>
          </p:nvPr>
        </p:nvSpPr>
        <p:spPr>
          <a:xfrm>
            <a:off x="228600" y="1219320"/>
            <a:ext cx="8686800" cy="5364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a:t>
            </a:r>
            <a:r>
              <a:rPr b="0" lang="en-US" sz="2000" spc="-1" strike="noStrike">
                <a:solidFill>
                  <a:srgbClr val="000000"/>
                </a:solidFill>
                <a:latin typeface="Arial"/>
              </a:rPr>
              <a:t> konseling adalah terwujudnya kehidupan kemanusiaan yang membahagiakan melalui tersedianya pelayanan bantuan dalam pemberian dukungan perkembangan dan pengentasan masalah agar individu berkembang secara optimal, mandiri dan bahag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i</a:t>
            </a:r>
            <a:r>
              <a:rPr b="0" lang="en-US" sz="2000" spc="-1" strike="noStrike">
                <a:solidFill>
                  <a:srgbClr val="000000"/>
                </a:solidFill>
                <a:latin typeface="Arial"/>
              </a:rPr>
              <a:t> konseling sejalan visinya adalah dirumuskan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Misi pendidikan, yaitu mendidik peserta didik dan warga masyarakat melalui pengembangan perilaku efektif-normatif dalam kehidupan keseharian dan yang terkait dengan masa dep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Misi pengembangan, yaitu memfasilitasi perkembangan individu di dalam suatu pendidikan formal dan non formal, keluarga, instansi, dunia usaha dan industri, serta kelembagaan masyarakat lainnya kearah perkembangan optimal melalui strategi upaya pengembangan individu, pengembangan lingkungan belajar, dan lingkungan lainnya serta kondisi tertentu sesuai dengan dinamika perkembangan masyarak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Misi pengentasan masalah, yaitu membantu dan memfasilitasi pengentasan masalah individu mengacu kepada kehidupan sehari-hari yang efektif.</a:t>
            </a:r>
            <a:endParaRPr b="0" lang="en-US" sz="2000" spc="-1" strike="noStrike">
              <a:solidFill>
                <a:srgbClr val="000000"/>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4"/>
          <p:cNvPicPr/>
          <p:nvPr/>
        </p:nvPicPr>
        <p:blipFill>
          <a:blip r:embed="rId1"/>
          <a:stretch/>
        </p:blipFill>
        <p:spPr>
          <a:xfrm>
            <a:off x="228600" y="0"/>
            <a:ext cx="8610480" cy="6705720"/>
          </a:xfrm>
          <a:prstGeom prst="rect">
            <a:avLst/>
          </a:prstGeom>
          <a:ln w="0">
            <a:noFill/>
          </a:ln>
        </p:spPr>
      </p:pic>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juan konsel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orong klien utk mengembangkan potensi yg dimiliki agar ia mampu bekerja efektif, produktif, dan menjadi mandir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capai kehidupan klien yg berdaya guna utk keluarga, masyarakat dan bangsany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ingkatkan keimanan dan ketaqwaan klien shg klien mjd manusia yg seimbang antara pengembangan intelektual-emosional-sosiokultural dan moral-spiritu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hingga klien tumbuh kreativitas dan produktivitas;  sikap mental yg positif thd diri dan dunia luar; mampu menjalin hubungan yg harmonis dg orang lain dlm keluarga, sekolah, tempat kerja dan masyarakat; dan menjadi manusia yg pandai bersyukur dan sabar, penuh toleransi dan suka membantu orang lain</a:t>
            </a:r>
            <a:endParaRPr b="0" lang="en-US" sz="24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dang pelayanan konseling</a:t>
            </a:r>
            <a:endParaRPr b="0" lang="en-US" sz="4400" spc="-1" strike="noStrike">
              <a:solidFill>
                <a:srgbClr val="000000"/>
              </a:solidFill>
              <a:latin typeface="Arial"/>
            </a:endParaRPr>
          </a:p>
        </p:txBody>
      </p:sp>
      <p:sp>
        <p:nvSpPr>
          <p:cNvPr id="50" name="PlaceHolder 2"/>
          <p:cNvSpPr>
            <a:spLocks noGrp="1"/>
          </p:cNvSpPr>
          <p:nvPr>
            <p:ph/>
          </p:nvPr>
        </p:nvSpPr>
        <p:spPr>
          <a:xfrm>
            <a:off x="228600" y="1371240"/>
            <a:ext cx="876312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dang pelayanan kehidupan pribadi</a:t>
            </a:r>
            <a:r>
              <a:rPr b="0" lang="en-US" sz="2800" spc="-1" strike="noStrike">
                <a:solidFill>
                  <a:srgbClr val="000000"/>
                </a:solidFill>
                <a:latin typeface="Arial"/>
              </a:rPr>
              <a:t>, membantu dlm kecakapan, minat, bakat dan karakteristik kepribadian utk pengembangan scr realist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dang pelayanan kehidupan sosial</a:t>
            </a:r>
            <a:r>
              <a:rPr b="0" lang="en-US" sz="2800" spc="-1" strike="noStrike">
                <a:solidFill>
                  <a:srgbClr val="000000"/>
                </a:solidFill>
                <a:latin typeface="Arial"/>
              </a:rPr>
              <a:t>, membantu individu menilai dan mencari alternatif hubungan sosial yang sehat dan efektif dengan teman sebaya atau dengan lingkungan sosial yang lebih lu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dang pelayanan kegiatan belajar</a:t>
            </a:r>
            <a:r>
              <a:rPr b="0" lang="en-US" sz="2800" spc="-1" strike="noStrike">
                <a:solidFill>
                  <a:srgbClr val="000000"/>
                </a:solidFill>
                <a:latin typeface="Arial"/>
              </a:rPr>
              <a:t>, membantu individu dalam kegiatan belajarnya dalam rangka mengikuti jenjang dan jalur pendidikan tertentu dan/atau dalam rangka menguasai sesuatu kecakapan dan ketrampilan tertentu.</a:t>
            </a:r>
            <a:endParaRPr b="0" lang="en-US" sz="2800" spc="-1" strike="noStrike">
              <a:solidFill>
                <a:srgbClr val="000000"/>
              </a:solidFill>
              <a:latin typeface="Arial"/>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60" y="228600"/>
            <a:ext cx="8915400" cy="6400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ang pelayanan perencanaan dan pengembangan karir</a:t>
            </a:r>
            <a:r>
              <a:rPr b="0" lang="en-US" sz="2000" spc="-1" strike="noStrike">
                <a:solidFill>
                  <a:srgbClr val="000000"/>
                </a:solidFill>
                <a:latin typeface="Arial"/>
              </a:rPr>
              <a:t>, membantu individu dalam mencari dan menetapkan pilihan serta mengambil keputusan berkenaan dengan karir tertentu, baik karir di masa depan maupun karir yang sedang dijalani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ang pelayanan kehidupan berkeluarga</a:t>
            </a:r>
            <a:r>
              <a:rPr b="0" lang="en-US" sz="2000" spc="-1" strike="noStrike">
                <a:solidFill>
                  <a:srgbClr val="000000"/>
                </a:solidFill>
                <a:latin typeface="Arial"/>
              </a:rPr>
              <a:t>, membantu individu dalam mencari dan menetapkan serta mengambil keputusan berkenaan dengan rencana perkawinan dan/atau kehidupan berkeluarga yang dijalani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ang pelayanan kehidupan keberagamaan</a:t>
            </a:r>
            <a:r>
              <a:rPr b="0" lang="en-US" sz="2000" spc="-1" strike="noStrike">
                <a:solidFill>
                  <a:srgbClr val="000000"/>
                </a:solidFill>
                <a:latin typeface="Arial"/>
              </a:rPr>
              <a:t>, membantu individu dalam memantapkan diri berkenaan dengan perilaku keberagamaan menurut agama yang dianutn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 yang mendapat pelayanan berada dalam keadaan normal, masalah yg mjd fokus layanan bukan masalah penyakit, kriminal dan/atau supranatu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kus pelayanan konseling pada kondisi pribadi, hubungan sosial, kegiatan belajar, pengembangan karir, kehidupan berkeluarga dan kehidupan keberagam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g menyangkut penyakit menjadi kewenangan dokter dan/atau psikiater</a:t>
            </a:r>
            <a:endParaRPr b="0" lang="en-US" sz="2000" spc="-1" strike="noStrike">
              <a:solidFill>
                <a:srgbClr val="000000"/>
              </a:solidFill>
              <a:latin typeface="Arial"/>
            </a:endParaRPr>
          </a:p>
        </p:txBody>
      </p:sp>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es konse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mmer (1979) mengartikan proses konseling adalah peristiwa yg telah berlangsung dan memberi makna bagi para peserta konseling (konselor dan kli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ara umum proses konseling dibagi atas tiga tahapan yait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tahap aw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tahap pertengahan (kerj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tahap akhir (tindakan)</a:t>
            </a:r>
            <a:endParaRPr b="0" lang="en-US" sz="2800" spc="-1" strike="noStrike">
              <a:solidFill>
                <a:srgbClr val="000000"/>
              </a:solidFill>
              <a:latin typeface="Arial"/>
            </a:endParaRPr>
          </a:p>
        </p:txBody>
      </p:sp>
    </p:spTree>
  </p:cSld>
  <p:transition spd="slow">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Tahap awal konseling</a:t>
            </a:r>
            <a:endParaRPr b="0" lang="en-US" sz="4000" spc="-1" strike="noStrike">
              <a:solidFill>
                <a:srgbClr val="000000"/>
              </a:solidFill>
              <a:latin typeface="Arial"/>
            </a:endParaRPr>
          </a:p>
        </p:txBody>
      </p:sp>
      <p:sp>
        <p:nvSpPr>
          <p:cNvPr id="55" name="PlaceHolder 2"/>
          <p:cNvSpPr>
            <a:spLocks noGrp="1"/>
          </p:cNvSpPr>
          <p:nvPr>
            <p:ph/>
          </p:nvPr>
        </p:nvSpPr>
        <p:spPr>
          <a:xfrm>
            <a:off x="228240" y="1143000"/>
            <a:ext cx="8915400" cy="5516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ulai sejak klien menemui konselor hingga berjalan proses konseling sampai konselor dan klien menemukan </a:t>
            </a:r>
            <a:r>
              <a:rPr b="1" lang="en-US" sz="2000" spc="-1" strike="noStrike">
                <a:solidFill>
                  <a:srgbClr val="000000"/>
                </a:solidFill>
                <a:latin typeface="Arial"/>
              </a:rPr>
              <a:t>definisi permasalahan kli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es konseling tahap awal dilakukan konselor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embangun hubungan konseling yg melibatkan klien. Hubungan konseling bermakna jika klien terlibat dlm proses konseling, hubungan demikian disebut “</a:t>
            </a:r>
            <a:r>
              <a:rPr b="0" i="1" lang="en-US" sz="2000" spc="-1" strike="noStrike">
                <a:solidFill>
                  <a:srgbClr val="000000"/>
                </a:solidFill>
                <a:latin typeface="Arial"/>
              </a:rPr>
              <a:t>a working relationship</a:t>
            </a:r>
            <a:r>
              <a:rPr b="0" lang="en-US" sz="2000" spc="-1" strike="noStrike">
                <a:solidFill>
                  <a:srgbClr val="000000"/>
                </a:solidFill>
                <a:latin typeface="Arial"/>
              </a:rPr>
              <a:t>”, hubungan yg berfungsi, bermakna, bergu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keberhasilan dipengaruhi oleh saling keterbukaan dan saling keterlibatan dalam proses konseling. Keterbukaan klien: jujur mengungkapkan permasalahan, perasaan, harapan dsb. Konselor dipercaya klien, tdk berpura-pura, jujur, asli, mengerti dan menghargai. Konselor mampu melibatkan klien scr terusmenerus/berkesinambungan, shg proses konseling lancar dan dapat mencapai tujuan konse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emperjelas dan </a:t>
            </a:r>
            <a:r>
              <a:rPr b="1" lang="en-US" sz="2000" spc="-1" strike="noStrike">
                <a:solidFill>
                  <a:srgbClr val="000000"/>
                </a:solidFill>
                <a:latin typeface="Arial"/>
              </a:rPr>
              <a:t>mendefinisikan masalah</a:t>
            </a:r>
            <a:r>
              <a:rPr b="0" lang="en-US" sz="2000" spc="-1" strike="noStrike">
                <a:solidFill>
                  <a:srgbClr val="000000"/>
                </a:solidFill>
                <a:latin typeface="Arial"/>
              </a:rPr>
              <a:t>. Akan mudah jika hubungan telah terjalin baik, telah saling melibatkan diri dan telah mengangkat permasalahan klien. Sering klien kesulitan menjelaskan permasalahannya walaupun mengetahui gejala yg dialaminya. Disini peran konselor penting utk membantu memperjelas permasalahan klien. Demikian pula dlm hal klien tdk memahami potensi apa yg dimilikinya, dan mendefinisikan masalahnya.</a:t>
            </a:r>
            <a:endParaRPr b="0" lang="en-US" sz="2000" spc="-1" strike="noStrike">
              <a:solidFill>
                <a:srgbClr val="000000"/>
              </a:solidFill>
              <a:latin typeface="Arial"/>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embuat penaksiran dan penjajak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nselor berusaha menjajaki kemungkinan mengembangkan masalah dan merancang bantuan yg akan dilakukan, dg membangkitkan semua potensi klien dan menentukan berbagai alternatifny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negosiasi kontr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ntrak: perjanjian antara konselor dg klien, dpt berisi kontrak waktu, kontrak tugas, kontrak kerja sama dlm proses konseling. Kontrak mengandung makna bahwa proses konseling  pekerjaan, kebutuhan dan tanggung jawab bersama, bukan semata pekerjaan konselor.</a:t>
            </a:r>
            <a:endParaRPr b="0" lang="en-US" sz="2400" spc="-1" strike="noStrike">
              <a:solidFill>
                <a:srgbClr val="000000"/>
              </a:solidFill>
              <a:latin typeface="Arial"/>
            </a:endParaRPr>
          </a:p>
        </p:txBody>
      </p:sp>
    </p:spTree>
  </p:cSld>
  <p:transition spd="slow">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15:27:38Z</dcterms:created>
  <dc:creator>user</dc:creator>
  <dc:description/>
  <dc:language>en-US</dc:language>
  <cp:lastModifiedBy>dell</cp:lastModifiedBy>
  <dcterms:modified xsi:type="dcterms:W3CDTF">2010-10-29T12:46:07Z</dcterms:modified>
  <cp:revision>23</cp:revision>
  <dc:subject/>
  <dc:title>KONSELING DAN EMPATI</dc:title>
</cp:coreProperties>
</file>