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430E-4681-44C9-9308-E551EC813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84F4-D68A-41EA-856B-0B86E0C79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DFAD-9E91-4896-B8DD-36D0C58B0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C311-C073-4ED5-B98F-9A1533C0C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2335-C922-44F7-8067-57E8BBA69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58E9-18A4-4281-8D69-331AD87B3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2925-EA16-4BA6-AB3C-9F442219F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F219-BEA8-4CA9-9530-5266C30B9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BE75-9BB5-4AEF-B5B9-DA021E467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14EB-34F2-4F51-B8D4-DF1F3F7F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180A-A44D-4D49-8870-78BAE410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9B34-061A-4A66-BBF3-2AFA9377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7CFB6A-EAA2-43A8-862A-AA6CAD06C3B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4680" y="63594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B7E8E5-A791-46B6-8EA6-2EFFB0130D90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1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13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9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13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9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13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9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13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9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13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9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13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9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" Target="slide3.xml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" Target="slide1.xml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13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9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13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9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13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9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13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9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13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9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13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9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13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9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13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9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61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3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64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67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70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7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7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8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83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87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90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93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96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20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20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20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209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21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21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219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222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2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226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229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232" name="Picture 12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235" name="Picture 15" descr=""/>
            <p:cNvPicPr/>
            <p:nvPr/>
          </p:nvPicPr>
          <p:blipFill>
            <a:blip r:embed="rId6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Text Box 16">
              <a:hlinkClick r:id="rId7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3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239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242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245" name="Picture 12" descr=""/>
            <p:cNvPicPr/>
            <p:nvPr/>
          </p:nvPicPr>
          <p:blipFill>
            <a:blip r:embed="rId4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248" name="Picture 15" descr=""/>
            <p:cNvPicPr/>
            <p:nvPr/>
          </p:nvPicPr>
          <p:blipFill>
            <a:blip r:embed="rId5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7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48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51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3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54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6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57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3T14:17:59Z</dcterms:created>
  <dc:creator>최봉수</dc:creator>
  <dc:description/>
  <dc:language>en-US</dc:language>
  <cp:lastModifiedBy>맛있다 군만두</cp:lastModifiedBy>
  <dcterms:modified xsi:type="dcterms:W3CDTF">2023-07-13T10:51:02Z</dcterms:modified>
  <cp:revision>3</cp:revision>
  <dc:subject/>
  <dc:title>슬라이드 1</dc:title>
</cp:coreProperties>
</file>