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676-2BC3-46C7-B7B2-1104372B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3F6-695C-4516-9B11-B7F5AE4A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25D-CD19-4908-91CD-523DE89F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07F-3E93-4FF6-9046-CC6CF0AF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AC8-7DC3-425C-BF76-1C5DC44E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DD5-003A-4486-AAAF-B1CFFBD5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904-1BB9-4645-8303-01DA52D2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ED8-DF57-48AA-AE0B-9E2270DF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170-697D-4B88-A19B-E8EB3755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A9B-5717-46B7-A8AF-A39E6B00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E95-E22F-4D4E-874E-536F01F6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9D0-EC18-4505-B148-80E41621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B8C17-A37F-46EA-B8CE-AF2793A324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A64D7-E884-450B-B176-44AA7DB88AE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9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6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4:17:59Z</dcterms:created>
  <dc:creator>최봉수</dc:creator>
  <dc:description/>
  <dc:language>en-US</dc:language>
  <cp:lastModifiedBy>맛있다 군만두</cp:lastModifiedBy>
  <dcterms:modified xsi:type="dcterms:W3CDTF">2023-07-13T10:51:02Z</dcterms:modified>
  <cp:revision>3</cp:revision>
  <dc:subject/>
  <dc:title>슬라이드 1</dc:title>
</cp:coreProperties>
</file>