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AED-84BC-4071-8D34-C30BFC6A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AE8-8E8D-40D4-B24B-BB5F7E5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47B-611A-49DD-B4AD-F1447311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C4-71AC-4CDB-864E-419C415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432-F4ED-47C4-B155-418AF35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FEE-F77F-47F3-A773-CF880921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8C3-FE62-470E-B47A-48CD3799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B92-D6A1-45BF-90F5-EC78AED0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09F-CBBD-4F91-B688-88DC5C22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0F0-C18A-4974-B926-9D31D7D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579-DF45-4702-B53E-5076ACE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D93-90CE-48AF-9E18-CF1ABF4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B166-C9B8-4B22-83F8-4F37C3D5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028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028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7800" y="1463760"/>
            <a:ext cx="2951280" cy="26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27680" y="2701800"/>
            <a:ext cx="341280" cy="30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360" y="4894200"/>
            <a:ext cx="2894040" cy="260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06800" y="6024600"/>
            <a:ext cx="338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028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00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028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760" y="1492200"/>
            <a:ext cx="290340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21200" y="2643120"/>
            <a:ext cx="34128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33360" y="4859280"/>
            <a:ext cx="2886120" cy="265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924440" y="6004080"/>
            <a:ext cx="341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22:10:33Z</dcterms:created>
  <dc:creator>Aude</dc:creator>
  <dc:description/>
  <dc:language>en-US</dc:language>
  <cp:lastModifiedBy>Aude</cp:lastModifiedBy>
  <dcterms:modified xsi:type="dcterms:W3CDTF">2011-03-18T22:20:33Z</dcterms:modified>
  <cp:revision>4</cp:revision>
  <dc:subject/>
  <dc:title>Slide 1</dc:title>
</cp:coreProperties>
</file>