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05C-22D4-41C5-AD59-11365F52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48A-201A-4316-A197-3291245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50A-FE1D-4635-A802-E04C63FE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4AC-F532-4926-BF8C-D8C2784C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693-464B-4205-AE85-673A9752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8E2-C626-4B91-9A27-914528A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A4D-F139-4B19-BE53-4F04986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2E1-8CD2-42A4-BC92-43842793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054-8D37-43E4-91B3-B796356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994-19AC-4271-B583-5912561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20E-5AFE-4D6B-A1B3-E2C3168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8C2-34E5-4567-B1A0-0C303A01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9942-92F4-47B6-8438-FFC30AF0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0028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00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028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7800" y="1463760"/>
            <a:ext cx="2951280" cy="2676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27680" y="2701800"/>
            <a:ext cx="341280" cy="308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3360" y="4894200"/>
            <a:ext cx="2894040" cy="260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06800" y="6024600"/>
            <a:ext cx="3384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028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000" y="457200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0280" y="1187280"/>
            <a:ext cx="3168720" cy="3241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760" y="1492200"/>
            <a:ext cx="290340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21200" y="2643120"/>
            <a:ext cx="341280" cy="3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33360" y="4859280"/>
            <a:ext cx="2886120" cy="265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924440" y="6004080"/>
            <a:ext cx="341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22:10:33Z</dcterms:created>
  <dc:creator>Aude</dc:creator>
  <dc:description/>
  <dc:language>en-US</dc:language>
  <cp:lastModifiedBy>Aude</cp:lastModifiedBy>
  <dcterms:modified xsi:type="dcterms:W3CDTF">2011-03-18T22:20:33Z</dcterms:modified>
  <cp:revision>4</cp:revision>
  <dc:subject/>
  <dc:title>Slide 1</dc:title>
</cp:coreProperties>
</file>