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D0F0-3C4D-4A74-8552-79BD00EB6D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D2B5-1D0F-4305-A5BF-9326B59478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79D-9877-4729-AAC9-E1C84E9F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DCC-FE81-4414-9A08-B5B0A6B2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247-DF51-4866-AF8B-5891841D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008-E4D0-466A-BD7D-1AB61DD9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5D7-21EE-48D9-8C5B-6913DA1C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86B-A37E-4A97-95CE-17165802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3DD-DC1A-4F5A-B319-BAF1635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40B-D882-4D6D-A701-724200C2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649-0FE9-4B34-8504-E48673F0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BFD-B0A2-40F1-82AB-A502C2F2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D9A-349D-4AE0-B981-B448634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4FE-D565-46CE-A7C0-FCF7E2C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1D9-77EA-4717-B6F2-188A6C97DE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6 + 7 Re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لم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b74030m_thc"/>
          <p:cNvPicPr/>
          <p:nvPr/>
        </p:nvPicPr>
        <p:blipFill>
          <a:blip r:embed="rId1"/>
          <a:stretch/>
        </p:blipFill>
        <p:spPr>
          <a:xfrm>
            <a:off x="468360" y="1341360"/>
            <a:ext cx="3987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ل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00803_1055_9488_v__v_thc"/>
          <p:cNvPicPr/>
          <p:nvPr/>
        </p:nvPicPr>
        <p:blipFill>
          <a:blip r:embed="rId1"/>
          <a:stretch/>
        </p:blipFill>
        <p:spPr>
          <a:xfrm>
            <a:off x="539640" y="1413000"/>
            <a:ext cx="3810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ستفت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02n_thc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ض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00803_1080_6798_v__v_thc"/>
          <p:cNvPicPr/>
          <p:nvPr/>
        </p:nvPicPr>
        <p:blipFill>
          <a:blip r:embed="rId1"/>
          <a:stretch/>
        </p:blipFill>
        <p:spPr>
          <a:xfrm>
            <a:off x="539640" y="1743120"/>
            <a:ext cx="334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جِ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000803_1088_1328_v__v_thc"/>
          <p:cNvPicPr/>
          <p:nvPr/>
        </p:nvPicPr>
        <p:blipFill>
          <a:blip r:embed="rId1"/>
          <a:stretch/>
        </p:blipFill>
        <p:spPr>
          <a:xfrm>
            <a:off x="901800" y="1600200"/>
            <a:ext cx="3670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تقاس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000803_1088_1570_v__v_thc"/>
          <p:cNvPicPr/>
          <p:nvPr/>
        </p:nvPicPr>
        <p:blipFill>
          <a:blip r:embed="rId1"/>
          <a:stretch/>
        </p:blipFill>
        <p:spPr>
          <a:xfrm>
            <a:off x="755640" y="1844640"/>
            <a:ext cx="44449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iend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صد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676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غي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8_thc"/>
          <p:cNvPicPr/>
          <p:nvPr/>
        </p:nvPicPr>
        <p:blipFill>
          <a:blip r:embed="rId1"/>
          <a:stretch/>
        </p:blipFill>
        <p:spPr>
          <a:xfrm>
            <a:off x="971640" y="1484280"/>
            <a:ext cx="39243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فاع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فعال الحواس الخم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ص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جب أن يأتي بعد أفعال الحواس صفة فق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فعال الحواس هي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صوت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تذو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لم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بص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شم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looks red.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هو لونه أحمر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tastes salty .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هو مذاقه مالح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حواس الخم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لاح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حواس الخم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unn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eel comfortab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حواس الخم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قص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t520a_thc"/>
          <p:cNvPicPr/>
          <p:nvPr/>
        </p:nvPicPr>
        <p:blipFill>
          <a:blip r:embed="rId1"/>
          <a:stretch/>
        </p:blipFill>
        <p:spPr>
          <a:xfrm>
            <a:off x="395280" y="17524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(tastes – taste) swe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s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we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sound (book – quiet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sou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i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79280" y="0"/>
            <a:ext cx="4384800" cy="27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صوت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ذوق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لم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بصر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ش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جب أن يأتي بعد أفع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حواس صفة فق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64080" y="-27000"/>
            <a:ext cx="46162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حواس الخم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جب أن يأتي بعد أفعال المشاعر اسم أو فعل مضافاً الي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فا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أفعال المشاعر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س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حن نحب العصير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فا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أفعال المشاعر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ف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jo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V 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و يستمتع بمشاهدة التلف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فعال المشاعر ه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ke – Lo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حب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ستمتع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fer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ُفضّل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مشاع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ling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لاح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مشاع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v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ng stam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fer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ir freshe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مشاع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ling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(love – loves) chocol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ocol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efer (swim - swimming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efe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wimm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79280" y="0"/>
            <a:ext cx="4384800" cy="27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أن يأتي بعد أفعال المشاعر ا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 فعل مضافاً ال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ke – Love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حب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jo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ستمتع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er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ُفضّل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64080" y="-27000"/>
            <a:ext cx="46162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مشاع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عبّر هذا الزمن حدث في الماضي ولا تزال آثاره موجودة حتى الآن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t has rained alread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للتو أمطرت «لا تزال الأرض رطبة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have just heard the new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للتو استمتعت الى الأخبار «لا يزال التلفاز يعمل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ينه «الجملة المثبت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+ has , have + 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has found the book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ينه «الجملة المنفي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+ has , have not +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have not found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كوينه «السؤا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, have +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ever +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s he ever seen the spaceshi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لائ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تحويل الفعل الى تصريف 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إذا كان فعل عادي نضيف له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إذا كان فعل شاذ نأتي بالتصري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rot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بقية الأفعال كتاب الطالب صفحة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101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has just (wear – wore – worn) his jack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e has ju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o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is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79280" y="0"/>
            <a:ext cx="8856720" cy="28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(have  - has ) passed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passed the ex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79280" y="0"/>
            <a:ext cx="8856720" cy="32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حا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31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(have not – not have ) heard the new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no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d the new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9280" y="0"/>
            <a:ext cx="8856720" cy="32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33480" y="1773360"/>
            <a:ext cx="914400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+ has , have +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ل بالتصريف الثال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s he been the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نذ متى وهو هناك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ve they known Sam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نذ متى و هم يعرفون سامي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16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Perfect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ع صيغة «منذ متى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95280" y="189000"/>
            <a:ext cx="82296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إجابة على سؤا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جب أن تحتوي 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ن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مد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6360" y="2276640"/>
            <a:ext cx="914400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has , have +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ل بالتصريف الثال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ince ,for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s he been the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as been there since 2006 .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هو هناك منذ سنة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ve they known Sam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have known Sami for seven month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هُم يعرفون سامي لمدّة سبع ش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فرق بين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0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{{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م , شهر , سنة , سا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clock , Saturday  , August 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غادرة المدرسة , الانتقال للمدينة , الانتقال لمدرسة 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chool  , moved to city , moved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33200" y="4149720"/>
            <a:ext cx="914400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{{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, Seven , Nine , a , an ….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 not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e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en t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وج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803_1078_3070_v__v_thc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nown Fah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98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23840" y="23731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0"/>
            <a:ext cx="5329440" cy="2421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508360" y="-360"/>
            <a:ext cx="3601800" cy="2421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منذ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م , شهر , سنة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مغادرة المدرس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لمدة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98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98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98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8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8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123840" y="23731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 n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been there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has) known Fahd (sinc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0"/>
            <a:ext cx="5184720" cy="23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63640" y="0"/>
            <a:ext cx="3746520" cy="23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منذ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م , شهر , سنة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مغادرة المدرس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لمدة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98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98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98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98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are the organs of sen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ماهي أعضاء الحوا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ngu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لسا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n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جِلد 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y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عينين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ars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أذنين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s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أن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 ماهي الحواس الداخليّ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internal sens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ain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ألم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توازن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rst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عطش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unger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ج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external sens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ght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بصر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aring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سمع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t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تذوّ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ell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شم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uch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لم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do external senses provid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بماذا تفيدنا الحواس الخارجيّ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formation about outsid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علومات حول خارج الجس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internal senses pro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بماذا تفيدنا الحواس الداخليّ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formation about what we feel inside ou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معلومات حول ما نشعر داخل أجسامن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123840" y="14839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76000" y="287280"/>
            <a:ext cx="6480360" cy="838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98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98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98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On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أ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he follow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أسئلة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Tw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correct word between the 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ر من بين الأقواس ” قواعد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ll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alks) next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8360" y="428760"/>
            <a:ext cx="822960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Thre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from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سؤال من كتاب الطالب أو كتاب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Fou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ر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missing let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مل الحروف الناق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Fiv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خام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onyms &amp; Ant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= …anci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Si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ساد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m under the suitable pi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ختر الكلمة وضعها تحت الصورة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635280" y="3860640"/>
            <a:ext cx="2376720" cy="18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440" y="6053040"/>
            <a:ext cx="237492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6321600" y="6053040"/>
            <a:ext cx="237636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6215040" y="3714840"/>
            <a:ext cx="2567160" cy="169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lot520a_thc"/>
          <p:cNvPicPr/>
          <p:nvPr/>
        </p:nvPicPr>
        <p:blipFill>
          <a:blip r:embed="rId2"/>
          <a:stretch/>
        </p:blipFill>
        <p:spPr>
          <a:xfrm>
            <a:off x="714240" y="3500280"/>
            <a:ext cx="2176560" cy="20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lk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ثرث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d"/>
          <p:cNvPicPr/>
          <p:nvPr/>
        </p:nvPicPr>
        <p:blipFill>
          <a:blip r:embed="rId1"/>
          <a:stretch/>
        </p:blipFill>
        <p:spPr>
          <a:xfrm>
            <a:off x="395280" y="1341360"/>
            <a:ext cx="40384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ُدرّ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"/>
          <p:cNvPicPr/>
          <p:nvPr/>
        </p:nvPicPr>
        <p:blipFill>
          <a:blip r:embed="rId1"/>
          <a:stretch/>
        </p:blipFill>
        <p:spPr>
          <a:xfrm>
            <a:off x="539640" y="1484280"/>
            <a:ext cx="334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فخ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x"/>
          <p:cNvPicPr/>
          <p:nvPr/>
        </p:nvPicPr>
        <p:blipFill>
          <a:blip r:embed="rId1"/>
          <a:stretch/>
        </p:blipFill>
        <p:spPr>
          <a:xfrm>
            <a:off x="585720" y="1700280"/>
            <a:ext cx="40388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ج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21701665"/>
          <p:cNvPicPr/>
          <p:nvPr/>
        </p:nvPicPr>
        <p:blipFill>
          <a:blip r:embed="rId1"/>
          <a:stretch/>
        </p:blipFill>
        <p:spPr>
          <a:xfrm>
            <a:off x="539640" y="1341360"/>
            <a:ext cx="3556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طاز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0803_1073_5570_v__v_thc"/>
          <p:cNvPicPr/>
          <p:nvPr/>
        </p:nvPicPr>
        <p:blipFill>
          <a:blip r:embed="rId1"/>
          <a:stretch/>
        </p:blipFill>
        <p:spPr>
          <a:xfrm>
            <a:off x="539640" y="1484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5:26:05Z</dcterms:created>
  <dc:creator>Owner</dc:creator>
  <dc:description/>
  <dc:language>en-US</dc:language>
  <cp:lastModifiedBy>LRC</cp:lastModifiedBy>
  <dcterms:modified xsi:type="dcterms:W3CDTF">2012-12-10T06:05:41Z</dcterms:modified>
  <cp:revision>40</cp:revision>
  <dc:subject/>
  <dc:title>U 14 L 1</dc:title>
</cp:coreProperties>
</file>