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5EEE-5537-4082-BF70-79431CE47B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732-360A-4408-B9E9-FFC36D7BC6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DB6-C38D-4FBB-9658-1E1E2BBD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FE9-D2C3-428D-9D0D-863B80C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BAA-FBD5-4D92-944B-71075627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E56-2D89-4FD6-A82B-88EB028A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7EA-0F38-47DB-9C73-B4716EB4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434-F664-4467-AC88-D44FCE4F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7E1-BA85-42AC-BAC0-C579DE7F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B6A-FCC0-4889-BA30-25A9839F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C4C-B7A9-4EA3-A83D-A9E681C3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325-1133-4FEE-835B-866FE36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E9A-2727-4410-859B-E3B9AA8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A96-C1C8-4F3F-B163-92CB3090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6DB2-9631-4C3A-8511-8D33D76DE5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6 + 7 Re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يلم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b74030m_thc"/>
          <p:cNvPicPr/>
          <p:nvPr/>
        </p:nvPicPr>
        <p:blipFill>
          <a:blip r:embed="rId1"/>
          <a:stretch/>
        </p:blipFill>
        <p:spPr>
          <a:xfrm>
            <a:off x="468360" y="1341360"/>
            <a:ext cx="39877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لا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000803_1055_9488_v__v_thc"/>
          <p:cNvPicPr/>
          <p:nvPr/>
        </p:nvPicPr>
        <p:blipFill>
          <a:blip r:embed="rId1"/>
          <a:stretch/>
        </p:blipFill>
        <p:spPr>
          <a:xfrm>
            <a:off x="539640" y="1413000"/>
            <a:ext cx="3810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ستفت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02n_thc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ض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000803_1080_6798_v__v_thc"/>
          <p:cNvPicPr/>
          <p:nvPr/>
        </p:nvPicPr>
        <p:blipFill>
          <a:blip r:embed="rId1"/>
          <a:stretch/>
        </p:blipFill>
        <p:spPr>
          <a:xfrm>
            <a:off x="539640" y="1743120"/>
            <a:ext cx="3340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جِ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000803_1088_1328_v__v_thc"/>
          <p:cNvPicPr/>
          <p:nvPr/>
        </p:nvPicPr>
        <p:blipFill>
          <a:blip r:embed="rId1"/>
          <a:stretch/>
        </p:blipFill>
        <p:spPr>
          <a:xfrm>
            <a:off x="901800" y="1600200"/>
            <a:ext cx="36702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يتقاس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000803_1088_1570_v__v_thc"/>
          <p:cNvPicPr/>
          <p:nvPr/>
        </p:nvPicPr>
        <p:blipFill>
          <a:blip r:embed="rId1"/>
          <a:stretch/>
        </p:blipFill>
        <p:spPr>
          <a:xfrm>
            <a:off x="755640" y="1844640"/>
            <a:ext cx="44449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iend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صد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676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eal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غي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28_thc"/>
          <p:cNvPicPr/>
          <p:nvPr/>
        </p:nvPicPr>
        <p:blipFill>
          <a:blip r:embed="rId1"/>
          <a:stretch/>
        </p:blipFill>
        <p:spPr>
          <a:xfrm>
            <a:off x="971640" y="1484280"/>
            <a:ext cx="39243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 algn="ctr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لفاعل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فعال الحواس الخم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صف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يجب أن يأتي بعد أفعال الحواس صفة فق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فعال الحواس هي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صوت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تذو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لم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بص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شم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looks red.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هو لونه أحمر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tastes salty .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هو مذاقه مالح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فعال الحواس الخمس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nion Verb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لاحظ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نُطبّق قاعدة المضارع البسيط مع أفعال الحواس الخم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فع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– She – It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فعل بدون إضافات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– We – You –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ook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unn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eel comfortab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فعال الحواس الخمس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nion Verb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قص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t520a_thc"/>
          <p:cNvPicPr/>
          <p:nvPr/>
        </p:nvPicPr>
        <p:blipFill>
          <a:blip r:embed="rId1"/>
          <a:stretch/>
        </p:blipFill>
        <p:spPr>
          <a:xfrm>
            <a:off x="395280" y="1752480"/>
            <a:ext cx="4038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87928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(tastes – taste) swe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s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we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sound (book – quiet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soun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i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79280" y="0"/>
            <a:ext cx="4384800" cy="278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صوت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ذوق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لمس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بصر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شم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جب أن يأتي بعد أفع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حواس صفة فق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564080" y="-27000"/>
            <a:ext cx="46162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نُطبّق قاعدة المضارع البسيط مع أفعال الحواس الخم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ع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– She –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فعل بدون إضافات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– We – You –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جب أن يأتي بعد أفعال المشاعر اسم أو فعل مضافاً الي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الفاعل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+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أفعال المشاعر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+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اس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ui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حن نحب العصير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الفاعل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+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أفعال المشاعر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+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فعل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+ 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jo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V .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و يستمتع بمشاهدة التلف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فعال المشاعر ه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ke – Lo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يحب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joy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يستمتع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fer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يُفضّل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فعال المشاع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ling Verb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لاحظ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نُطبّق قاعدة المضارع البسيط مع أفعال المشاع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فع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– She – It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فعل بدون إضافات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– We – You –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v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cting stamp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efer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ir freshen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فعال المشاع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ling Verb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87928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(love – loves) chocol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v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hocol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prefer (swim - swimming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prefe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wimm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79280" y="0"/>
            <a:ext cx="4384800" cy="278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جب أن يأتي بعد أفعال المشاعر ا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 فعل مضافاً ال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ke – Love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يحب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jo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يستمتع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er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يُفضّل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564080" y="-27000"/>
            <a:ext cx="46162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نُطبّق قاعدة المضارع البسيط مع أفعال المشاع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ع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– She –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فعل بدون إضافات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– We – You –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عبّر هذا الزمن حدث في الماضي ولا تزال آثاره موجودة حتى الآن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t has rained already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للتو أمطرت «لا تزال الأرض رطبة</a:t>
            </a: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have just heard the new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للتو استمتعت الى الأخبار «لا يزال التلفاز يعمل</a:t>
            </a: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كوينه «الجملة المثبت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+ has , have + </a:t>
            </a:r>
            <a:r>
              <a:rPr b="1" lang="ar-SA" sz="3600" spc="-1" strike="noStrike">
                <a:solidFill>
                  <a:srgbClr val="000000"/>
                </a:solidFill>
                <a:latin typeface="Comic Sans MS"/>
              </a:rPr>
              <a:t>الفعل بالتصريف الثال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has found the book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كوينه «الجملة المنفي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+ has , have not +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فعل بالتصري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have not found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كوينه «السؤا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, have +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ever +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فعل بالتصريف الثالث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s he ever seen the spaceshi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1125360"/>
            <a:ext cx="914400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لائ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تحويل الفعل الى تصريف 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إذا كان فعل عادي نضيف له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إذا كان فعل شاذ نأتي بالتصري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rot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بقية الأفعال كتاب الطالب صفحة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101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87928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has just (wear – wore – worn) his jack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e has jus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o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is 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79280" y="0"/>
            <a:ext cx="8856720" cy="28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(have  - has ) passed 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passed the ex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79280" y="0"/>
            <a:ext cx="8856720" cy="32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حاس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31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 تما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(have not – not have ) heard the new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ve no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d the new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9280" y="0"/>
            <a:ext cx="8856720" cy="32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33480" y="1773360"/>
            <a:ext cx="9144000" cy="28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+ has , have +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اع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عل بالتصريف الثال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long has he been ther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منذ متى وهو هناك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long have they known Sam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منذ متى و هم يعرفون سامي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16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ضارع التام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Perfect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ع صيغة «منذ متى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95280" y="189000"/>
            <a:ext cx="82296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إجابة على سؤال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long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يجب أن تحتوي 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من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مد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6360" y="2276640"/>
            <a:ext cx="914400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اع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has , have +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عل بالتصريف الثال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ince ,for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long has he been ther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has been there since 2006 .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هو هناك منذ سنة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long have they known Sam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have known Sami for seven month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هُم يعرفون سامي لمدّة سبع شه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فرق بين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0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{{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وم , شهر , سنة , سا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’clock , Saturday  , August ,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غادرة المدرسة , الانتقال للمدينة , الانتقال لمدرسة 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school  , moved to city , moved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33200" y="4149720"/>
            <a:ext cx="914400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===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{{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, Seven , Nine , a , an ….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(watch- watched)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(have  - has )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(have not – not have ) 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 not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(has he – he has ) 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 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(rain – rain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ine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– He (have – has) been there (since-for)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en t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98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وج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0803_1078_3070_v__v_thc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123840" y="47145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– I (have – has) known Fahd (since – for)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nown Fah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79280" y="0"/>
            <a:ext cx="8607600" cy="4714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nce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منذ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وم , شهر , سن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800"/>
            </a:b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غادرة المدرس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لمدة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98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123840" y="23731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(watch- watched)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(have  - has )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(have not – not have ) 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(has he – he has ) 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(rain – rain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– He (have – has) been there (since-for)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– I (have – has) known Fahd (since – for)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0"/>
            <a:ext cx="5329440" cy="2421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long (have , has )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508360" y="-360"/>
            <a:ext cx="3601800" cy="2421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nc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 منذ</a:t>
            </a:r>
            <a:br>
              <a:rPr sz="1600"/>
            </a:b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وم , شهر , سنة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600"/>
            </a:b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مغادرة المدرس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 لمدة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98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98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98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98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98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98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98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123840" y="23731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(watch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tch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has )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 no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not have ) 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 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he has ) 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(rain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in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– He (hav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been there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for)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– I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has) known Fahd (sinc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79280" y="0"/>
            <a:ext cx="5184720" cy="23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(has – have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ve , Has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ever +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تصريف الثال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es - No ,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فاع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have ,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, They , We , Yo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 , She , I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st – yet – for – since – already – ev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الافعال الشاذة ليس لها قاعد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تحويل الفعل العادي نضيف 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363640" y="0"/>
            <a:ext cx="3746520" cy="23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nc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 منذ</a:t>
            </a:r>
            <a:br>
              <a:rPr sz="1600"/>
            </a:b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يأتي بعدها وقت محدود 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وم , شهر , سنة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 , August , 1990</a:t>
            </a:r>
            <a:br>
              <a:rPr sz="1600"/>
            </a:b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أو ياتي بعدها حدث معيّن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مغادرة المدرس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school , 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{{   For }}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Arial"/>
              </a:rPr>
              <a:t> لمدة</a:t>
            </a:r>
            <a:br>
              <a:rPr sz="1600"/>
            </a:b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أتي بعدها عدد مجرّد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, Seven , a, an ….etc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98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98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98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98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are the organs of sens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ماهي أعضاء الحوا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ngu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لسان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n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جِلد –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y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عينين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ars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أذنين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se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أن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 ماهي الحواس الداخليّ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are the internal sens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ain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ألم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lance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توازن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rst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عطش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unger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ج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are the external sens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ight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بصر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aring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سمع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te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تذوّ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mell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شم –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uch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اللم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do external senses provid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 بماذا تفيدنا الحواس الخارجيّ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formation about outsid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معلومات حول خارج الجس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internal senses pro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 بماذا تفيدنا الحواس الداخليّ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formation about what we feel inside our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معلومات حول ما نشعر داخل أجسامن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123840" y="148392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has just (watch- watched)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(have  - has ) already passed the ex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(have not – not have ) heard the new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(has he – he has ) known Khla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has it (rain – rain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– He (have – has) been there (since-for) 199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– I (have – has) known Fahd (since – for)  three year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76000" y="287280"/>
            <a:ext cx="6480360" cy="838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98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98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98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98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98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98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طريقة الأ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On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أوّ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he following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Ques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أسئلة عا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=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Tw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e the correct word between the brac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ر من بين الأقواس ” قواعد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ll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walks) next 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-7164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طريقة الأ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8360" y="428760"/>
            <a:ext cx="822960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Thre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from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سؤال من كتاب الطالب أو كتاب النش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Fou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راب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missing let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كمل الحروف الناق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…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Fiv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خام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onyms &amp; Ant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d = …anci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طريقة الأ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Six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السؤال الساد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m under the suitable pi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ختر الكلمة وضعها تحت الصورة المناس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3635280" y="3860640"/>
            <a:ext cx="2376720" cy="18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l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41440" y="6053040"/>
            <a:ext cx="2374920" cy="6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6321600" y="6053040"/>
            <a:ext cx="2376360" cy="6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6215040" y="3714840"/>
            <a:ext cx="2567160" cy="1695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lot520a_thc"/>
          <p:cNvPicPr/>
          <p:nvPr/>
        </p:nvPicPr>
        <p:blipFill>
          <a:blip r:embed="rId2"/>
          <a:stretch/>
        </p:blipFill>
        <p:spPr>
          <a:xfrm>
            <a:off x="714240" y="3500280"/>
            <a:ext cx="2176560" cy="209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lk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ثرث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d"/>
          <p:cNvPicPr/>
          <p:nvPr/>
        </p:nvPicPr>
        <p:blipFill>
          <a:blip r:embed="rId1"/>
          <a:stretch/>
        </p:blipFill>
        <p:spPr>
          <a:xfrm>
            <a:off x="395280" y="1341360"/>
            <a:ext cx="40384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ُدرّ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h"/>
          <p:cNvPicPr/>
          <p:nvPr/>
        </p:nvPicPr>
        <p:blipFill>
          <a:blip r:embed="rId1"/>
          <a:stretch/>
        </p:blipFill>
        <p:spPr>
          <a:xfrm>
            <a:off x="539640" y="1484280"/>
            <a:ext cx="3340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فخ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x"/>
          <p:cNvPicPr/>
          <p:nvPr/>
        </p:nvPicPr>
        <p:blipFill>
          <a:blip r:embed="rId1"/>
          <a:stretch/>
        </p:blipFill>
        <p:spPr>
          <a:xfrm>
            <a:off x="585720" y="1700280"/>
            <a:ext cx="40388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يجر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21701665"/>
          <p:cNvPicPr/>
          <p:nvPr/>
        </p:nvPicPr>
        <p:blipFill>
          <a:blip r:embed="rId1"/>
          <a:stretch/>
        </p:blipFill>
        <p:spPr>
          <a:xfrm>
            <a:off x="539640" y="1341360"/>
            <a:ext cx="3556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طاز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0803_1073_5570_v__v_thc"/>
          <p:cNvPicPr/>
          <p:nvPr/>
        </p:nvPicPr>
        <p:blipFill>
          <a:blip r:embed="rId1"/>
          <a:stretch/>
        </p:blipFill>
        <p:spPr>
          <a:xfrm>
            <a:off x="539640" y="1484280"/>
            <a:ext cx="3962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5:26:05Z</dcterms:created>
  <dc:creator>Owner</dc:creator>
  <dc:description/>
  <dc:language>en-US</dc:language>
  <cp:lastModifiedBy>LRC</cp:lastModifiedBy>
  <dcterms:modified xsi:type="dcterms:W3CDTF">2012-12-10T06:05:41Z</dcterms:modified>
  <cp:revision>40</cp:revision>
  <dc:subject/>
  <dc:title>U 14 L 1</dc:title>
</cp:coreProperties>
</file>