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A13A-58B6-4C97-8573-9F54F37B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2218-0E81-4143-B8BF-40828705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FBE-693A-407E-8E64-422F5B75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9F75-B8CC-4C9C-B1B0-4113E518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F334-286E-487D-BA19-847CE5CC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6B10-B473-4F94-A19C-040E5B79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1971-FD23-4C76-892C-3ACA2758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6CFD-0092-46E0-8817-B1C0A7C2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5942-2720-4550-BC32-A06AA40B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0337-CD21-412A-8BCD-9791BBEB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5B78-413B-4989-80CB-30645F14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21A-020B-4F2D-AA87-BD562F92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F8E4-C301-4BA3-86F6-D2D37683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2B5D-9A65-40A9-BB6D-54ECB01D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C187-8F16-4448-BBD0-7B6A3D27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1DF0-B82F-453D-837D-5DC1D034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0717-5D9A-4036-A72C-49457B58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D277A-7419-44D1-A173-E0B76F7D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A9D94-555C-427F-8626-A1505A50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C8C2A-89CA-4352-BF4F-F3C87F1F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8F4BA-E8C2-4889-8B05-E530B545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8F37F-FE1A-40AE-9F1C-F5EEE7F7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FA2-26CC-4D8D-9C59-92B2ABAB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2B39B-5306-41E1-8F70-A23B3DDB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82637-5853-402F-8FDB-D9C86B15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F1B71-8505-4775-A13B-5EC6FEB0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91CE4-DEAC-49F5-9888-025B7FC0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812E5-C0D3-4096-A25D-23C41703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2795B-2D6C-4E0D-B16C-A16242CA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0C4BB-64C1-40C6-BBB3-59006A4D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659-8CA9-4367-A7FD-D3AA6961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163-2FC8-4A25-8F9B-2CB934FE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B39-2320-48C3-AB5D-441A0608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07F-FA54-4849-9388-9D52B2F7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202-A344-4967-AC33-C1996BFE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B60E-22C0-4BFD-B24E-4BE2BC3C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323B1C-3BFA-4B69-A71A-04E1FCB0FA7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F0B67F-62CA-48D7-814A-0183908C4A2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859726-D5FB-43A3-86F6-06D2FF77499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800" y="2565360"/>
            <a:ext cx="8891640" cy="161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Unit II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Calibri"/>
                <a:ea typeface="新細明體"/>
              </a:rPr>
              <a:t>Advanced Compiler Support For IL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15600" y="4786200"/>
            <a:ext cx="7848360" cy="187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8b8b8b"/>
                </a:solidFill>
                <a:latin typeface="Cambria"/>
              </a:rPr>
              <a:t>By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8b8b8b"/>
                </a:solidFill>
                <a:latin typeface="Cambria"/>
              </a:rPr>
              <a:t>N.R.Rejin Pa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8b8b8b"/>
                </a:solidFill>
                <a:latin typeface="Cambria"/>
              </a:rPr>
              <a:t>Lecturer/VIT/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784080" y="404640"/>
            <a:ext cx="7772040" cy="136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標楷體"/>
              </a:rPr>
              <a:t>CS2354 Advanced Computer Architectu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49621F-8F2C-47CB-9D47-DB6AFA5ED79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162560" cy="36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6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00ff"/>
                </a:solidFill>
                <a:latin typeface="Calibri"/>
                <a:ea typeface="新細明體"/>
              </a:rPr>
              <a:t>Software Pipelining and Loop Unrol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250920" y="692280"/>
            <a:ext cx="8713440" cy="33793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Software 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Can be thought of as symbolic loop unro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May use loop-unrolling to figure out how to pipeline 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Loop unrolling reduces the overhead of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the branch and counter updat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but every time the inner unrolled loop still need be init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Software pipelining reduces the time when the loop is not running at peak speed to once pe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major advantage: consumes less cod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In practice, compilation using software pipelining is quit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the best performance can come from doing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4572000" y="5950080"/>
            <a:ext cx="4366800" cy="637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25 loops with 4 unrolled iterations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= 100 ite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9"/>
          <p:cNvGrpSpPr/>
          <p:nvPr/>
        </p:nvGrpSpPr>
        <p:grpSpPr>
          <a:xfrm>
            <a:off x="77760" y="4076640"/>
            <a:ext cx="8957880" cy="1657080"/>
            <a:chOff x="77760" y="4076640"/>
            <a:chExt cx="8957880" cy="1657080"/>
          </a:xfrm>
        </p:grpSpPr>
        <p:pic>
          <p:nvPicPr>
            <p:cNvPr id="180" name="Picture 17" descr=""/>
            <p:cNvPicPr/>
            <p:nvPr/>
          </p:nvPicPr>
          <p:blipFill>
            <a:blip r:embed="rId1"/>
            <a:stretch/>
          </p:blipFill>
          <p:spPr>
            <a:xfrm>
              <a:off x="77760" y="4276800"/>
              <a:ext cx="4169880" cy="145692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81" name="Picture 18" descr=""/>
            <p:cNvPicPr/>
            <p:nvPr/>
          </p:nvPicPr>
          <p:blipFill>
            <a:blip r:embed="rId2"/>
            <a:stretch/>
          </p:blipFill>
          <p:spPr>
            <a:xfrm>
              <a:off x="4138560" y="4076640"/>
              <a:ext cx="4897080" cy="16092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82" name="Line 8"/>
          <p:cNvSpPr/>
          <p:nvPr/>
        </p:nvSpPr>
        <p:spPr>
          <a:xfrm flipH="1" flipV="1">
            <a:off x="5508360" y="5516280"/>
            <a:ext cx="576360" cy="50508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Line 21"/>
          <p:cNvSpPr/>
          <p:nvPr/>
        </p:nvSpPr>
        <p:spPr>
          <a:xfrm flipV="1">
            <a:off x="4787640" y="5492520"/>
            <a:ext cx="2305080" cy="576360"/>
          </a:xfrm>
          <a:prstGeom prst="line">
            <a:avLst/>
          </a:prstGeom>
          <a:ln w="127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Num" idx="1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2DA109-E8AA-475F-AE65-4226F610A75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3419640" y="3203640"/>
            <a:ext cx="3203280" cy="3609720"/>
          </a:xfrm>
          <a:prstGeom prst="rect">
            <a:avLst/>
          </a:prstGeom>
          <a:ln w="9525">
            <a:noFill/>
          </a:ln>
        </p:spPr>
      </p:pic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13440" cy="50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新細明體"/>
              </a:rPr>
              <a:t>Global Code Schedu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08000" y="692280"/>
            <a:ext cx="8712000" cy="25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Loop unrolling and s/w pipelining mainly work for basic bl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Global code scheduling: moving instructions across bran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17136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Aims to compact a code fragment with internal control structure into th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hortest possible seque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 that preserves the data and control depend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17136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Requires estimates of the relative frequency of different pa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hortest possible sequence = shortest sequence for th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critical p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171360">
              <a:lnSpc>
                <a:spcPct val="10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Can not guarantee faster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" name="Group 11"/>
          <p:cNvGrpSpPr/>
          <p:nvPr/>
        </p:nvGrpSpPr>
        <p:grpSpPr>
          <a:xfrm>
            <a:off x="7596000" y="3284640"/>
            <a:ext cx="960480" cy="1672920"/>
            <a:chOff x="7596000" y="3284640"/>
            <a:chExt cx="960480" cy="1672920"/>
          </a:xfrm>
        </p:grpSpPr>
        <p:sp>
          <p:nvSpPr>
            <p:cNvPr id="189" name="Line 4"/>
            <p:cNvSpPr/>
            <p:nvPr/>
          </p:nvSpPr>
          <p:spPr>
            <a:xfrm>
              <a:off x="7819920" y="3354120"/>
              <a:ext cx="679320" cy="546120"/>
            </a:xfrm>
            <a:prstGeom prst="line">
              <a:avLst/>
            </a:prstGeom>
            <a:ln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5"/>
            <p:cNvSpPr/>
            <p:nvPr/>
          </p:nvSpPr>
          <p:spPr>
            <a:xfrm flipH="1">
              <a:off x="7596000" y="3649320"/>
              <a:ext cx="596880" cy="679680"/>
            </a:xfrm>
            <a:prstGeom prst="line">
              <a:avLst/>
            </a:prstGeom>
            <a:ln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7877160" y="4039920"/>
              <a:ext cx="679320" cy="546120"/>
            </a:xfrm>
            <a:prstGeom prst="line">
              <a:avLst/>
            </a:prstGeom>
            <a:ln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 flipH="1">
              <a:off x="7596000" y="4278240"/>
              <a:ext cx="596880" cy="679320"/>
            </a:xfrm>
            <a:prstGeom prst="line">
              <a:avLst/>
            </a:prstGeom>
            <a:ln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"/>
            <p:cNvSpPr/>
            <p:nvPr/>
          </p:nvSpPr>
          <p:spPr>
            <a:xfrm>
              <a:off x="7864560" y="3284640"/>
              <a:ext cx="439200" cy="1620360"/>
            </a:xfrm>
            <a:custGeom>
              <a:avLst/>
              <a:gdLst>
                <a:gd name="textAreaLeft" fmla="*/ 0 w 439200"/>
                <a:gd name="textAreaRight" fmla="*/ 439560 w 439200"/>
                <a:gd name="textAreaTop" fmla="*/ 0 h 1620360"/>
                <a:gd name="textAreaBottom" fmla="*/ 1620720 h 1620360"/>
              </a:gdLst>
              <a:ahLst/>
              <a:rect l="textAreaLeft" t="textAreaTop" r="textAreaRight" b="textAreaBottom"/>
              <a:pathLst>
                <a:path w="277" h="1021">
                  <a:moveTo>
                    <a:pt x="24" y="0"/>
                  </a:moveTo>
                  <a:lnTo>
                    <a:pt x="48" y="12"/>
                  </a:lnTo>
                  <a:lnTo>
                    <a:pt x="72" y="36"/>
                  </a:lnTo>
                  <a:lnTo>
                    <a:pt x="96" y="48"/>
                  </a:lnTo>
                  <a:lnTo>
                    <a:pt x="120" y="48"/>
                  </a:lnTo>
                  <a:lnTo>
                    <a:pt x="144" y="72"/>
                  </a:lnTo>
                  <a:lnTo>
                    <a:pt x="168" y="72"/>
                  </a:lnTo>
                  <a:lnTo>
                    <a:pt x="192" y="84"/>
                  </a:lnTo>
                  <a:lnTo>
                    <a:pt x="216" y="96"/>
                  </a:lnTo>
                  <a:lnTo>
                    <a:pt x="228" y="120"/>
                  </a:lnTo>
                  <a:lnTo>
                    <a:pt x="252" y="132"/>
                  </a:lnTo>
                  <a:lnTo>
                    <a:pt x="252" y="156"/>
                  </a:lnTo>
                  <a:lnTo>
                    <a:pt x="264" y="180"/>
                  </a:lnTo>
                  <a:lnTo>
                    <a:pt x="276" y="204"/>
                  </a:lnTo>
                  <a:lnTo>
                    <a:pt x="276" y="228"/>
                  </a:lnTo>
                  <a:lnTo>
                    <a:pt x="276" y="252"/>
                  </a:lnTo>
                  <a:lnTo>
                    <a:pt x="252" y="264"/>
                  </a:lnTo>
                  <a:lnTo>
                    <a:pt x="228" y="276"/>
                  </a:lnTo>
                  <a:lnTo>
                    <a:pt x="228" y="300"/>
                  </a:lnTo>
                  <a:lnTo>
                    <a:pt x="204" y="312"/>
                  </a:lnTo>
                  <a:lnTo>
                    <a:pt x="192" y="336"/>
                  </a:lnTo>
                  <a:lnTo>
                    <a:pt x="180" y="360"/>
                  </a:lnTo>
                  <a:lnTo>
                    <a:pt x="156" y="372"/>
                  </a:lnTo>
                  <a:lnTo>
                    <a:pt x="156" y="396"/>
                  </a:lnTo>
                  <a:lnTo>
                    <a:pt x="132" y="408"/>
                  </a:lnTo>
                  <a:lnTo>
                    <a:pt x="108" y="420"/>
                  </a:lnTo>
                  <a:lnTo>
                    <a:pt x="108" y="444"/>
                  </a:lnTo>
                  <a:lnTo>
                    <a:pt x="108" y="468"/>
                  </a:lnTo>
                  <a:lnTo>
                    <a:pt x="132" y="480"/>
                  </a:lnTo>
                  <a:lnTo>
                    <a:pt x="144" y="504"/>
                  </a:lnTo>
                  <a:lnTo>
                    <a:pt x="168" y="528"/>
                  </a:lnTo>
                  <a:lnTo>
                    <a:pt x="192" y="564"/>
                  </a:lnTo>
                  <a:lnTo>
                    <a:pt x="216" y="612"/>
                  </a:lnTo>
                  <a:lnTo>
                    <a:pt x="252" y="636"/>
                  </a:lnTo>
                  <a:lnTo>
                    <a:pt x="264" y="660"/>
                  </a:lnTo>
                  <a:lnTo>
                    <a:pt x="240" y="684"/>
                  </a:lnTo>
                  <a:lnTo>
                    <a:pt x="228" y="708"/>
                  </a:lnTo>
                  <a:lnTo>
                    <a:pt x="204" y="720"/>
                  </a:lnTo>
                  <a:lnTo>
                    <a:pt x="180" y="744"/>
                  </a:lnTo>
                  <a:lnTo>
                    <a:pt x="168" y="780"/>
                  </a:lnTo>
                  <a:lnTo>
                    <a:pt x="144" y="792"/>
                  </a:lnTo>
                  <a:lnTo>
                    <a:pt x="132" y="816"/>
                  </a:lnTo>
                  <a:lnTo>
                    <a:pt x="120" y="840"/>
                  </a:lnTo>
                  <a:lnTo>
                    <a:pt x="108" y="864"/>
                  </a:lnTo>
                  <a:lnTo>
                    <a:pt x="96" y="888"/>
                  </a:lnTo>
                  <a:lnTo>
                    <a:pt x="72" y="912"/>
                  </a:lnTo>
                  <a:lnTo>
                    <a:pt x="60" y="936"/>
                  </a:lnTo>
                  <a:lnTo>
                    <a:pt x="36" y="948"/>
                  </a:lnTo>
                  <a:lnTo>
                    <a:pt x="24" y="972"/>
                  </a:lnTo>
                  <a:lnTo>
                    <a:pt x="12" y="996"/>
                  </a:lnTo>
                  <a:lnTo>
                    <a:pt x="0" y="1020"/>
                  </a:lnTo>
                </a:path>
              </a:pathLst>
            </a:custGeom>
            <a:noFill/>
            <a:ln cap="rnd" w="254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Text Box 13"/>
          <p:cNvSpPr/>
          <p:nvPr/>
        </p:nvSpPr>
        <p:spPr>
          <a:xfrm>
            <a:off x="250920" y="5661000"/>
            <a:ext cx="37447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74680" indent="-2746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Two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Find the comm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Move the assignments to B 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2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CBE7C6-4FE3-4CEA-8A25-25178732260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14200" y="115920"/>
            <a:ext cx="8749800" cy="5043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新細明體"/>
              </a:rPr>
              <a:t>Trace Scheduling – Critical Path Schedu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50920" y="620640"/>
            <a:ext cx="8642160" cy="46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Two step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160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Trace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1857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71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Trace profiling fir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1857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71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Find likely sequence of basic blocks (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tra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) of (loop unrolled, statically predicted or profile predicted) long sequence of straight-line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1857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71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Unwinding frequent p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160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Trace Comp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1857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71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queeze trace into few VLIW 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1857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71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Need </a:t>
            </a:r>
            <a:r>
              <a:rPr b="0" i="1" lang="en-US" sz="2000" spc="-1" strike="noStrike">
                <a:solidFill>
                  <a:schemeClr val="accent2"/>
                </a:solidFill>
                <a:latin typeface="Calibri"/>
                <a:ea typeface="新細明體"/>
              </a:rPr>
              <a:t>bookkeeping cod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 in case prediction is wro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1857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71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If an instruction can be moved and thereby make the trace execute faster, it is mo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1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Compiler undoes bad guess (discards values in registe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1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ubtle compiler bugs mean wrong answ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vs. poorer performance; no hardware interl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572000" y="5373720"/>
            <a:ext cx="2303280" cy="143964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0800" bIns="10800" anchor="ctr">
            <a:noAutofit/>
          </a:bodyPr>
          <a:p>
            <a:pPr>
              <a:lnSpc>
                <a:spcPct val="80000"/>
              </a:lnSpc>
              <a:tabLst>
                <a:tab algn="l" pos="536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A[i] = A[i]+B[i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536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新細明體"/>
              </a:rPr>
              <a:t>B[i]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536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新細明體"/>
              </a:rPr>
              <a:t>C[i]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536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if(A[i]!=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536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6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536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536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476360" y="5445000"/>
            <a:ext cx="2087280" cy="129672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0800" bIns="10800" anchor="ctr">
            <a:noAutofit/>
          </a:bodyPr>
          <a:p>
            <a:pPr>
              <a:lnSpc>
                <a:spcPct val="80000"/>
              </a:lnSpc>
              <a:tabLst>
                <a:tab algn="l" pos="71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A[i] = A[i]+B[i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71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if(A[i]==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71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新細明體"/>
              </a:rPr>
              <a:t>B[i]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71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71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71136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新細明體"/>
              </a:rPr>
              <a:t>C[i]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3851280" y="5950080"/>
            <a:ext cx="431280" cy="215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AB2E99-50C2-40E0-A821-D7FC2F70792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250920" y="189000"/>
            <a:ext cx="4752720" cy="28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00ff"/>
                </a:solidFill>
                <a:latin typeface="Calibri"/>
                <a:ea typeface="新細明體"/>
              </a:rPr>
              <a:t>Unwinding Frequent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1008000" y="1244520"/>
            <a:ext cx="3203280" cy="3609720"/>
          </a:xfrm>
          <a:prstGeom prst="rect">
            <a:avLst/>
          </a:prstGeom>
          <a:ln w="9525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5567400" y="409680"/>
            <a:ext cx="3396960" cy="6302160"/>
          </a:xfrm>
          <a:prstGeom prst="rect">
            <a:avLst/>
          </a:prstGeom>
          <a:ln w="9525">
            <a:noFill/>
          </a:ln>
        </p:spPr>
      </p:pic>
      <p:sp>
        <p:nvSpPr>
          <p:cNvPr id="205" name="Text Box 8"/>
          <p:cNvSpPr/>
          <p:nvPr/>
        </p:nvSpPr>
        <p:spPr>
          <a:xfrm>
            <a:off x="108000" y="5357880"/>
            <a:ext cx="5471640" cy="13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Assume it’s the inner loop and the likely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Unwind it four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Require the compiler to generate and trace the compens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2"/>
          <p:cNvSpPr/>
          <p:nvPr/>
        </p:nvSpPr>
        <p:spPr>
          <a:xfrm>
            <a:off x="5364000" y="1915920"/>
            <a:ext cx="2952720" cy="360"/>
          </a:xfrm>
          <a:prstGeom prst="line">
            <a:avLst/>
          </a:prstGeom>
          <a:ln w="127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Line 13"/>
          <p:cNvSpPr/>
          <p:nvPr/>
        </p:nvSpPr>
        <p:spPr>
          <a:xfrm>
            <a:off x="5364000" y="3429000"/>
            <a:ext cx="2952720" cy="360"/>
          </a:xfrm>
          <a:prstGeom prst="line">
            <a:avLst/>
          </a:prstGeom>
          <a:ln w="127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5364000" y="5013000"/>
            <a:ext cx="2952720" cy="360"/>
          </a:xfrm>
          <a:prstGeom prst="line">
            <a:avLst/>
          </a:prstGeom>
          <a:ln w="127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Group 23"/>
          <p:cNvGrpSpPr/>
          <p:nvPr/>
        </p:nvGrpSpPr>
        <p:grpSpPr>
          <a:xfrm>
            <a:off x="684000" y="836280"/>
            <a:ext cx="1943640" cy="4321440"/>
            <a:chOff x="684000" y="836280"/>
            <a:chExt cx="1943640" cy="4321440"/>
          </a:xfrm>
        </p:grpSpPr>
        <p:sp>
          <p:nvSpPr>
            <p:cNvPr id="210" name="Line 16"/>
            <p:cNvSpPr/>
            <p:nvPr/>
          </p:nvSpPr>
          <p:spPr>
            <a:xfrm>
              <a:off x="2555640" y="836280"/>
              <a:ext cx="360" cy="4320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>
              <a:off x="684000" y="1052280"/>
              <a:ext cx="187164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Line 18"/>
            <p:cNvSpPr/>
            <p:nvPr/>
          </p:nvSpPr>
          <p:spPr>
            <a:xfrm>
              <a:off x="684000" y="1052280"/>
              <a:ext cx="360" cy="38894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Line 19"/>
            <p:cNvSpPr/>
            <p:nvPr/>
          </p:nvSpPr>
          <p:spPr>
            <a:xfrm>
              <a:off x="2627280" y="4724280"/>
              <a:ext cx="360" cy="4334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Line 20"/>
            <p:cNvSpPr/>
            <p:nvPr/>
          </p:nvSpPr>
          <p:spPr>
            <a:xfrm flipH="1">
              <a:off x="684000" y="4941720"/>
              <a:ext cx="194328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Num" idx="2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5DD4EA-4265-4D02-A9A9-DCA7C88C7F0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040" cy="44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新細明體"/>
              </a:rPr>
              <a:t>Superbl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5280" y="1268280"/>
            <a:ext cx="8497440" cy="36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520" indent="-182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superblock: single entry point but allow multiple ex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352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Compacting a superblock is much easier than compacting a tr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Tail du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352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Create a separate block that corresponds to the portion of the trace after the e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Superblock approach vs. trace-based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352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Reduce the complexity of bookkeeping and scheduling, but may enlarge code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352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Both may be most appropriate when other techniques f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Num" idx="2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39E6D4-72AC-4495-9D22-9D6A0B6FD94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24000" y="333360"/>
            <a:ext cx="2877840" cy="57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00ff"/>
                </a:solidFill>
                <a:latin typeface="Calibri"/>
                <a:ea typeface="新細明體"/>
              </a:rPr>
              <a:t>Tail Du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3747960" y="262080"/>
            <a:ext cx="5287680" cy="6479640"/>
          </a:xfrm>
          <a:prstGeom prst="rect">
            <a:avLst/>
          </a:prstGeom>
          <a:ln w="9525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3203280" cy="3609720"/>
          </a:xfrm>
          <a:prstGeom prst="rect">
            <a:avLst/>
          </a:prstGeom>
          <a:ln w="9525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250920" y="5516640"/>
            <a:ext cx="3455640" cy="100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Create a separate block that corresponds to the portion of the trace after th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6877080" y="2060640"/>
            <a:ext cx="2231640" cy="3455640"/>
          </a:xfrm>
          <a:prstGeom prst="rect">
            <a:avLst/>
          </a:prstGeom>
          <a:noFill/>
          <a:ln w="127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95640" y="4292640"/>
            <a:ext cx="1584000" cy="1079280"/>
          </a:xfrm>
          <a:prstGeom prst="rect">
            <a:avLst/>
          </a:prstGeom>
          <a:noFill/>
          <a:ln w="1905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Num" idx="2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452A2D-8F4C-4008-BF96-E311E016B6A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08000" y="609480"/>
            <a:ext cx="8892720" cy="44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新細明體"/>
              </a:rPr>
              <a:t>Summary - Software Approaches to Exploiting I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11280" y="14842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680" indent="-274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Basic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loop unrolling and basic pipeline schedu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software pipel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T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trace scheduling and unwinding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Super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tail du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D8E7BD-0B10-449A-AEB5-C41F8A0C329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04920" y="228600"/>
            <a:ext cx="8011800" cy="39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  <a:ea typeface="新細明體"/>
              </a:rPr>
              <a:t>4.4 Advanced Compiler Support For I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79280" y="1371600"/>
            <a:ext cx="8713440" cy="441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01760" indent="-40176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How can compilers be sma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1. Produce good scheduling of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2. Determine which loops might contain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3. Eliminate nam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Compilers must be REALLY smart to figure out aliases -- pointers in C are a real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Two important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5880" indent="-40176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Software Pipelining - Symbolic Loop Unr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5880" indent="-40176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Trace Scheduling - Critical Path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Num" idx="1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154362-2C8B-42DC-9047-5AC9E8BE0B5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04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00ff"/>
                </a:solidFill>
                <a:latin typeface="Calibri"/>
                <a:ea typeface="新細明體"/>
              </a:rPr>
              <a:t>Loop-Level Dependence and Paralle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50920" y="1197000"/>
            <a:ext cx="8280000" cy="51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Loop-carried dependence: data accesses in later iterations are dependent on data values produced in earlier it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tructures analyzed at source level by compilers, such 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lo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array re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induction variable compu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Loop-level paralle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dependence between two uses of x[i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dependent within a single iteration, not loop carr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A loop is parallel if it can written without a cycle in the dependences, since the absence of a cycle means that the dependences give a partial ordering on the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5580000" y="4149720"/>
            <a:ext cx="3239640" cy="674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95763C-F7B6-4D40-A432-583809AC936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04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00ff"/>
                </a:solidFill>
                <a:latin typeface="Calibri"/>
                <a:ea typeface="新細明體"/>
              </a:rPr>
              <a:t>Loop-Level Dependence and Paralle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50920" y="1197000"/>
            <a:ext cx="8280000" cy="51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Loop-carried dependence: data accesses in later iterations are dependent on data values produced in earlier it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tructures analyzed at source level by compilers, such 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lo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array re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induction variable compu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Loop-level paralle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dependence between two uses of x[i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dependent within a single iteration, not loop carr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A loop is parallel if it can written without a cycle in the dependences, since the absence of a cycle means that the dependences give a partial ordering on the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5580000" y="4149720"/>
            <a:ext cx="3239640" cy="674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7B37DE-F2AF-4D0F-BC45-BD22E9FAAEA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04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00ff"/>
                </a:solidFill>
                <a:latin typeface="Calibri"/>
                <a:ea typeface="新細明體"/>
              </a:rPr>
              <a:t>P.320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79280" y="2924280"/>
            <a:ext cx="8784720" cy="29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Assume A, B, and C are distinct, non-overlapping arr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Two different depend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Dependence of S1 is on an earlier iteration of S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1: A[i+1] depends on A[i], S2: B[i+1] depends on B[i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2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forces successive iterations to execute in se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B[i+1] in S2 uses A[i+1] computed by S1 in the same it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Multiple iterations of the loop could execute in parall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400360" cy="1429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Num" idx="1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C0A055-6D18-4421-AF38-264BAA80A17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040" cy="44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00ff"/>
                </a:solidFill>
                <a:latin typeface="Calibri"/>
                <a:ea typeface="新細明體"/>
              </a:rPr>
              <a:t>P.321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50920" y="2205000"/>
            <a:ext cx="84974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323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Loop-carried dependence between S2 (B[i+1]) and S1 (B[i]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1280" indent="-269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not circular: neither statement depends on itsel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1280" indent="-269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1 depends on S2, but S2 does not depend on S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0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This loop can be made parall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0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3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Interchan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1280" indent="-269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no longer loop carr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843280" y="981000"/>
            <a:ext cx="3685680" cy="980640"/>
          </a:xfrm>
          <a:prstGeom prst="rect">
            <a:avLst/>
          </a:prstGeom>
          <a:ln w="9525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2843280" y="5084640"/>
            <a:ext cx="3200040" cy="1447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5A5B20-0DB5-4B87-ADE8-0D460FA4475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040" cy="43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00ff"/>
                </a:solidFill>
                <a:latin typeface="Calibri"/>
                <a:ea typeface="新細明體"/>
              </a:rPr>
              <a:t>Array Rena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000" y="3141720"/>
            <a:ext cx="8280000" cy="24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True dependences from S1 to S3 and from S1 to S4, based on Y[i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8200" indent="-26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not loop carr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antidependence from S1 to S2, based on X[i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antidependence from S3 to S4 for Y[i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output dependence from S1 to S4, based on Y[i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2933280" cy="1409400"/>
          </a:xfrm>
          <a:prstGeom prst="rect">
            <a:avLst/>
          </a:prstGeom>
          <a:ln w="9525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3780000" y="907920"/>
            <a:ext cx="5181120" cy="2085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Num" idx="1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1CEF82-16D1-4773-88FE-35AF6F4A98D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83240" cy="56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新細明體"/>
              </a:rPr>
              <a:t>Software Pipel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4000" y="836640"/>
            <a:ext cx="8583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74600" indent="-174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Observation: if iterations from loops are independent, then can get ILP by taking instructions from different it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Software pipelining: interleave instructions from different loop it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228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reorganizes loops so that each iteration is made from instructions chosen from different iterations of the original loop (Tomasulo in S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1187280" y="3208320"/>
            <a:ext cx="6453000" cy="3604680"/>
          </a:xfrm>
          <a:prstGeom prst="rect">
            <a:avLst/>
          </a:prstGeom>
          <a:ln w="9525">
            <a:noFill/>
          </a:ln>
        </p:spPr>
      </p:pic>
      <p:sp>
        <p:nvSpPr>
          <p:cNvPr id="155" name="Text Box 9"/>
          <p:cNvSpPr/>
          <p:nvPr/>
        </p:nvSpPr>
        <p:spPr>
          <a:xfrm>
            <a:off x="1619280" y="6381720"/>
            <a:ext cx="3528720" cy="28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imilar to hardware pipel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Num" idx="1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21AD6E-4C75-463D-AF0C-7A5AF0BF12B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5291280" y="260280"/>
            <a:ext cx="367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00ff"/>
                </a:solidFill>
                <a:latin typeface="Calibri"/>
                <a:ea typeface="新細明體"/>
              </a:rPr>
              <a:t>Software Pipelining</a:t>
            </a:r>
            <a:br>
              <a:rPr sz="2800"/>
            </a:br>
            <a:r>
              <a:rPr b="0" lang="en-US" sz="2800" spc="-1" strike="noStrike">
                <a:solidFill>
                  <a:srgbClr val="ff00ff"/>
                </a:solidFill>
                <a:latin typeface="Calibri"/>
                <a:ea typeface="新細明體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oup 33"/>
          <p:cNvGrpSpPr/>
          <p:nvPr/>
        </p:nvGrpSpPr>
        <p:grpSpPr>
          <a:xfrm>
            <a:off x="468360" y="1773360"/>
            <a:ext cx="7919640" cy="1468080"/>
            <a:chOff x="468360" y="1773360"/>
            <a:chExt cx="7919640" cy="1468080"/>
          </a:xfrm>
        </p:grpSpPr>
        <p:sp>
          <p:nvSpPr>
            <p:cNvPr id="159" name="Rectangle 25"/>
            <p:cNvSpPr/>
            <p:nvPr/>
          </p:nvSpPr>
          <p:spPr>
            <a:xfrm>
              <a:off x="468360" y="1773360"/>
              <a:ext cx="256176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441360"/>
                  <a:tab algn="l" pos="12492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1 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L.D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F0,0(R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441360"/>
                  <a:tab algn="l" pos="1249200"/>
                </a:tabLst>
              </a:pP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2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ADD.D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F4,F0,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441360"/>
                  <a:tab algn="l" pos="1249200"/>
                </a:tabLst>
              </a:pP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3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S.D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F4,0(R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6"/>
            <p:cNvSpPr/>
            <p:nvPr/>
          </p:nvSpPr>
          <p:spPr>
            <a:xfrm>
              <a:off x="2952720" y="2041560"/>
              <a:ext cx="271728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441360"/>
                  <a:tab algn="l" pos="12492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4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L.D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F0,-8(R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441360"/>
                  <a:tab algn="l" pos="12492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5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ADD.D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F4,F0,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441360"/>
                  <a:tab algn="l" pos="12492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6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S.D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ff3300"/>
                  </a:solidFill>
                  <a:latin typeface="Courier New"/>
                  <a:ea typeface="新細明體"/>
                </a:rPr>
                <a:t>F4,-8(R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5514840" y="2328840"/>
              <a:ext cx="287316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441360"/>
                  <a:tab algn="l" pos="12492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7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L.D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F0,-16(R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441360"/>
                  <a:tab algn="l" pos="1249200"/>
                </a:tabLst>
              </a:pP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8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ADD.D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F4,F0,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441360"/>
                  <a:tab algn="l" pos="1249200"/>
                </a:tabLst>
              </a:pP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9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S.D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2"/>
                  </a:solidFill>
                  <a:latin typeface="Courier New"/>
                  <a:ea typeface="新細明體"/>
                </a:rPr>
                <a:t>F4,-16(R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566640" y="2354400"/>
              <a:ext cx="7676640" cy="29808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32"/>
          <p:cNvGrpSpPr/>
          <p:nvPr/>
        </p:nvGrpSpPr>
        <p:grpSpPr>
          <a:xfrm>
            <a:off x="179280" y="189000"/>
            <a:ext cx="3744720" cy="1322640"/>
            <a:chOff x="179280" y="189000"/>
            <a:chExt cx="3744720" cy="1322640"/>
          </a:xfrm>
        </p:grpSpPr>
        <p:sp>
          <p:nvSpPr>
            <p:cNvPr id="164" name="Rectangle 30"/>
            <p:cNvSpPr/>
            <p:nvPr/>
          </p:nvSpPr>
          <p:spPr>
            <a:xfrm>
              <a:off x="179280" y="189000"/>
              <a:ext cx="3744720" cy="1322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90000"/>
                </a:lnSpc>
                <a:tabLst>
                  <a:tab algn="l" pos="808200"/>
                  <a:tab algn="l" pos="1082520"/>
                  <a:tab algn="l" pos="2057400"/>
                </a:tabLst>
              </a:pP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LOOP: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1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L.D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F0,0(R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808200"/>
                  <a:tab algn="l" pos="1082520"/>
                  <a:tab algn="l" pos="2057400"/>
                </a:tabLst>
              </a:pP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2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ADD.D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F4,F0,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808200"/>
                  <a:tab algn="l" pos="1082520"/>
                  <a:tab algn="l" pos="2057400"/>
                </a:tabLst>
              </a:pP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3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S.D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chemeClr val="accent1"/>
                  </a:solidFill>
                  <a:latin typeface="Courier New"/>
                  <a:ea typeface="新細明體"/>
                </a:rPr>
                <a:t>F4,0(R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808200"/>
                  <a:tab algn="l" pos="1082520"/>
                  <a:tab algn="l" pos="2057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DADDUI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R1,R1,#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808200"/>
                  <a:tab algn="l" pos="1082520"/>
                  <a:tab algn="l" pos="2057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5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BN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新細明體"/>
                </a:rPr>
                <a:t>R1,R2,LO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1011240" y="204840"/>
              <a:ext cx="2736360" cy="129492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Text Box 34"/>
          <p:cNvSpPr/>
          <p:nvPr/>
        </p:nvSpPr>
        <p:spPr>
          <a:xfrm>
            <a:off x="3780000" y="907920"/>
            <a:ext cx="1296720" cy="60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alibri"/>
                <a:ea typeface="新細明體"/>
              </a:rPr>
              <a:t>(5/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新細明體"/>
              </a:rPr>
              <a:t>2 RAW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3871800" y="3360600"/>
            <a:ext cx="5092200" cy="33760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3600" indent="-363600">
              <a:lnSpc>
                <a:spcPct val="9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After: Software Pipelined </a:t>
            </a:r>
            <a:r>
              <a:rPr b="0" lang="en-US" sz="1600" spc="-1" strike="noStrike">
                <a:solidFill>
                  <a:schemeClr val="accent2"/>
                </a:solidFill>
                <a:latin typeface="Calibri"/>
                <a:ea typeface="新細明體"/>
              </a:rPr>
              <a:t>(5/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1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L.D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F0,0(R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2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ADD.D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F4,F0,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L.D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F0,-8(R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3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S.D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F4,0(R1);   Stores M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5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ADD.D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F4,F0,F2;   Adds to M[i-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7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L.D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F0,-16(R1); loads M[i-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ADDU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1,R1,</a:t>
            </a:r>
            <a:r>
              <a:rPr b="0" lang="en-US" sz="1800" spc="-1" strike="noStrike">
                <a:solidFill>
                  <a:srgbClr val="1f497d"/>
                </a:solidFill>
                <a:latin typeface="Courier New"/>
                <a:ea typeface="新細明體"/>
              </a:rPr>
              <a:t>#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N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1,R2,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6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S.D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F4,-8(R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8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ADD.D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F4,F0,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9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S.D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F4,-16(R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3155760" y="4383000"/>
            <a:ext cx="762120" cy="279360"/>
          </a:xfrm>
          <a:prstGeom prst="line">
            <a:avLst/>
          </a:prstGeom>
          <a:ln w="127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3181320" y="4910040"/>
            <a:ext cx="736560" cy="6120"/>
          </a:xfrm>
          <a:prstGeom prst="line">
            <a:avLst/>
          </a:prstGeom>
          <a:ln w="127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20"/>
          <p:cNvSpPr/>
          <p:nvPr/>
        </p:nvSpPr>
        <p:spPr>
          <a:xfrm flipV="1">
            <a:off x="3203280" y="5214600"/>
            <a:ext cx="733680" cy="227160"/>
          </a:xfrm>
          <a:prstGeom prst="line">
            <a:avLst/>
          </a:prstGeom>
          <a:ln w="127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3930480" y="4522680"/>
            <a:ext cx="4962240" cy="1377720"/>
          </a:xfrm>
          <a:prstGeom prst="rect">
            <a:avLst/>
          </a:prstGeom>
          <a:noFill/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250920" y="3352680"/>
            <a:ext cx="3744720" cy="3389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Before: Unrolled 3 times </a:t>
            </a:r>
            <a:r>
              <a:rPr b="0" lang="en-US" sz="1600" spc="-1" strike="noStrike">
                <a:solidFill>
                  <a:schemeClr val="accent2"/>
                </a:solidFill>
                <a:latin typeface="Calibri"/>
                <a:ea typeface="新細明體"/>
              </a:rPr>
              <a:t>(11/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1 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L.D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F0,0(R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2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ADD.D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F4,F0,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3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S.D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ourier New"/>
                <a:ea typeface="新細明體"/>
              </a:rPr>
              <a:t>F4,0(R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4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L.D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F0,-8(R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5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ADD.D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F4,F0,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6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S.D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  <a:ea typeface="新細明體"/>
              </a:rPr>
              <a:t>F4,-8(R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7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L.D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F0,-16(R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8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ADD.D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F4,F0,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9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S.D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chemeClr val="accent2"/>
                </a:solidFill>
                <a:latin typeface="Courier New"/>
                <a:ea typeface="新細明體"/>
              </a:rPr>
              <a:t>F4,-16(R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ADDU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1,R1,</a:t>
            </a:r>
            <a:r>
              <a:rPr b="0" lang="en-US" sz="1800" spc="-1" strike="noStrike">
                <a:solidFill>
                  <a:srgbClr val="1f497d"/>
                </a:solidFill>
                <a:latin typeface="Courier New"/>
                <a:ea typeface="新細明體"/>
              </a:rPr>
              <a:t>#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N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1,R2,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5"/>
          <p:cNvSpPr/>
          <p:nvPr/>
        </p:nvSpPr>
        <p:spPr>
          <a:xfrm>
            <a:off x="6804000" y="4149720"/>
            <a:ext cx="2088720" cy="358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新細明體"/>
              </a:rPr>
              <a:t>No RAW! (2 W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6"/>
          <p:cNvSpPr/>
          <p:nvPr/>
        </p:nvSpPr>
        <p:spPr>
          <a:xfrm>
            <a:off x="250920" y="3676680"/>
            <a:ext cx="3025440" cy="302400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968</Words>
  <Paragraphs>19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dministrator</cp:lastModifiedBy>
  <dcterms:modified xsi:type="dcterms:W3CDTF">2011-02-25T06:10:29Z</dcterms:modified>
  <cp:revision>3</cp:revision>
  <dc:subject/>
  <dc:title>4.4 Advanced Compiler Support For IL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6</vt:r8>
  </property>
</Properties>
</file>