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F38B-94A2-4690-A72F-1541A955E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6AA3-6CDA-4BC3-A78A-084E6381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74F-6B6F-48D2-AF3B-9ADF2BC99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81EA-17C8-4E02-8E6C-9F75CD27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CDA8-B833-4611-B8D3-2717942CB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F5AB7-BC27-423E-A32B-13CDF9846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2A85-5E68-464E-A4CD-6711412C8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2EB6-FEB8-4106-A069-75CAC2C7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571F-D640-4130-B412-F373A5885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512F-D5FA-4ADA-B834-AF803E39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849-F35D-4B58-982B-9BEB81602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7C46-8358-44BE-BF81-6AAC53B1E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98DB4-8458-46D0-BB87-A803A79C4701}" type="slidenum">
              <a:rPr b="0" lang="ar-SA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514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ervical Fascia &amp; Posterior Triang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rcRect l="25627" t="21000" r="23126" b="10001"/>
          <a:stretch/>
        </p:blipFill>
        <p:spPr>
          <a:xfrm>
            <a:off x="995400" y="457200"/>
            <a:ext cx="6929280" cy="5830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"/>
          <p:cNvPicPr/>
          <p:nvPr/>
        </p:nvPicPr>
        <p:blipFill>
          <a:blip r:embed="rId1"/>
          <a:srcRect l="53125" t="28001" r="19376" b="13001"/>
          <a:stretch/>
        </p:blipFill>
        <p:spPr>
          <a:xfrm>
            <a:off x="2057400" y="69840"/>
            <a:ext cx="5029200" cy="6743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21360"/>
          </a:xfrm>
          <a:prstGeom prst="rect">
            <a:avLst/>
          </a:prstGeom>
          <a:ln w="0">
            <a:noFill/>
          </a:ln>
        </p:spPr>
      </p:pic>
      <p:sp>
        <p:nvSpPr>
          <p:cNvPr id="53" name="WordArt 5"/>
          <p:cNvSpPr txBox="1"/>
          <p:nvPr/>
        </p:nvSpPr>
        <p:spPr>
          <a:xfrm>
            <a:off x="1981080" y="4343400"/>
            <a:ext cx="4157640" cy="23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Thank you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"/>
          <p:cNvPicPr/>
          <p:nvPr/>
        </p:nvPicPr>
        <p:blipFill>
          <a:blip r:embed="rId1"/>
          <a:srcRect l="14377" t="21000" r="16252" b="10001"/>
          <a:stretch/>
        </p:blipFill>
        <p:spPr>
          <a:xfrm>
            <a:off x="457200" y="609480"/>
            <a:ext cx="845820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509840" y="1285920"/>
            <a:ext cx="6124320" cy="4286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547560" y="762120"/>
            <a:ext cx="8293320" cy="51814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200"/>
          <p:cNvPicPr/>
          <p:nvPr/>
        </p:nvPicPr>
        <p:blipFill>
          <a:blip r:embed="rId1"/>
          <a:srcRect l="14329" t="2223" r="17948" b="4731"/>
          <a:stretch/>
        </p:blipFill>
        <p:spPr>
          <a:xfrm>
            <a:off x="1066680" y="228600"/>
            <a:ext cx="6629400" cy="6434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rcRect l="14377" t="22001" r="12502" b="10998"/>
          <a:stretch/>
        </p:blipFill>
        <p:spPr>
          <a:xfrm>
            <a:off x="0" y="762120"/>
            <a:ext cx="8915400" cy="5105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rcRect l="13751" t="21000" r="12502" b="10001"/>
          <a:stretch/>
        </p:blipFill>
        <p:spPr>
          <a:xfrm>
            <a:off x="152280" y="685800"/>
            <a:ext cx="8991720" cy="5257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201"/>
          <p:cNvPicPr/>
          <p:nvPr/>
        </p:nvPicPr>
        <p:blipFill>
          <a:blip r:embed="rId1"/>
          <a:srcRect l="15211" t="6677" r="10859" b="3980"/>
          <a:stretch/>
        </p:blipFill>
        <p:spPr>
          <a:xfrm>
            <a:off x="1131840" y="380880"/>
            <a:ext cx="6878520" cy="5867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"/>
          <p:cNvPicPr/>
          <p:nvPr/>
        </p:nvPicPr>
        <p:blipFill>
          <a:blip r:embed="rId1"/>
          <a:srcRect l="26876" t="23003" r="25001" b="7998"/>
          <a:stretch/>
        </p:blipFill>
        <p:spPr>
          <a:xfrm>
            <a:off x="1447920" y="420840"/>
            <a:ext cx="6503760" cy="58276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r. Hafez</cp:lastModifiedBy>
  <dcterms:modified xsi:type="dcterms:W3CDTF">2012-09-14T13:57:35Z</dcterms:modified>
  <cp:revision>2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