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EC0-D90A-4FFC-A2AE-0FDD0B53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4A7-DB94-418E-BC42-D346423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1D1-D0DA-440A-9D51-15C2040F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C28-22AA-430A-B3C2-DAD3BC55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BF0-03E9-4951-B104-DEA254A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8F4-F18F-4E6E-8605-A451F1D3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9D0-3001-461F-B220-CA388C3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293-1131-4907-B7AC-7C74BA6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334-ADDC-4201-9AE9-F5F12B4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BA2-FDFC-4310-AA23-BE22072B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31C-BA03-47AE-B0F8-7D5B429D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745-14D3-4ADF-A72A-41FB09C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7B5-8A1C-4BB5-88E6-00DF14D32ABF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ervical Fascia &amp; Posterior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rcRect l="25627" t="21000" r="23126" b="10001"/>
          <a:stretch/>
        </p:blipFill>
        <p:spPr>
          <a:xfrm>
            <a:off x="995400" y="457200"/>
            <a:ext cx="6929280" cy="583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rcRect l="53125" t="28001" r="19376" b="13001"/>
          <a:stretch/>
        </p:blipFill>
        <p:spPr>
          <a:xfrm>
            <a:off x="2057400" y="69840"/>
            <a:ext cx="5029200" cy="674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1981080" y="4343400"/>
            <a:ext cx="41576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4377" t="21000" r="16252" b="10001"/>
          <a:stretch/>
        </p:blipFill>
        <p:spPr>
          <a:xfrm>
            <a:off x="457200" y="60948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09840" y="1285920"/>
            <a:ext cx="612432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47560" y="762120"/>
            <a:ext cx="8293320" cy="51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200"/>
          <p:cNvPicPr/>
          <p:nvPr/>
        </p:nvPicPr>
        <p:blipFill>
          <a:blip r:embed="rId1"/>
          <a:srcRect l="14329" t="2223" r="17948" b="4731"/>
          <a:stretch/>
        </p:blipFill>
        <p:spPr>
          <a:xfrm>
            <a:off x="1066680" y="228600"/>
            <a:ext cx="6629400" cy="643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rcRect l="14377" t="22001" r="12502" b="10998"/>
          <a:stretch/>
        </p:blipFill>
        <p:spPr>
          <a:xfrm>
            <a:off x="0" y="762120"/>
            <a:ext cx="8915400" cy="51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13751" t="21000" r="12502" b="10001"/>
          <a:stretch/>
        </p:blipFill>
        <p:spPr>
          <a:xfrm>
            <a:off x="152280" y="685800"/>
            <a:ext cx="899172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"/>
          <p:cNvPicPr/>
          <p:nvPr/>
        </p:nvPicPr>
        <p:blipFill>
          <a:blip r:embed="rId1"/>
          <a:srcRect l="15211" t="6677" r="10859" b="3980"/>
          <a:stretch/>
        </p:blipFill>
        <p:spPr>
          <a:xfrm>
            <a:off x="1131840" y="380880"/>
            <a:ext cx="6878520" cy="586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rcRect l="26876" t="23003" r="25001" b="7998"/>
          <a:stretch/>
        </p:blipFill>
        <p:spPr>
          <a:xfrm>
            <a:off x="1447920" y="420840"/>
            <a:ext cx="6503760" cy="582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afez</cp:lastModifiedBy>
  <dcterms:modified xsi:type="dcterms:W3CDTF">2012-09-14T13:57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