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FB09-BF4A-4A63-A09C-A37D3E11E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8DA8-33C6-4E92-924C-CCD1AE489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E74C-DD66-4A19-ABF3-D72C30DA0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6401-F26B-421C-B4BB-94BC5A7F9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D7F1-A58E-4B4E-A45F-76E3BEFA2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8893-8C43-4FF5-A44A-811A7F045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2346-93A6-4167-BB3E-D0A72DB2B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AF43-171C-46A6-B664-E92505CB6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7524-CECF-4449-B41B-E7CAF1F1B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4FD8-1F5F-4654-8B19-B06F4266E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2656-1E33-49D0-9103-E42200AD4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BE7C-1DA0-49B8-AFB4-FECA45ADE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FEF39-9645-400D-A4A7-B3A1B4D568D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5.xml"/><Relationship Id="rId3" Type="http://schemas.openxmlformats.org/officeDocument/2006/relationships/image" Target="../media/image6.jpeg"/><Relationship Id="rId4" Type="http://schemas.openxmlformats.org/officeDocument/2006/relationships/slide" Target="slide7.xml"/><Relationship Id="rId5" Type="http://schemas.openxmlformats.org/officeDocument/2006/relationships/image" Target="../media/image7.jpeg"/><Relationship Id="rId6" Type="http://schemas.openxmlformats.org/officeDocument/2006/relationships/hyperlink" Target="file:///../../&#1601;&#1607;&#1585;&#1587;%20&#1575;&#1604;&#1578;&#1585;&#1575;&#1606;&#1610;&#1605;.pps" TargetMode="External"/><Relationship Id="rId7" Type="http://schemas.openxmlformats.org/officeDocument/2006/relationships/image" Target="../media/image7.jpeg"/><Relationship Id="rId8" Type="http://schemas.openxmlformats.org/officeDocument/2006/relationships/slide" Target="slide2.xml"/><Relationship Id="rId9" Type="http://schemas.openxmlformats.org/officeDocument/2006/relationships/image" Target="../media/image6.jpeg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979640" y="1123920"/>
            <a:ext cx="5014800" cy="100800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82000"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ليك اليد العليا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116000" y="2131920"/>
            <a:ext cx="6913440" cy="108108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75000"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و</a:t>
            </a:r>
            <a:r>
              <a:rPr b="1" lang="ar-EG" sz="7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كلمة الأخيرة لك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-66600" y="3687840"/>
            <a:ext cx="9391680" cy="72072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71000"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و</a:t>
            </a:r>
            <a:r>
              <a:rPr b="1" lang="ar-EG" sz="7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لا مخلوق في الدنيا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4511520"/>
            <a:ext cx="9396360" cy="107964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و</a:t>
            </a:r>
            <a:r>
              <a:rPr b="1" lang="ar-EG" sz="7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لا في الكون مش خاضع لك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706920" y="115920"/>
            <a:ext cx="2160360" cy="79200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Arial"/>
              </a:rPr>
              <a:t>القرار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580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468720" y="1410840"/>
            <a:ext cx="9937800" cy="187164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txBody>
          <a:bodyPr anchor="b" anchorCtr="1">
            <a:noAutofit/>
          </a:bodyPr>
          <a:p>
            <a:pPr indent="0" algn="ctr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مين ده اللي بيأمر 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دون علمك مين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971640" y="3139920"/>
            <a:ext cx="7488000" cy="259416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82000"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و</a:t>
            </a:r>
            <a:r>
              <a:rPr b="1" lang="ar-EG" sz="8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يطبق شرع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ماهوش أمرك مين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706920" y="115920"/>
            <a:ext cx="2160360" cy="79200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ar-EG" sz="6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EG" sz="66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580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728640" y="1197000"/>
            <a:ext cx="7515360" cy="103824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ده العالي فوقه الأعلى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9080" y="2492280"/>
            <a:ext cx="6983280" cy="103824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67000"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و</a:t>
            </a:r>
            <a:r>
              <a:rPr b="1" lang="ar-EG" sz="7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سايد فوقهم عرشك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979640" y="1123920"/>
            <a:ext cx="5014800" cy="100800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82000"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ليك اليد العليا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16000" y="2131920"/>
            <a:ext cx="6913440" cy="108108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75000"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و</a:t>
            </a:r>
            <a:r>
              <a:rPr b="1" lang="ar-EG" sz="7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كلمة الأخيرة لك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-66600" y="3687840"/>
            <a:ext cx="9391680" cy="72072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71000"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و</a:t>
            </a:r>
            <a:r>
              <a:rPr b="1" lang="ar-EG" sz="7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لا مخلوق في الدنيا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4511520"/>
            <a:ext cx="9396360" cy="107964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و</a:t>
            </a:r>
            <a:r>
              <a:rPr b="1" lang="ar-EG" sz="7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لا في الكون مش خاضع لك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706920" y="115920"/>
            <a:ext cx="2160360" cy="79200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Arial"/>
              </a:rPr>
              <a:t>القرار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360" y="2060640"/>
            <a:ext cx="9144000" cy="81900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65000"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مين د</a:t>
            </a:r>
            <a:r>
              <a:rPr b="1" lang="ar-EG" sz="72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</a:t>
            </a:r>
            <a:r>
              <a:rPr b="1" lang="ar-SA" sz="7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اللي يقاوم رايتك مين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6080" y="3311640"/>
            <a:ext cx="8613720" cy="90936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70000"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أو </a:t>
            </a:r>
            <a:r>
              <a:rPr b="1" lang="ar-EG" sz="7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حتى فرد في شعبك مين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706920" y="115920"/>
            <a:ext cx="2160360" cy="79200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ar-EG" sz="6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EG" sz="66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923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77920" y="1341360"/>
            <a:ext cx="8686800" cy="144000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و</a:t>
            </a:r>
            <a:r>
              <a:rPr b="1" lang="ar-EG" sz="7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يفسر إمهالك ليه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07960" y="3070080"/>
            <a:ext cx="8456760" cy="107964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بأنه فلت من دينونتك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979640" y="1123920"/>
            <a:ext cx="5014800" cy="100800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82000"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ليك اليد العليا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116000" y="2131920"/>
            <a:ext cx="6913440" cy="108108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75000"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و</a:t>
            </a:r>
            <a:r>
              <a:rPr b="1" lang="ar-EG" sz="7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كلمة الأخيرة لك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-66600" y="3687840"/>
            <a:ext cx="9391680" cy="72072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71000"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و</a:t>
            </a:r>
            <a:r>
              <a:rPr b="1" lang="ar-EG" sz="7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لا مخلوق في الدنيا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4511520"/>
            <a:ext cx="9396360" cy="107964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و</a:t>
            </a:r>
            <a:r>
              <a:rPr b="1" lang="ar-EG" sz="7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لا في الكون مش خاضع لك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706920" y="115920"/>
            <a:ext cx="2160360" cy="79200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Arial"/>
              </a:rPr>
              <a:t>القرار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74" name="">
            <a:hlinkClick r:id="rId2" action="ppaction://hlinksldjump"/>
          </p:cNvPr>
          <p:cNvSpPr/>
          <p:nvPr/>
        </p:nvSpPr>
        <p:spPr>
          <a:xfrm>
            <a:off x="5292720" y="1413000"/>
            <a:ext cx="3816360" cy="7077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</a:rPr>
              <a:t>- مين دا اللي يقاو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>
            <a:hlinkClick r:id="rId4" action="ppaction://hlinksldjump"/>
          </p:cNvPr>
          <p:cNvSpPr/>
          <p:nvPr/>
        </p:nvSpPr>
        <p:spPr>
          <a:xfrm>
            <a:off x="108000" y="1281240"/>
            <a:ext cx="4176720" cy="707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ff"/>
                </a:solidFill>
                <a:latin typeface="Arial"/>
              </a:rPr>
              <a:t> القرار : ليك اليد العليا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92">
            <a:hlinkClick r:id="rId6"/>
          </p:cNvPr>
          <p:cNvSpPr/>
          <p:nvPr/>
        </p:nvSpPr>
        <p:spPr>
          <a:xfrm>
            <a:off x="900000" y="260280"/>
            <a:ext cx="2519640" cy="119124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  <a:effectLst>
            <a:outerShdw dist="28496" dir="922551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0000ff"/>
                </a:solidFill>
                <a:latin typeface="Arial"/>
                <a:cs typeface="Arabic Transparent"/>
              </a:rPr>
              <a:t>فهرس التراني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>
            <a:hlinkClick r:id="rId8" action="ppaction://hlinksldjump"/>
          </p:cNvPr>
          <p:cNvSpPr/>
          <p:nvPr/>
        </p:nvSpPr>
        <p:spPr>
          <a:xfrm>
            <a:off x="5292720" y="417600"/>
            <a:ext cx="3816360" cy="70776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</a:rPr>
              <a:t>- مين دا اللي بيأم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3T12:54:40Z</dcterms:created>
  <dc:creator>Steve</dc:creator>
  <dc:description/>
  <dc:language>en-US</dc:language>
  <cp:lastModifiedBy>Sp2</cp:lastModifiedBy>
  <dcterms:modified xsi:type="dcterms:W3CDTF">2009-01-21T12:44:33Z</dcterms:modified>
  <cp:revision>379</cp:revision>
  <dc:subject/>
  <dc:title>أنا باطلب لمسة من هدب ثوبك</dc:title>
</cp:coreProperties>
</file>