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4BE-74B1-470B-B4FC-9DDC96AC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2C8-E441-4B70-8377-2058661C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6D3-4024-4ED6-AE15-EF9C8505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BCE-3051-4620-9AB1-589503D9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749-458F-4255-8AE7-52E8E5E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F9E-F634-4515-91AA-CF2524CB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487-CA27-4780-9F14-177DB9FE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AFE-ED88-4CD4-AD13-0DBAA82A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5C2-6D83-47A6-A508-1B72D7EC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16B-A584-47EE-A725-D10E7C2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FE2-D1EF-4F20-BB4E-351A039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3FA-E085-45EA-B65B-DEF1834B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B3B1-7C5F-4510-A518-FBC2F20178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slide" Target="slide7.xml"/><Relationship Id="rId5" Type="http://schemas.openxmlformats.org/officeDocument/2006/relationships/image" Target="../media/image7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7.jpeg"/><Relationship Id="rId8" Type="http://schemas.openxmlformats.org/officeDocument/2006/relationships/slide" Target="slide2.xm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1123920"/>
            <a:ext cx="5014800" cy="100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2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ك اليد العل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2131920"/>
            <a:ext cx="6913440" cy="1081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5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كلمة الأخيرة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66600" y="3687840"/>
            <a:ext cx="9391680" cy="7207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1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مخلوق في الدن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11520"/>
            <a:ext cx="9396360" cy="1079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في الكون مش خاضع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68720" y="1410840"/>
            <a:ext cx="9937800" cy="187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txBody>
          <a:bodyPr anchor="b" anchorCtr="1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ين ده اللي بيأمر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علمك مين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139920"/>
            <a:ext cx="7488000" cy="25941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2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طبق شر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هوش أمرك مين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8640" y="1197000"/>
            <a:ext cx="7515360" cy="10382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ه العالي فوقه الأعلى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9080" y="2492280"/>
            <a:ext cx="6983280" cy="10382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67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سايد فوقهم عرش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1123920"/>
            <a:ext cx="5014800" cy="100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2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ك اليد العل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2131920"/>
            <a:ext cx="6913440" cy="1081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5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كلمة الأخيرة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66600" y="3687840"/>
            <a:ext cx="9391680" cy="7207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1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مخلوق في الدن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11520"/>
            <a:ext cx="9396360" cy="1079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في الكون مش خاضع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60" y="2060640"/>
            <a:ext cx="9144000" cy="819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ين د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اللي يقاوم رايتك م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" y="3311640"/>
            <a:ext cx="8613720" cy="909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0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و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تى فرد في شعبك م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920" y="1341360"/>
            <a:ext cx="8686800" cy="1440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فسر إمهالك ليه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960" y="3070080"/>
            <a:ext cx="8456760" cy="1079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أنه فلت من دينونت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1123920"/>
            <a:ext cx="5014800" cy="100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2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ك اليد العل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2131920"/>
            <a:ext cx="6913440" cy="1081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5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كلمة الأخيرة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6600" y="3687840"/>
            <a:ext cx="9391680" cy="7207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1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مخلوق في الدن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511520"/>
            <a:ext cx="9396360" cy="1079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في الكون مش خاضع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مين دا اللي يقاو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ليك اليد العليا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2">
            <a:hlinkClick r:id="rId6"/>
          </p:cNvPr>
          <p:cNvSpPr/>
          <p:nvPr/>
        </p:nvSpPr>
        <p:spPr>
          <a:xfrm>
            <a:off x="900000" y="260280"/>
            <a:ext cx="251964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مين دا اللي بيأم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2:54:40Z</dcterms:created>
  <dc:creator>Steve</dc:creator>
  <dc:description/>
  <dc:language>en-US</dc:language>
  <cp:lastModifiedBy>Sp2</cp:lastModifiedBy>
  <dcterms:modified xsi:type="dcterms:W3CDTF">2009-01-21T12:44:33Z</dcterms:modified>
  <cp:revision>379</cp:revision>
  <dc:subject/>
  <dc:title>أنا باطلب لمسة من هدب ثوبك</dc:title>
</cp:coreProperties>
</file>