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_rels/presentation.xml.rels" ContentType="application/vnd.openxmlformats-package.relationships+xml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50.png" ContentType="image/png"/>
  <Override PartName="/ppt/media/camera.wav" ContentType="audio/x-wav"/>
  <Override PartName="/ppt/media/image6.png" ContentType="image/png"/>
  <Override PartName="/ppt/media/image42.jpeg" ContentType="image/jpeg"/>
  <Override PartName="/ppt/media/image83.png" ContentType="image/png"/>
  <Override PartName="/ppt/media/image46.png" ContentType="image/png"/>
  <Override PartName="/ppt/media/laser.wav" ContentType="audio/x-wav"/>
  <Override PartName="/ppt/media/image57.png" ContentType="image/png"/>
  <Override PartName="/ppt/media/image45.png" ContentType="image/png"/>
  <Override PartName="/ppt/media/image44.jpeg" ContentType="image/jpeg"/>
  <Override PartName="/ppt/media/image43.jpeg" ContentType="image/jpeg"/>
  <Override PartName="/ppt/media/image39.jpeg" ContentType="image/jpeg"/>
  <Override PartName="/ppt/media/image2.gif" ContentType="image/gif"/>
  <Override PartName="/ppt/media/image82.png" ContentType="image/png"/>
  <Override PartName="/ppt/media/image98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56.png" ContentType="image/png"/>
  <Override PartName="/ppt/media/image13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8.wmf" ContentType="image/x-wmf"/>
  <Override PartName="/ppt/media/image54.png" ContentType="image/png"/>
  <Override PartName="/ppt/media/image41.jpeg" ContentType="image/jpeg"/>
  <Override PartName="/ppt/media/image66.png" ContentType="image/png"/>
  <Override PartName="/ppt/media/image14.jpeg" ContentType="image/jpeg"/>
  <Override PartName="/ppt/media/image33.jpeg" ContentType="image/jpeg"/>
  <Override PartName="/ppt/media/image4.gif" ContentType="image/gif"/>
  <Override PartName="/ppt/media/whoosh.wav" ContentType="audio/x-wav"/>
  <Override PartName="/ppt/media/image47.png" ContentType="image/png"/>
  <Override PartName="/ppt/media/image35.jpeg" ContentType="image/jpeg"/>
  <Override PartName="/ppt/media/image1.jpeg" ContentType="image/jpeg"/>
  <Override PartName="/ppt/media/image89.jpeg" ContentType="image/jpeg"/>
  <Override PartName="/ppt/media/image58.png" ContentType="image/png"/>
  <Override PartName="/ppt/media/image60.png" ContentType="image/png"/>
  <Override PartName="/ppt/media/image90.jpeg" ContentType="image/jpeg"/>
  <Override PartName="/ppt/media/type.wav" ContentType="audio/x-wav"/>
  <Override PartName="/ppt/media/image59.png" ContentType="image/png"/>
  <Override PartName="/ppt/media/image61.png" ContentType="image/png"/>
  <Override PartName="/ppt/media/image94.jpeg" ContentType="image/jpeg"/>
  <Override PartName="/ppt/media/image63.png" ContentType="image/png"/>
  <Override PartName="/ppt/media/image64.png" ContentType="image/png"/>
  <Override PartName="/ppt/media/image15.jpeg" ContentType="image/jpeg"/>
  <Override PartName="/ppt/media/image68.png" ContentType="image/png"/>
  <Override PartName="/ppt/media/image70.png" ContentType="image/png"/>
  <Override PartName="/ppt/media/image91.jpeg" ContentType="image/jpeg"/>
  <Override PartName="/ppt/media/image67.png" ContentType="image/png"/>
  <Override PartName="/ppt/media/image69.png" ContentType="image/png"/>
  <Override PartName="/ppt/media/image76.png" ContentType="image/png"/>
  <Override PartName="/ppt/media/image85.gif" ContentType="image/gif"/>
  <Override PartName="/ppt/media/image71.png" ContentType="image/png"/>
  <Override PartName="/ppt/media/CHOUPETTA(mail).wav" ContentType="audio/x-wav"/>
  <Override PartName="/ppt/media/image78.png" ContentType="image/png"/>
  <Override PartName="/ppt/media/image62.png" ContentType="image/png"/>
  <Override PartName="/ppt/media/image96.jpeg" ContentType="image/jpeg"/>
  <Override PartName="/ppt/media/image77.png" ContentType="image/png"/>
  <Override PartName="/ppt/media/image102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applause.wav" ContentType="audio/x-wav"/>
  <Override PartName="/ppt/media/image79.png" ContentType="image/png"/>
  <Override PartName="/ppt/media/image26.jpeg" ContentType="image/jpeg"/>
  <Override PartName="/ppt/media/image93.jpeg" ContentType="image/jpeg"/>
  <Override PartName="/ppt/media/image74.png" ContentType="image/png"/>
  <Override PartName="/ppt/media/image73.png" ContentType="image/png"/>
  <Override PartName="/ppt/media/image95.jpeg" ContentType="image/jpeg"/>
  <Override PartName="/ppt/media/image52.png" ContentType="image/png"/>
  <Override PartName="/ppt/media/image25.jpeg" ContentType="image/jpeg"/>
  <Override PartName="/ppt/media/image84.jpeg" ContentType="image/jpeg"/>
  <Override PartName="/ppt/media/image99.jpeg" ContentType="image/jpeg"/>
  <Override PartName="/ppt/media/image24.gif" ContentType="image/gif"/>
  <Override PartName="/ppt/media/image32.jpeg" ContentType="image/jpeg"/>
  <Override PartName="/ppt/media/image49.png" ContentType="image/png"/>
  <Override PartName="/ppt/media/image5.gif" ContentType="image/gif"/>
  <Override PartName="/ppt/media/image23.jpeg" ContentType="image/jpeg"/>
  <Override PartName="/ppt/media/image21.jpeg" ContentType="image/jpeg"/>
  <Override PartName="/ppt/media/image100.jpeg" ContentType="image/jpeg"/>
  <Override PartName="/ppt/media/image65.png" ContentType="image/png"/>
  <Override PartName="/ppt/media/image19.jpeg" ContentType="image/jpeg"/>
  <Override PartName="/ppt/media/image18.jpeg" ContentType="image/jpeg"/>
  <Override PartName="/ppt/media/image38.jpeg" ContentType="image/jpeg"/>
  <Override PartName="/ppt/media/image97.jpeg" ContentType="image/jpeg"/>
  <Override PartName="/ppt/media/image72.png" ContentType="image/png"/>
  <Override PartName="/ppt/media/image17.jpeg" ContentType="image/jpeg"/>
  <Override PartName="/ppt/media/carbrake.wav" ContentType="audio/x-wav"/>
  <Override PartName="/ppt/media/image92.jpeg" ContentType="image/jpeg"/>
  <Override PartName="/ppt/media/image80.png" ContentType="image/png"/>
  <Override PartName="/ppt/media/image3.png" ContentType="image/png"/>
  <Override PartName="/ppt/media/image22.jpeg" ContentType="image/jpeg"/>
  <Override PartName="/ppt/media/image101.jpeg" ContentType="image/jpeg"/>
  <Override PartName="/ppt/media/image7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7FAD-7FAC-4B9D-BF98-A7E83322C454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956C-5FB5-49F7-807B-B75FDF3AE7E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FFBD-7FAD-4F1C-8432-9CC3DEE95E3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EA67-EFB4-4CEF-87B5-9F4C4D22D86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892D-4AD5-4706-A550-465ACBE7F32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1ACB-9722-43F2-9B99-E1CFCC80ABE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7140-0AB4-4557-8BFA-83B5FF6D06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9976-77D3-4160-80DF-A0748881FB9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B2A0-0CD7-4A07-B063-A035FFE1D0F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7563-8E57-4DDF-8E7A-66E43C809C3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1E11-F1F1-44CB-84D7-9B93653577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3B19-B5C3-478B-B500-B832E331620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65ED-FDFF-42F5-BB3A-0A0FC70B738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0B90-63E2-4D26-9D2A-9053412B4F8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AAE1-33CC-4438-AD64-6A00FB4FF1E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60B9-3841-4847-AE6E-171E5DE169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om pot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i cela peut-il bien êtr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omment est-ce possibl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No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h, les homm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t en plus il n’est pas beau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’est lui qui va au casse-p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alut l’arti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ais non, tu n’es pas visé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oi j’aime pas les jamais conten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s de panique, c’est un air qu’il se don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L’herbe est toujours plus verte aill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On t’a vu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ridi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Être si proche du but.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ci, on ne connait p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Vas-y Louis, tu tiens le bon 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y flowers are beauti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Oh la belle rou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ertains chefs se reconnaitron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633C-0F6E-4878-9E4E-E9537826927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CA09-91F2-4EBB-A4AE-A809B868523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44C5-7318-4116-A11F-67CA3E0B17F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D20F-4538-4DD2-B64B-79FDB099256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F4C4-3B8A-4400-AF93-0ABE6DAB28F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3DBF-35B1-484F-B87D-76A21D4AAB0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E073-5935-4CCC-AD5E-0C899FA17FA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B373-1CD5-4288-A9E9-ED6E080562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6D9B-7850-4403-BAA9-567B94B72E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5A4C-0ACC-49F8-9236-16ED7E10EDF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9524-947F-4B09-BDBF-FB7A657D2C5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EB73-3747-43AB-B2B2-10876AA57CB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46EB-49E5-47B1-9898-411EAB540C6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DE63-2BA5-42D8-A611-37FDE534E7A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DD74-0EE2-459F-92D8-4A929C35A9C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F79D-1311-436A-B388-CB55D2901F8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D570-A2E9-4D1D-B964-2DF85320B0A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6E8E-8952-418E-9D56-6C5935754B2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6766-03A7-439A-80E1-E280E21E3C4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299-1C32-4015-A1D3-D0EB8F82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B38-3626-48F2-AE6E-BC47A5EE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6FD-4595-41E4-BCF5-333140AA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BA2-393D-4BC7-86BF-4A4CAB5E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9B8-0C59-432B-945C-A090B2C1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414-5403-4652-A021-5B891284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F4A-98C3-445B-86D7-CB59A79F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197-F1BE-4A98-9ECA-861A7D28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F88-6763-4124-8F8F-23C01379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77C-2E9C-496D-9546-C87BA6D1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E59-0A67-495A-BD10-FE31E093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ADC-D007-4424-9DD6-C34AC3CF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A423-DE03-40D3-BE6A-559E7AFE6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8.xml"/><Relationship Id="rId4" Type="http://schemas.openxmlformats.org/officeDocument/2006/relationships/slide" Target="slide39.xml"/><Relationship Id="rId5" Type="http://schemas.openxmlformats.org/officeDocument/2006/relationships/slide" Target="slide80.xml"/><Relationship Id="rId6" Type="http://schemas.openxmlformats.org/officeDocument/2006/relationships/slide" Target="slide82.xml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image" Target="../media/image44.jpeg"/><Relationship Id="rId6" Type="http://schemas.openxmlformats.org/officeDocument/2006/relationships/image" Target="../media/image44.jpeg"/><Relationship Id="rId7" Type="http://schemas.openxmlformats.org/officeDocument/2006/relationships/image" Target="../media/image44.jpeg"/><Relationship Id="rId8" Type="http://schemas.openxmlformats.org/officeDocument/2006/relationships/image" Target="../media/image44.jpeg"/><Relationship Id="rId9" Type="http://schemas.openxmlformats.org/officeDocument/2006/relationships/image" Target="../media/image44.jpeg"/><Relationship Id="rId10" Type="http://schemas.openxmlformats.org/officeDocument/2006/relationships/image" Target="../media/image44.jpeg"/><Relationship Id="rId11" Type="http://schemas.openxmlformats.org/officeDocument/2006/relationships/image" Target="../media/image44.jpeg"/><Relationship Id="rId12" Type="http://schemas.openxmlformats.org/officeDocument/2006/relationships/image" Target="../media/image44.jpeg"/><Relationship Id="rId13" Type="http://schemas.openxmlformats.org/officeDocument/2006/relationships/image" Target="../media/image44.jpeg"/><Relationship Id="rId14" Type="http://schemas.openxmlformats.org/officeDocument/2006/relationships/image" Target="../media/image44.jpeg"/><Relationship Id="rId15" Type="http://schemas.openxmlformats.org/officeDocument/2006/relationships/image" Target="../media/image44.jpeg"/><Relationship Id="rId16" Type="http://schemas.openxmlformats.org/officeDocument/2006/relationships/image" Target="../media/image44.jpeg"/><Relationship Id="rId17" Type="http://schemas.openxmlformats.org/officeDocument/2006/relationships/image" Target="../media/image44.jpeg"/><Relationship Id="rId18" Type="http://schemas.openxmlformats.org/officeDocument/2006/relationships/image" Target="../media/image44.jpeg"/><Relationship Id="rId19" Type="http://schemas.openxmlformats.org/officeDocument/2006/relationships/image" Target="../media/image44.jpeg"/><Relationship Id="rId20" Type="http://schemas.openxmlformats.org/officeDocument/2006/relationships/image" Target="../media/image44.jpeg"/><Relationship Id="rId21" Type="http://schemas.openxmlformats.org/officeDocument/2006/relationships/image" Target="../media/image44.jpeg"/><Relationship Id="rId22" Type="http://schemas.openxmlformats.org/officeDocument/2006/relationships/image" Target="../media/image44.jpeg"/><Relationship Id="rId23" Type="http://schemas.openxmlformats.org/officeDocument/2006/relationships/image" Target="../media/image44.jpeg"/><Relationship Id="rId24" Type="http://schemas.openxmlformats.org/officeDocument/2006/relationships/image" Target="../media/image44.jpeg"/><Relationship Id="rId25" Type="http://schemas.openxmlformats.org/officeDocument/2006/relationships/image" Target="../media/image44.jpeg"/><Relationship Id="rId26" Type="http://schemas.openxmlformats.org/officeDocument/2006/relationships/image" Target="../media/image44.jpeg"/><Relationship Id="rId27" Type="http://schemas.openxmlformats.org/officeDocument/2006/relationships/image" Target="../media/image44.jpeg"/><Relationship Id="rId28" Type="http://schemas.openxmlformats.org/officeDocument/2006/relationships/image" Target="../media/image44.jpeg"/><Relationship Id="rId29" Type="http://schemas.openxmlformats.org/officeDocument/2006/relationships/image" Target="../media/image44.jpeg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jpeg"/><Relationship Id="rId3" Type="http://schemas.openxmlformats.org/officeDocument/2006/relationships/slide" Target="slide1.xml"/><Relationship Id="rId4" Type="http://schemas.openxmlformats.org/officeDocument/2006/relationships/audio" Target="../media/applaus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gi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UPETTA(mail)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 grapjes (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17928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aten - vrouw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eg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Coup doeil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324000" y="5157720"/>
            <a:ext cx="395892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us computerku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8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eb1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1125360"/>
            <a:ext cx="5400720" cy="4535640"/>
          </a:xfrm>
          <a:prstGeom prst="donut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907920"/>
            <a:ext cx="5904000" cy="4826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836640"/>
            <a:ext cx="5904000" cy="5400720"/>
          </a:xfrm>
          <a:prstGeom prst="flowChartAlternateProcess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692280"/>
            <a:ext cx="6193080" cy="5761080"/>
          </a:xfrm>
          <a:prstGeom prst="flowChartAlternateProcess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836640"/>
            <a:ext cx="5904000" cy="540072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2060640"/>
            <a:ext cx="518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ie de tranen van een vrouw wegkust, wordt eraan herinnerd dat haar verdriet met een korreltje zout zou opvat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WordArt 4"/>
          <p:cNvSpPr txBox="1"/>
          <p:nvPr/>
        </p:nvSpPr>
        <p:spPr>
          <a:xfrm>
            <a:off x="684360" y="2565360"/>
            <a:ext cx="770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je notities op een computer ze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8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" descr="0000000000000000000000000000"/>
          <p:cNvPicPr/>
          <p:nvPr/>
        </p:nvPicPr>
        <p:blipFill>
          <a:blip r:embed="rId2"/>
          <a:stretch/>
        </p:blipFill>
        <p:spPr>
          <a:xfrm>
            <a:off x="539640" y="404640"/>
            <a:ext cx="8064720" cy="6035760"/>
          </a:xfrm>
          <a:prstGeom prst="rect">
            <a:avLst/>
          </a:prstGeom>
          <a:ln w="0">
            <a:noFill/>
          </a:ln>
        </p:spPr>
      </p:pic>
      <p:sp>
        <p:nvSpPr>
          <p:cNvPr id="501" name="WordArt 8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WordArt 4"/>
          <p:cNvSpPr txBox="1"/>
          <p:nvPr/>
        </p:nvSpPr>
        <p:spPr>
          <a:xfrm>
            <a:off x="1116000" y="1268280"/>
            <a:ext cx="7272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lke toets j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et indrukke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ls je er eve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iet uitkom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3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4" descr="000000000000000000000000"/>
          <p:cNvPicPr/>
          <p:nvPr/>
        </p:nvPicPr>
        <p:blipFill>
          <a:blip r:embed="rId2"/>
          <a:stretch/>
        </p:blipFill>
        <p:spPr>
          <a:xfrm>
            <a:off x="611280" y="692280"/>
            <a:ext cx="7777080" cy="5527440"/>
          </a:xfrm>
          <a:prstGeom prst="rect">
            <a:avLst/>
          </a:prstGeom>
          <a:ln w="0">
            <a:noFill/>
          </a:ln>
        </p:spPr>
      </p:pic>
      <p:sp>
        <p:nvSpPr>
          <p:cNvPr id="506" name="WordArt 8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WordArt 4"/>
          <p:cNvSpPr txBox="1"/>
          <p:nvPr/>
        </p:nvSpPr>
        <p:spPr>
          <a:xfrm>
            <a:off x="826920" y="1628640"/>
            <a:ext cx="77058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ereedschappe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m je pc te repareren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8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000000000000000000000000000"/>
          <p:cNvPicPr/>
          <p:nvPr/>
        </p:nvPicPr>
        <p:blipFill>
          <a:blip r:embed="rId2"/>
          <a:stretch/>
        </p:blipFill>
        <p:spPr>
          <a:xfrm>
            <a:off x="1042920" y="404640"/>
            <a:ext cx="7058160" cy="6266160"/>
          </a:xfrm>
          <a:prstGeom prst="rect">
            <a:avLst/>
          </a:prstGeom>
          <a:ln w="0">
            <a:noFill/>
          </a:ln>
        </p:spPr>
      </p:pic>
      <p:sp>
        <p:nvSpPr>
          <p:cNvPr id="510" name="WordArt 8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WordArt 4"/>
          <p:cNvSpPr txBox="1"/>
          <p:nvPr/>
        </p:nvSpPr>
        <p:spPr>
          <a:xfrm>
            <a:off x="1258920" y="1916280"/>
            <a:ext cx="7129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beer geen slaaf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an je computer te worden!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2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00000000000000000000000000"/>
          <p:cNvPicPr/>
          <p:nvPr/>
        </p:nvPicPr>
        <p:blipFill>
          <a:blip r:embed="rId2"/>
          <a:stretch/>
        </p:blipFill>
        <p:spPr>
          <a:xfrm>
            <a:off x="971640" y="333360"/>
            <a:ext cx="7345440" cy="6165720"/>
          </a:xfrm>
          <a:prstGeom prst="rect">
            <a:avLst/>
          </a:prstGeom>
          <a:ln w="0">
            <a:noFill/>
          </a:ln>
        </p:spPr>
      </p:pic>
      <p:sp>
        <p:nvSpPr>
          <p:cNvPr id="514" name="WordArt 8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WordArt 4"/>
          <p:cNvSpPr txBox="1"/>
          <p:nvPr/>
        </p:nvSpPr>
        <p:spPr>
          <a:xfrm>
            <a:off x="1042920" y="1700280"/>
            <a:ext cx="7201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neem j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e pc mee naa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uis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6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9" descr="00000000000000000000000"/>
          <p:cNvPicPr/>
          <p:nvPr/>
        </p:nvPicPr>
        <p:blipFill>
          <a:blip r:embed="rId2"/>
          <a:stretch/>
        </p:blipFill>
        <p:spPr>
          <a:xfrm>
            <a:off x="2268360" y="404640"/>
            <a:ext cx="5092920" cy="6120000"/>
          </a:xfrm>
          <a:prstGeom prst="rect">
            <a:avLst/>
          </a:prstGeom>
          <a:ln w="0">
            <a:noFill/>
          </a:ln>
        </p:spPr>
      </p:pic>
      <p:sp>
        <p:nvSpPr>
          <p:cNvPr id="518" name="WordArt 12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981000"/>
            <a:ext cx="360360" cy="496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12000" y="907920"/>
            <a:ext cx="360360" cy="496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229360"/>
            <a:ext cx="806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1413000"/>
            <a:ext cx="8064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981000"/>
            <a:ext cx="360360" cy="496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229360"/>
            <a:ext cx="806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1413000"/>
            <a:ext cx="8064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12000" y="907920"/>
            <a:ext cx="360360" cy="496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981000"/>
            <a:ext cx="360360" cy="496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5229360"/>
            <a:ext cx="806472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413000"/>
            <a:ext cx="8064360" cy="36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1125360"/>
            <a:ext cx="914400" cy="914400"/>
          </a:xfrm>
          <a:prstGeom prst="octagon">
            <a:avLst>
              <a:gd name="adj" fmla="val 2928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96360" y="1052640"/>
            <a:ext cx="914400" cy="914400"/>
          </a:xfrm>
          <a:prstGeom prst="octagon">
            <a:avLst>
              <a:gd name="adj" fmla="val 2928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4869000"/>
            <a:ext cx="914400" cy="91440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51640" y="4797360"/>
            <a:ext cx="914400" cy="914400"/>
          </a:xfrm>
          <a:prstGeom prst="octagon">
            <a:avLst>
              <a:gd name="adj" fmla="val 29287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2492280"/>
            <a:ext cx="5400720" cy="1800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59120" y="2565360"/>
            <a:ext cx="506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j die een mooie goede en intelligente vrouw zoekt zal er drie nodig heb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WordArt 4"/>
          <p:cNvSpPr txBox="1"/>
          <p:nvPr/>
        </p:nvSpPr>
        <p:spPr>
          <a:xfrm>
            <a:off x="755640" y="1557360"/>
            <a:ext cx="75614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maak je j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puter schoon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0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5" descr="2497_descarga"/>
          <p:cNvPicPr/>
          <p:nvPr/>
        </p:nvPicPr>
        <p:blipFill>
          <a:blip r:embed="rId2"/>
          <a:stretch/>
        </p:blipFill>
        <p:spPr>
          <a:xfrm>
            <a:off x="1187280" y="0"/>
            <a:ext cx="720108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4"/>
          <p:cNvSpPr txBox="1"/>
          <p:nvPr/>
        </p:nvSpPr>
        <p:spPr>
          <a:xfrm>
            <a:off x="611280" y="2565360"/>
            <a:ext cx="784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onderhoud je je computer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4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5" descr="2993_descarga"/>
          <p:cNvPicPr/>
          <p:nvPr/>
        </p:nvPicPr>
        <p:blipFill>
          <a:blip r:embed="rId2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526" name="WordArt 10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WordArt 5"/>
          <p:cNvSpPr txBox="1"/>
          <p:nvPr/>
        </p:nvSpPr>
        <p:spPr>
          <a:xfrm>
            <a:off x="755640" y="1773360"/>
            <a:ext cx="7632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ursus compleet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e bent nu een expert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8" name="WordArt 7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529" name="">
            <a:hlinkClick r:id="rId2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4797360"/>
            <a:ext cx="72007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2920" y="5445000"/>
            <a:ext cx="712944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1052640"/>
            <a:ext cx="72007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549360"/>
            <a:ext cx="7200720" cy="7128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835280" y="1413000"/>
            <a:ext cx="0" cy="29527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258920" y="1413000"/>
            <a:ext cx="0" cy="29527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1341000"/>
            <a:ext cx="0" cy="309564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885080" y="1413000"/>
            <a:ext cx="0" cy="302400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1341360"/>
            <a:ext cx="5040360" cy="3097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9999"/>
                </a:solidFill>
                <a:latin typeface="Times New Roman"/>
              </a:rPr>
              <a:t>Trouwe vrouw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9999"/>
                </a:solidFill>
                <a:latin typeface="Times New Roman"/>
              </a:rPr>
              <a:t>De vrouw die haar man trouw blijft in de moeilijkheden die hij zonder haar nooit zou hebben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260280"/>
            <a:ext cx="8207280" cy="619308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396720" y="0"/>
            <a:ext cx="954072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324000" y="0"/>
            <a:ext cx="10009440" cy="7316640"/>
          </a:xfrm>
          <a:prstGeom prst="rect">
            <a:avLst/>
          </a:prstGeom>
          <a:solidFill>
            <a:srgbClr val="606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21453600">
            <a:off x="395280" y="692280"/>
            <a:ext cx="1219320" cy="216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21453600">
            <a:off x="7380000" y="549360"/>
            <a:ext cx="1218960" cy="2089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302600">
            <a:off x="1476000" y="404640"/>
            <a:ext cx="6669000" cy="6118560"/>
          </a:xfrm>
          <a:prstGeom prst="irregularSeal2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9280" y="2205000"/>
            <a:ext cx="302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Times New Roman"/>
              </a:rPr>
              <a:t>Mijn vrouw leidt een dubbel leven: het hare en het mij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260280"/>
            <a:ext cx="871380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1125360"/>
            <a:ext cx="4465440" cy="295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340000" y="1125360"/>
            <a:ext cx="4464000" cy="2951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40000" y="1125360"/>
            <a:ext cx="4464000" cy="295128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411280" y="1197000"/>
            <a:ext cx="4321440" cy="2808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268360" y="1125360"/>
            <a:ext cx="4608720" cy="3024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340000" y="1197000"/>
            <a:ext cx="4464000" cy="2879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195640" y="1052640"/>
            <a:ext cx="4752720" cy="316836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4797360"/>
            <a:ext cx="684072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2000" y="4724280"/>
            <a:ext cx="6480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genwoordig dansen de mensen zo ver uit elkaar: de man in de ene, en de vrouw in de andere gelegenheid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47640" y="1052640"/>
            <a:ext cx="0" cy="309564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1557360"/>
            <a:ext cx="0" cy="223200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96360" y="1052640"/>
            <a:ext cx="0" cy="309564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72360" y="1484280"/>
            <a:ext cx="0" cy="223200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844640"/>
            <a:ext cx="0" cy="1584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75640" y="1773360"/>
            <a:ext cx="0" cy="1584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2411280" y="119700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7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50920" y="1844640"/>
            <a:ext cx="1296720" cy="396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4941720"/>
            <a:ext cx="655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501336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elf de mooiste vrouw mag niet teveel b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71640" y="692280"/>
            <a:ext cx="1152360" cy="5616360"/>
          </a:xfrm>
          <a:custGeom>
            <a:avLst/>
            <a:gdLst>
              <a:gd name="textAreaLeft" fmla="*/ 262800 w 1152360"/>
              <a:gd name="textAreaRight" fmla="*/ 889560 w 1152360"/>
              <a:gd name="textAreaTop" fmla="*/ 1281960 h 5616360"/>
              <a:gd name="textAreaBottom" fmla="*/ 4334400 h 56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620640"/>
            <a:ext cx="1224000" cy="5616720"/>
          </a:xfrm>
          <a:custGeom>
            <a:avLst/>
            <a:gdLst>
              <a:gd name="textAreaLeft" fmla="*/ 279360 w 1224000"/>
              <a:gd name="textAreaRight" fmla="*/ 944640 w 1224000"/>
              <a:gd name="textAreaTop" fmla="*/ 1281960 h 5616720"/>
              <a:gd name="textAreaBottom" fmla="*/ 4334760 h 561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1916280"/>
            <a:ext cx="39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Menigeen is vader geworden zonder dat zijn vrouw daar iets van gemerkt   heef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11280" y="1628640"/>
            <a:ext cx="4321440" cy="316872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60280"/>
            <a:ext cx="8569080" cy="64087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1413000"/>
            <a:ext cx="6192720" cy="3889080"/>
          </a:xfrm>
          <a:custGeom>
            <a:avLst/>
            <a:gdLst>
              <a:gd name="textAreaLeft" fmla="*/ 1413720 w 6192720"/>
              <a:gd name="textAreaRight" fmla="*/ 4779000 w 6192720"/>
              <a:gd name="textAreaTop" fmla="*/ 887760 h 3889080"/>
              <a:gd name="textAreaBottom" fmla="*/ 3001320 h 38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7640" y="242100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imes New Roman"/>
              </a:rPr>
              <a:t>Eind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5661000"/>
            <a:ext cx="2448000" cy="36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16000" y="5734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ps arno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2000" y="6308640"/>
            <a:ext cx="2520720" cy="0"/>
          </a:xfrm>
          <a:prstGeom prst="line">
            <a:avLst/>
          </a:prstGeom>
          <a:ln w="47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8532720" y="4076640"/>
            <a:ext cx="0" cy="2232000"/>
          </a:xfrm>
          <a:prstGeom prst="line">
            <a:avLst/>
          </a:prstGeom>
          <a:ln w="47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84720" y="5950080"/>
            <a:ext cx="2016360" cy="0"/>
          </a:xfrm>
          <a:prstGeom prst="line">
            <a:avLst/>
          </a:prstGeom>
          <a:ln w="47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101080" y="4149360"/>
            <a:ext cx="0" cy="1800360"/>
          </a:xfrm>
          <a:prstGeom prst="line">
            <a:avLst/>
          </a:prstGeom>
          <a:ln w="47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24000" y="620640"/>
            <a:ext cx="0" cy="1727280"/>
          </a:xfrm>
          <a:prstGeom prst="line">
            <a:avLst/>
          </a:prstGeom>
          <a:ln w="47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549360"/>
            <a:ext cx="2087280" cy="0"/>
          </a:xfrm>
          <a:prstGeom prst="line">
            <a:avLst/>
          </a:prstGeom>
          <a:ln w="47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55640" y="836640"/>
            <a:ext cx="0" cy="1512720"/>
          </a:xfrm>
          <a:prstGeom prst="line">
            <a:avLst/>
          </a:prstGeom>
          <a:ln w="47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907920"/>
            <a:ext cx="1655640" cy="0"/>
          </a:xfrm>
          <a:prstGeom prst="line">
            <a:avLst/>
          </a:prstGeom>
          <a:ln w="47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1996920"/>
            <a:ext cx="914400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Arial"/>
              </a:rPr>
              <a:t>De beesten van kanto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kleine verkli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4100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989000"/>
            <a:ext cx="4248000" cy="1295640"/>
          </a:xfrm>
          <a:custGeom>
            <a:avLst/>
            <a:gdLst>
              <a:gd name="textAreaLeft" fmla="*/ 0 w 4248000"/>
              <a:gd name="textAreaRight" fmla="*/ 4248000 w 4248000"/>
              <a:gd name="textAreaTop" fmla="*/ 167760 h 1295640"/>
              <a:gd name="textAreaBottom" fmla="*/ 1127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220500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"/>
              </a:rPr>
              <a:t>Vrouw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549360"/>
            <a:ext cx="4032000" cy="1274760"/>
          </a:xfrm>
          <a:custGeom>
            <a:avLst/>
            <a:gdLst>
              <a:gd name="textAreaLeft" fmla="*/ 0 w 4032000"/>
              <a:gd name="textAreaRight" fmla="*/ 4032360 w 4032000"/>
              <a:gd name="textAreaTop" fmla="*/ 165240 h 1274760"/>
              <a:gd name="textAreaBottom" fmla="*/ 110952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981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comic"/>
              </a:rPr>
              <a:t>Leuke ‘ ci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7340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et een knipoog naar de vrouw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9564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grootverbruiker van de kan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Het zoontje van de b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rcRect l="0" t="0" r="-384" b="5990"/>
          <a:stretch/>
        </p:blipFill>
        <p:spPr>
          <a:xfrm>
            <a:off x="1714680" y="1900080"/>
            <a:ext cx="57369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Het vriendje van de b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441936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flauwe grappenmak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rcRect l="0" t="0" r="-1357" b="11917"/>
          <a:stretch/>
        </p:blipFill>
        <p:spPr>
          <a:xfrm>
            <a:off x="1908000" y="1700280"/>
            <a:ext cx="5400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Le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557360" y="1700280"/>
            <a:ext cx="60292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regels aan z’n laars la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0958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nieuwsgieri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571500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altijd ontevreden  colle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14600" y="1447920"/>
            <a:ext cx="3933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De intelligent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rcRect l="0" t="0" r="-1346" b="14909"/>
          <a:stretch/>
        </p:blipFill>
        <p:spPr>
          <a:xfrm>
            <a:off x="1835280" y="1700280"/>
            <a:ext cx="532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goï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0" r="0" b="13066"/>
          <a:stretch/>
        </p:blipFill>
        <p:spPr>
          <a:xfrm>
            <a:off x="1547640" y="1557360"/>
            <a:ext cx="6048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4560" y="549360"/>
            <a:ext cx="431640" cy="56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7640" y="549360"/>
            <a:ext cx="431640" cy="56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2560" y="1054080"/>
            <a:ext cx="7920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2560" y="5230800"/>
            <a:ext cx="7920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7280" y="1916280"/>
            <a:ext cx="4248360" cy="26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4560" y="549360"/>
            <a:ext cx="431640" cy="561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549360"/>
            <a:ext cx="431640" cy="5616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2560" y="1054080"/>
            <a:ext cx="7920000" cy="432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2560" y="5230800"/>
            <a:ext cx="7920000" cy="431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2133720"/>
            <a:ext cx="4392720" cy="2447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1484280"/>
            <a:ext cx="6048720" cy="37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5280" y="2276640"/>
            <a:ext cx="5473440" cy="1739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Toen de loodgieter ziek werd, bad zijn vrouw voor een goede af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Sp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617220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De meestersp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8672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De gefrusteer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rcRect l="0" t="0" r="0" b="14050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profi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rcRect l="0" t="0" r="-1703" b="21049"/>
          <a:stretch/>
        </p:blipFill>
        <p:spPr>
          <a:xfrm>
            <a:off x="324000" y="2421000"/>
            <a:ext cx="85690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De assist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rcRect l="0" t="0" r="-1998" b="12379"/>
          <a:stretch/>
        </p:blipFill>
        <p:spPr>
          <a:xfrm>
            <a:off x="971640" y="1844640"/>
            <a:ext cx="73454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exp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56000" y="1413000"/>
            <a:ext cx="367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vrouw van de b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rcRect l="0" t="0" r="-3931" b="12211"/>
          <a:stretch/>
        </p:blipFill>
        <p:spPr>
          <a:xfrm>
            <a:off x="1835280" y="1773360"/>
            <a:ext cx="56894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EN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DE BAAS !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574640" y="1792440"/>
            <a:ext cx="5994720" cy="4589280"/>
          </a:xfrm>
          <a:prstGeom prst="rect">
            <a:avLst/>
          </a:prstGeom>
          <a:ln w="0">
            <a:noFill/>
          </a:ln>
        </p:spPr>
      </p:pic>
      <p:sp>
        <p:nvSpPr>
          <p:cNvPr id="283" name="">
            <a:hlinkClick r:id="rId3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990033"/>
                </a:solidFill>
                <a:latin typeface="Arial"/>
              </a:rPr>
              <a:t>Condooms in alle soort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267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990033"/>
                </a:solidFill>
                <a:latin typeface="Times New Roman"/>
              </a:rPr>
              <a:t>en mate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0" y="2971800"/>
            <a:ext cx="9143640" cy="1066680"/>
            <a:chOff x="0" y="2971800"/>
            <a:chExt cx="9143640" cy="106668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rcRect l="25373" t="44287" r="2641" b="29050"/>
            <a:stretch/>
          </p:blipFill>
          <p:spPr>
            <a:xfrm>
              <a:off x="3021480" y="2971800"/>
              <a:ext cx="30211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rcRect l="25373" t="44287" r="2641" b="29050"/>
            <a:stretch/>
          </p:blipFill>
          <p:spPr>
            <a:xfrm>
              <a:off x="0" y="2971800"/>
              <a:ext cx="30214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4"/>
            <a:srcRect l="25373" t="44287" r="0" b="29050"/>
            <a:stretch/>
          </p:blipFill>
          <p:spPr>
            <a:xfrm>
              <a:off x="6011280" y="2971800"/>
              <a:ext cx="313236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291" name="" descr=""/>
            <p:cNvPicPr/>
            <p:nvPr/>
          </p:nvPicPr>
          <p:blipFill>
            <a:blip r:embed="rId5"/>
            <a:srcRect l="6153" t="30486" r="76366" b="32991"/>
            <a:stretch/>
          </p:blipFill>
          <p:spPr>
            <a:xfrm>
              <a:off x="1647720" y="0"/>
              <a:ext cx="8733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6"/>
            <a:srcRect l="6153" t="30486" r="76366" b="32991"/>
            <a:stretch/>
          </p:blipFill>
          <p:spPr>
            <a:xfrm>
              <a:off x="2471760" y="0"/>
              <a:ext cx="873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7"/>
            <a:srcRect l="6153" t="30486" r="76366" b="32991"/>
            <a:stretch/>
          </p:blipFill>
          <p:spPr>
            <a:xfrm>
              <a:off x="3295800" y="0"/>
              <a:ext cx="873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8"/>
            <a:srcRect l="6153" t="30486" r="76366" b="32991"/>
            <a:stretch/>
          </p:blipFill>
          <p:spPr>
            <a:xfrm>
              <a:off x="4119480" y="0"/>
              <a:ext cx="8733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9"/>
            <a:srcRect l="6153" t="30486" r="76366" b="32991"/>
            <a:stretch/>
          </p:blipFill>
          <p:spPr>
            <a:xfrm>
              <a:off x="4943520" y="0"/>
              <a:ext cx="873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10"/>
            <a:srcRect l="6153" t="30486" r="76366" b="32991"/>
            <a:stretch/>
          </p:blipFill>
          <p:spPr>
            <a:xfrm>
              <a:off x="5765760" y="0"/>
              <a:ext cx="8748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11"/>
            <a:srcRect l="6153" t="30486" r="76366" b="32991"/>
            <a:stretch/>
          </p:blipFill>
          <p:spPr>
            <a:xfrm>
              <a:off x="6589800" y="0"/>
              <a:ext cx="8748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12"/>
            <a:srcRect l="6153" t="30486" r="76366" b="32991"/>
            <a:stretch/>
          </p:blipFill>
          <p:spPr>
            <a:xfrm>
              <a:off x="7413480" y="0"/>
              <a:ext cx="8748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13"/>
            <a:srcRect l="6153" t="30486" r="76366" b="32991"/>
            <a:stretch/>
          </p:blipFill>
          <p:spPr>
            <a:xfrm>
              <a:off x="8271000" y="0"/>
              <a:ext cx="873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14"/>
            <a:srcRect l="6153" t="30486" r="76366" b="32991"/>
            <a:stretch/>
          </p:blipFill>
          <p:spPr>
            <a:xfrm>
              <a:off x="0" y="0"/>
              <a:ext cx="873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15"/>
            <a:srcRect l="6153" t="30486" r="76366" b="32991"/>
            <a:stretch/>
          </p:blipFill>
          <p:spPr>
            <a:xfrm>
              <a:off x="824040" y="0"/>
              <a:ext cx="87300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"/>
          <p:cNvGrpSpPr/>
          <p:nvPr/>
        </p:nvGrpSpPr>
        <p:grpSpPr>
          <a:xfrm>
            <a:off x="0" y="5181480"/>
            <a:ext cx="9144000" cy="1676520"/>
            <a:chOff x="0" y="5181480"/>
            <a:chExt cx="9144000" cy="1676520"/>
          </a:xfrm>
        </p:grpSpPr>
        <p:pic>
          <p:nvPicPr>
            <p:cNvPr id="303" name="" descr=""/>
            <p:cNvPicPr/>
            <p:nvPr/>
          </p:nvPicPr>
          <p:blipFill>
            <a:blip r:embed="rId16"/>
            <a:srcRect l="6153" t="30486" r="76366" b="32991"/>
            <a:stretch/>
          </p:blipFill>
          <p:spPr>
            <a:xfrm>
              <a:off x="1523880" y="5791320"/>
              <a:ext cx="5558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17"/>
            <a:srcRect l="6153" t="30486" r="76366" b="32991"/>
            <a:stretch/>
          </p:blipFill>
          <p:spPr>
            <a:xfrm>
              <a:off x="2057400" y="6095880"/>
              <a:ext cx="3967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18"/>
            <a:srcRect l="6153" t="30486" r="76366" b="32991"/>
            <a:stretch/>
          </p:blipFill>
          <p:spPr>
            <a:xfrm>
              <a:off x="2438280" y="5791320"/>
              <a:ext cx="5558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19"/>
            <a:srcRect l="6153" t="30486" r="76366" b="32991"/>
            <a:stretch/>
          </p:blipFill>
          <p:spPr>
            <a:xfrm>
              <a:off x="3657600" y="5181480"/>
              <a:ext cx="9144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20"/>
            <a:srcRect l="6153" t="30486" r="76366" b="32991"/>
            <a:stretch/>
          </p:blipFill>
          <p:spPr>
            <a:xfrm>
              <a:off x="6095880" y="5791320"/>
              <a:ext cx="5558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21"/>
            <a:srcRect l="6153" t="30486" r="76366" b="32991"/>
            <a:stretch/>
          </p:blipFill>
          <p:spPr>
            <a:xfrm>
              <a:off x="6629400" y="6095880"/>
              <a:ext cx="3967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22"/>
            <a:srcRect l="6153" t="30486" r="76366" b="32991"/>
            <a:stretch/>
          </p:blipFill>
          <p:spPr>
            <a:xfrm>
              <a:off x="7010280" y="5791320"/>
              <a:ext cx="5572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23"/>
            <a:srcRect l="6153" t="30486" r="76366" b="32991"/>
            <a:stretch/>
          </p:blipFill>
          <p:spPr>
            <a:xfrm>
              <a:off x="7572240" y="5486400"/>
              <a:ext cx="7160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24"/>
            <a:srcRect l="6153" t="30486" r="76366" b="32991"/>
            <a:stretch/>
          </p:blipFill>
          <p:spPr>
            <a:xfrm>
              <a:off x="8271000" y="5181480"/>
              <a:ext cx="873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25"/>
            <a:srcRect l="6153" t="30486" r="76366" b="32991"/>
            <a:stretch/>
          </p:blipFill>
          <p:spPr>
            <a:xfrm>
              <a:off x="0" y="5181480"/>
              <a:ext cx="873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26"/>
            <a:srcRect l="6153" t="30486" r="76366" b="32991"/>
            <a:stretch/>
          </p:blipFill>
          <p:spPr>
            <a:xfrm>
              <a:off x="824040" y="5486400"/>
              <a:ext cx="714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27"/>
            <a:srcRect l="6153" t="30486" r="76366" b="32991"/>
            <a:stretch/>
          </p:blipFill>
          <p:spPr>
            <a:xfrm>
              <a:off x="4495680" y="5181480"/>
              <a:ext cx="9493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28"/>
            <a:srcRect l="6153" t="30486" r="76366" b="32991"/>
            <a:stretch/>
          </p:blipFill>
          <p:spPr>
            <a:xfrm>
              <a:off x="2971800" y="5486400"/>
              <a:ext cx="714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29"/>
            <a:srcRect l="6153" t="30486" r="76366" b="32991"/>
            <a:stretch/>
          </p:blipFill>
          <p:spPr>
            <a:xfrm>
              <a:off x="5410080" y="5486400"/>
              <a:ext cx="71460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15000">
    <p:pull dir="d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6500"/>
                            </p:stCondLst>
                            <p:childTnLst>
                              <p:par>
                                <p:cTn id="5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237636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156360" y="4292640"/>
            <a:ext cx="2376360" cy="1905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noFill/>
          <a:ln cap="rnd" w="12060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99736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99"/>
                </a:solidFill>
                <a:latin typeface="Times New Roman"/>
              </a:rPr>
              <a:t>Ga nooit naar bed met een vrouw die meer problemen heeft dan ji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Gehoo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tot over hun oren verliefd zij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rcRect l="21445" t="22307" r="26204" b="26554"/>
          <a:stretch/>
        </p:blipFill>
        <p:spPr>
          <a:xfrm>
            <a:off x="3760920" y="1981080"/>
            <a:ext cx="1622160" cy="2278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d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Breekbaa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éééééél voorzichtig zij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rcRect l="10313" t="22121" r="14618" b="25524"/>
          <a:stretch/>
        </p:blipFill>
        <p:spPr>
          <a:xfrm>
            <a:off x="3467160" y="1981080"/>
            <a:ext cx="2209680" cy="19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Stoffi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em een tijd niet gebruikt hebb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17488" t="16462" r="22847" b="22794"/>
          <a:stretch/>
        </p:blipFill>
        <p:spPr>
          <a:xfrm>
            <a:off x="3643200" y="1981080"/>
            <a:ext cx="18576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Clow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elke circus standj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22353" t="12666" r="22434" b="21515"/>
          <a:stretch/>
        </p:blipFill>
        <p:spPr>
          <a:xfrm>
            <a:off x="3913200" y="1981080"/>
            <a:ext cx="13176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Herinnering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alles verget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rcRect l="20993" t="15291" r="28193" b="22350"/>
          <a:stretch/>
        </p:blipFill>
        <p:spPr>
          <a:xfrm>
            <a:off x="3838680" y="1981080"/>
            <a:ext cx="1466640" cy="2286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Dubbe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680" y="48006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oud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an me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rcRect l="17600" t="14086" r="22844" b="30992"/>
          <a:stretch/>
        </p:blipFill>
        <p:spPr>
          <a:xfrm>
            <a:off x="3603600" y="1981080"/>
            <a:ext cx="19353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Plan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open dat hij er van gaat groe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rcRect l="20912" t="16454" r="28193" b="25329"/>
          <a:stretch/>
        </p:blipFill>
        <p:spPr>
          <a:xfrm>
            <a:off x="3825720" y="1981080"/>
            <a:ext cx="1490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Mijnwerker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denken dat ze er goud vind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rcRect l="15914" t="11115" r="15942" b="30011"/>
          <a:stretch/>
        </p:blipFill>
        <p:spPr>
          <a:xfrm>
            <a:off x="3708360" y="1981080"/>
            <a:ext cx="17254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Kerstboom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Oh dennenboom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Ohhhhhhhhh dennenboo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rcRect l="13488" t="10811" r="23444" b="16216"/>
          <a:stretch/>
        </p:blipFill>
        <p:spPr>
          <a:xfrm>
            <a:off x="3789360" y="1981080"/>
            <a:ext cx="1565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Bijten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van SM houd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rcRect l="27450" t="19278" r="34209" b="27724"/>
          <a:stretch/>
        </p:blipFill>
        <p:spPr>
          <a:xfrm>
            <a:off x="4025880" y="1981080"/>
            <a:ext cx="10922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1413000"/>
            <a:ext cx="3456000" cy="4321080"/>
          </a:xfrm>
          <a:custGeom>
            <a:avLst/>
            <a:gdLst>
              <a:gd name="textAreaLeft" fmla="*/ 759960 w 3456000"/>
              <a:gd name="textAreaRight" fmla="*/ 2696040 w 3456000"/>
              <a:gd name="textAreaTop" fmla="*/ 950040 h 4321080"/>
              <a:gd name="textAreaBottom" fmla="*/ 337104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692280"/>
            <a:ext cx="1633320" cy="1779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6000" y="4292640"/>
            <a:ext cx="1633320" cy="17794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4508640"/>
            <a:ext cx="1633680" cy="17794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404640"/>
            <a:ext cx="1633320" cy="17798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6360" y="1413000"/>
            <a:ext cx="3527280" cy="4321080"/>
          </a:xfrm>
          <a:custGeom>
            <a:avLst/>
            <a:gdLst>
              <a:gd name="textAreaLeft" fmla="*/ 775440 w 3527280"/>
              <a:gd name="textAreaRight" fmla="*/ 2751840 w 3527280"/>
              <a:gd name="textAreaTop" fmla="*/ 950040 h 4321080"/>
              <a:gd name="textAreaBottom" fmla="*/ 337104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1290600"/>
            <a:ext cx="3672000" cy="4875120"/>
          </a:xfrm>
          <a:custGeom>
            <a:avLst/>
            <a:gdLst>
              <a:gd name="textAreaLeft" fmla="*/ 807480 w 3672000"/>
              <a:gd name="textAreaRight" fmla="*/ 2864520 w 3672000"/>
              <a:gd name="textAreaTop" fmla="*/ 1072080 h 4875120"/>
              <a:gd name="textAreaBottom" fmla="*/ 3803040 h 487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19640" y="1413000"/>
            <a:ext cx="273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Boer zoek vrouw met tractor, foto tractor toevoeg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333360"/>
            <a:ext cx="5185080" cy="6048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Halsban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uitgelaten mann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rcRect l="21484" t="13577" r="18733" b="18390"/>
          <a:stretch/>
        </p:blipFill>
        <p:spPr>
          <a:xfrm>
            <a:off x="3892680" y="1981080"/>
            <a:ext cx="13586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Verbran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Als je heet bent, ben je he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rcRect l="22770" t="17293" r="21066" b="24704"/>
          <a:stretch/>
        </p:blipFill>
        <p:spPr>
          <a:xfrm>
            <a:off x="3817800" y="1981080"/>
            <a:ext cx="15084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Boom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Houdt hij………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Of houdt hij ni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rcRect l="23132" t="16462" r="23762" b="25326"/>
          <a:stretch/>
        </p:blipFill>
        <p:spPr>
          <a:xfrm>
            <a:off x="3851280" y="1981080"/>
            <a:ext cx="14414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Haak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met een prothe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rcRect l="20446" t="17282" r="15506" b="27176"/>
          <a:stretch/>
        </p:blipFill>
        <p:spPr>
          <a:xfrm>
            <a:off x="3632040" y="1981080"/>
            <a:ext cx="18799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Kruiswoor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et 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raadsel vind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25121" t="14823" r="32389" b="24704"/>
          <a:stretch/>
        </p:blipFill>
        <p:spPr>
          <a:xfrm>
            <a:off x="3871800" y="1981080"/>
            <a:ext cx="14004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Loop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de snelle waagh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rcRect l="13804" t="19765" r="7340" b="25935"/>
          <a:stretch/>
        </p:blipFill>
        <p:spPr>
          <a:xfrm>
            <a:off x="3409920" y="1971720"/>
            <a:ext cx="2324160" cy="22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Kerst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……</a:t>
            </a: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Ho, Ho, H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rcRect l="22645" t="10537" r="16773" b="13161"/>
          <a:stretch/>
        </p:blipFill>
        <p:spPr>
          <a:xfrm>
            <a:off x="3960720" y="1981080"/>
            <a:ext cx="12225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Promoti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met een hoge verwacht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rcRect l="24062" t="12495" r="18153" b="15002"/>
          <a:stretch/>
        </p:blipFill>
        <p:spPr>
          <a:xfrm>
            <a:off x="3902040" y="1981080"/>
            <a:ext cx="13399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Camouflag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niet willen opvall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rcRect l="23595" t="17715" r="27897" b="25317"/>
          <a:stretch/>
        </p:blipFill>
        <p:spPr>
          <a:xfrm>
            <a:off x="3759120" y="1981080"/>
            <a:ext cx="1625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Amerikaan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In de houding voor je vaderl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4366" t="18514" r="23732" b="24706"/>
          <a:stretch/>
        </p:blipFill>
        <p:spPr>
          <a:xfrm>
            <a:off x="3727440" y="198108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907920"/>
            <a:ext cx="7128000" cy="4897440"/>
          </a:xfrm>
          <a:custGeom>
            <a:avLst/>
            <a:gdLst>
              <a:gd name="textAreaLeft" fmla="*/ 1675080 w 7128000"/>
              <a:gd name="textAreaRight" fmla="*/ 5447880 w 7128000"/>
              <a:gd name="textAreaTop" fmla="*/ 575640 h 4897440"/>
              <a:gd name="textAreaBottom" fmla="*/ 3071880 h 489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33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2338560"/>
            <a:ext cx="46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vrouw denkt goed na voor zij zwijg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24000" y="4797000"/>
            <a:ext cx="1692000" cy="162900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219640" y="3068640"/>
            <a:ext cx="3492720" cy="350028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50920" y="3068280"/>
            <a:ext cx="3132000" cy="342900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948360" y="4581360"/>
            <a:ext cx="1692360" cy="177336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620640"/>
            <a:ext cx="7705800" cy="5616720"/>
          </a:xfrm>
          <a:custGeom>
            <a:avLst/>
            <a:gdLst>
              <a:gd name="textAreaLeft" fmla="*/ 1810800 w 7705800"/>
              <a:gd name="textAreaRight" fmla="*/ 5889600 w 7705800"/>
              <a:gd name="textAreaTop" fmla="*/ 660240 h 5616720"/>
              <a:gd name="textAreaBottom" fmla="*/ 3523320 h 5616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Boekenlegg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vergeten waar ze zijn geblev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24759" t="18071" r="22501" b="30118"/>
          <a:stretch/>
        </p:blipFill>
        <p:spPr>
          <a:xfrm>
            <a:off x="3666960" y="1981080"/>
            <a:ext cx="1808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Dynamie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explosieve ty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rcRect l="14161" t="15494" r="17405" b="22531"/>
          <a:stretch/>
        </p:blipFill>
        <p:spPr>
          <a:xfrm>
            <a:off x="3637080" y="1981080"/>
            <a:ext cx="18698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Schroef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em verdraa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rcRect l="21342" t="13162" r="13422" b="21048"/>
          <a:stretch/>
        </p:blipFill>
        <p:spPr>
          <a:xfrm>
            <a:off x="3726000" y="1981080"/>
            <a:ext cx="1692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Rada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Om de weg in het don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te vind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rcRect l="23822" t="17508" r="25478" b="31253"/>
          <a:stretch/>
        </p:blipFill>
        <p:spPr>
          <a:xfrm>
            <a:off x="3706920" y="1981080"/>
            <a:ext cx="17287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Sneeuwwitje en de </a:t>
            </a:r>
            <a:br>
              <a:rPr sz="4400"/>
            </a:b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zeven dwerge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Omdat kleintjes ook bescherming nodig hebb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400480" y="2685960"/>
            <a:ext cx="4343040" cy="1486080"/>
            <a:chOff x="2400480" y="2685960"/>
            <a:chExt cx="4343040" cy="1486080"/>
          </a:xfrm>
        </p:grpSpPr>
        <p:pic>
          <p:nvPicPr>
            <p:cNvPr id="392" name="" descr=""/>
            <p:cNvPicPr/>
            <p:nvPr/>
          </p:nvPicPr>
          <p:blipFill>
            <a:blip r:embed="rId2"/>
            <a:srcRect l="21541" t="40706" r="0" b="32404"/>
            <a:stretch/>
          </p:blipFill>
          <p:spPr>
            <a:xfrm>
              <a:off x="3282480" y="3158280"/>
              <a:ext cx="3461040" cy="101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3"/>
            <a:srcRect l="0" t="28170" r="78480" b="32404"/>
            <a:stretch/>
          </p:blipFill>
          <p:spPr>
            <a:xfrm>
              <a:off x="2400480" y="2685960"/>
              <a:ext cx="950040" cy="1486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Cactu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met extreme verlange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rcRect l="30662" t="29678" r="25149" b="20942"/>
          <a:stretch/>
        </p:blipFill>
        <p:spPr>
          <a:xfrm>
            <a:off x="3827520" y="1981080"/>
            <a:ext cx="14875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Mummi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alles ingewikkeld vind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rcRect l="26914" t="18841" r="32392" b="30435"/>
          <a:stretch/>
        </p:blipFill>
        <p:spPr>
          <a:xfrm>
            <a:off x="3821040" y="1981080"/>
            <a:ext cx="15019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Duiker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et w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dieper zoek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rcRect l="23033" t="14701" r="25196" b="20597"/>
          <a:stretch/>
        </p:blipFill>
        <p:spPr>
          <a:xfrm>
            <a:off x="3844800" y="1981080"/>
            <a:ext cx="14544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Propell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afkoeling na gebrui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rcRect l="7787" t="15487" r="9533" b="20236"/>
          <a:stretch/>
        </p:blipFill>
        <p:spPr>
          <a:xfrm>
            <a:off x="3576600" y="1981080"/>
            <a:ext cx="1989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Knot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het hardere wer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rcRect l="16990" t="13757" r="11527" b="19996"/>
          <a:stretch/>
        </p:blipFill>
        <p:spPr>
          <a:xfrm>
            <a:off x="3795840" y="1981080"/>
            <a:ext cx="15523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0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836640"/>
            <a:ext cx="7490160" cy="518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3289320" cy="5113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03640" y="836640"/>
            <a:ext cx="3289320" cy="5113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484360" y="836640"/>
            <a:ext cx="4248360" cy="511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2060640"/>
            <a:ext cx="633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836640"/>
            <a:ext cx="7490160" cy="518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2060640"/>
            <a:ext cx="5759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 27 jaar huwelijk zijn mijn vrouw en ik eindelijk seksueel op elkaar afgesteld . Wij hebben nu allebei tegelijk hoofdpijn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Ham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iets nodig hebben om er in te kom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14913" t="21951" r="21450" b="26837"/>
          <a:stretch/>
        </p:blipFill>
        <p:spPr>
          <a:xfrm>
            <a:off x="3510000" y="1981080"/>
            <a:ext cx="2124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Harpoe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bin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willen blijv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rcRect l="31435" t="15674" r="31154" b="20481"/>
          <a:stretch/>
        </p:blipFill>
        <p:spPr>
          <a:xfrm>
            <a:off x="4032360" y="1981080"/>
            <a:ext cx="10778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Militai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in de verdedig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rcRect l="25122" t="19285" r="30882" b="24106"/>
          <a:stretch/>
        </p:blipFill>
        <p:spPr>
          <a:xfrm>
            <a:off x="3867120" y="1981080"/>
            <a:ext cx="1409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Rake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aast hebb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rcRect l="26370" t="24209" r="30032" b="24707"/>
          <a:stretch/>
        </p:blipFill>
        <p:spPr>
          <a:xfrm>
            <a:off x="3909960" y="1981080"/>
            <a:ext cx="13240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Harmonic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Om je eigen muziek te spel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rcRect l="28110" t="16670" r="30513" b="20508"/>
          <a:stretch/>
        </p:blipFill>
        <p:spPr>
          <a:xfrm>
            <a:off x="3987720" y="1981080"/>
            <a:ext cx="1166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Pijp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de stevige rok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rcRect l="23376" t="25647" r="12738" b="25647"/>
          <a:stretch/>
        </p:blipFill>
        <p:spPr>
          <a:xfrm>
            <a:off x="3489480" y="1981080"/>
            <a:ext cx="21650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Haak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1680" y="4800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Voor mannen die hem ni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recht krijg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rcRect l="13767" t="18194" r="8160" b="25969"/>
          <a:stretch/>
        </p:blipFill>
        <p:spPr>
          <a:xfrm>
            <a:off x="3352680" y="2004840"/>
            <a:ext cx="2438640" cy="22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Visgraa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Om de poes te lokk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rcRect l="18156" t="13760" r="26762" b="18760"/>
          <a:stretch/>
        </p:blipFill>
        <p:spPr>
          <a:xfrm>
            <a:off x="3851280" y="1981080"/>
            <a:ext cx="1440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0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Blik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1680" y="4800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Times New Roman"/>
              </a:rPr>
              <a:t>Om te proosten op de afloo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rcRect l="19524" t="18995" r="15744" b="21528"/>
          <a:stretch/>
        </p:blipFill>
        <p:spPr>
          <a:xfrm>
            <a:off x="3745080" y="1981080"/>
            <a:ext cx="16538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33"/>
                </a:solidFill>
                <a:latin typeface="Arial"/>
              </a:rPr>
              <a:t>ALLE RECHTEN BLIJVEN BIJ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495320" y="2133720"/>
            <a:ext cx="4496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J.V.  B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Mr. Beanstraat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1234 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Beans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(Holland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568440" y="1600200"/>
            <a:ext cx="3811320" cy="4525920"/>
          </a:xfrm>
          <a:prstGeom prst="rect">
            <a:avLst/>
          </a:prstGeom>
          <a:ln w="0">
            <a:noFill/>
          </a:ln>
        </p:spPr>
      </p:pic>
      <p:sp>
        <p:nvSpPr>
          <p:cNvPr id="439" name="">
            <a:hlinkClick r:id="rId3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4" name="applause.wav"/>
      </p:stSnd>
    </p:sndAc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75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650"/>
                            </p:stCondLst>
                            <p:childTnLst>
                              <p:par>
                                <p:cTn id="10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15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650"/>
                            </p:stCondLst>
                            <p:childTnLst>
                              <p:par>
                                <p:cTn id="1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150"/>
                            </p:stCondLst>
                            <p:childTnLst>
                              <p:par>
                                <p:cTn id="1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3650"/>
                            </p:stCondLst>
                            <p:childTnLst>
                              <p:par>
                                <p:cTn id="1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4150"/>
                            </p:stCondLst>
                            <p:childTnLst>
                              <p:par>
                                <p:cTn id="1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ubCross"/>
          <p:cNvSpPr/>
          <p:nvPr/>
        </p:nvSpPr>
        <p:spPr>
          <a:xfrm>
            <a:off x="1692360" y="1628640"/>
            <a:ext cx="5759280" cy="3075120"/>
          </a:xfrm>
          <a:custGeom>
            <a:avLst/>
            <a:gdLst>
              <a:gd name="textAreaLeft" fmla="*/ 1439640 w 5759280"/>
              <a:gd name="textAreaRight" fmla="*/ 4319640 w 5759280"/>
              <a:gd name="textAreaTop" fmla="*/ 768600 h 3075120"/>
              <a:gd name="textAreaBottom" fmla="*/ 2306520 h 30751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</a:path>
              <a:path w="21600" h="21600">
                <a:moveTo>
                  <a:pt x="5400" y="5400"/>
                </a:moveTo>
                <a:lnTo>
                  <a:pt x="0" y="5400"/>
                </a:lnTo>
                <a:lnTo>
                  <a:pt x="0" y="16200"/>
                </a:lnTo>
              </a:path>
              <a:path w="21600" h="21600">
                <a:moveTo>
                  <a:pt x="5400" y="16200"/>
                </a:moveTo>
                <a:lnTo>
                  <a:pt x="5400" y="21600"/>
                </a:lnTo>
                <a:lnTo>
                  <a:pt x="16200" y="21600"/>
                </a:lnTo>
              </a:path>
              <a:path w="21600" h="21600">
                <a:moveTo>
                  <a:pt x="16200" y="16200"/>
                </a:move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ubHalfFrame"/>
          <p:cNvSpPr/>
          <p:nvPr/>
        </p:nvSpPr>
        <p:spPr>
          <a:xfrm>
            <a:off x="0" y="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ubHalfFrame"/>
          <p:cNvSpPr/>
          <p:nvPr/>
        </p:nvSpPr>
        <p:spPr>
          <a:xfrm rot="5400000">
            <a:off x="7315200" y="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ubHalfFrame"/>
          <p:cNvSpPr/>
          <p:nvPr/>
        </p:nvSpPr>
        <p:spPr>
          <a:xfrm rot="10800000">
            <a:off x="7315200" y="50292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ubHalfFrame"/>
          <p:cNvSpPr/>
          <p:nvPr/>
        </p:nvSpPr>
        <p:spPr>
          <a:xfrm rot="16200000">
            <a:off x="0" y="50292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18446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08080"/>
                </a:solidFill>
                <a:latin typeface="Times New Roman"/>
              </a:rPr>
              <a:t>Vanaf de dag</a:t>
            </a:r>
            <a:r>
              <a:rPr b="0" lang="nl-NL" sz="3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2421000"/>
            <a:ext cx="5400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08080"/>
                </a:solidFill>
                <a:latin typeface="Times New Roman"/>
              </a:rPr>
              <a:t>waarop God de man in contact bracht met de vrouw, werd het een hel.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08080"/>
                </a:solidFill>
                <a:latin typeface="Times New Roman"/>
              </a:rPr>
              <a:t>               </a:t>
            </a:r>
            <a:r>
              <a:rPr b="0" lang="nl-NL" sz="3200" spc="-1" strike="noStrike">
                <a:solidFill>
                  <a:srgbClr val="80808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92280"/>
            <a:ext cx="7993080" cy="5041800"/>
          </a:xfrm>
          <a:prstGeom prst="ellipse">
            <a:avLst/>
          </a:prstGeom>
          <a:noFill/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3348000" y="1773360"/>
            <a:ext cx="2473200" cy="24922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Ik kom even kijken of er veel broll op u bureau lig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04920" y="50292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Arial"/>
              </a:rPr>
              <a:t>Veel, zeer veel , zoals gewoon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3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0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15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WordArt 7"/>
          <p:cNvSpPr txBox="1"/>
          <p:nvPr/>
        </p:nvSpPr>
        <p:spPr>
          <a:xfrm>
            <a:off x="3492360" y="2349360"/>
            <a:ext cx="42926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T cursu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5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7" name="Rectangle 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50" name="Rectangle 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WordArt 19"/>
          <p:cNvSpPr txBox="1"/>
          <p:nvPr/>
        </p:nvSpPr>
        <p:spPr>
          <a:xfrm>
            <a:off x="2916360" y="1916280"/>
            <a:ext cx="540072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deze cursus zal ik je laten zie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e je je computer het best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unt gebruiken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1" name="WordArt 23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2" descr="00000000000000000000000000000000000"/>
          <p:cNvPicPr/>
          <p:nvPr/>
        </p:nvPicPr>
        <p:blipFill>
          <a:blip r:embed="rId2"/>
          <a:stretch/>
        </p:blipFill>
        <p:spPr>
          <a:xfrm>
            <a:off x="1692360" y="476280"/>
            <a:ext cx="6222960" cy="6019920"/>
          </a:xfrm>
          <a:prstGeom prst="rect">
            <a:avLst/>
          </a:prstGeom>
          <a:ln w="0">
            <a:noFill/>
          </a:ln>
        </p:spPr>
      </p:pic>
      <p:sp>
        <p:nvSpPr>
          <p:cNvPr id="463" name="WordArt 17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5" descr="1340_descarga"/>
          <p:cNvPicPr/>
          <p:nvPr/>
        </p:nvPicPr>
        <p:blipFill>
          <a:blip r:embed="rId2"/>
          <a:stretch/>
        </p:blipFill>
        <p:spPr>
          <a:xfrm>
            <a:off x="611280" y="458640"/>
            <a:ext cx="7777080" cy="5832720"/>
          </a:xfrm>
          <a:prstGeom prst="rect">
            <a:avLst/>
          </a:prstGeom>
          <a:ln w="0">
            <a:noFill/>
          </a:ln>
        </p:spPr>
      </p:pic>
      <p:sp>
        <p:nvSpPr>
          <p:cNvPr id="465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4"/>
          <p:cNvSpPr txBox="1"/>
          <p:nvPr/>
        </p:nvSpPr>
        <p:spPr>
          <a:xfrm>
            <a:off x="1042920" y="1484280"/>
            <a:ext cx="7129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e je ee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gramma installeer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7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5" descr="2561_descarga"/>
          <p:cNvPicPr/>
          <p:nvPr/>
        </p:nvPicPr>
        <p:blipFill>
          <a:blip r:embed="rId2"/>
          <a:stretch/>
        </p:blipFill>
        <p:spPr>
          <a:xfrm>
            <a:off x="826920" y="620640"/>
            <a:ext cx="7490160" cy="5616720"/>
          </a:xfrm>
          <a:prstGeom prst="rect">
            <a:avLst/>
          </a:prstGeom>
          <a:ln w="0">
            <a:noFill/>
          </a:ln>
        </p:spPr>
      </p:pic>
      <p:sp>
        <p:nvSpPr>
          <p:cNvPr id="469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4"/>
          <p:cNvSpPr txBox="1"/>
          <p:nvPr/>
        </p:nvSpPr>
        <p:spPr>
          <a:xfrm>
            <a:off x="826920" y="2276640"/>
            <a:ext cx="7345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je een CD gebruik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1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5" descr="1344_descarga"/>
          <p:cNvPicPr/>
          <p:nvPr/>
        </p:nvPicPr>
        <p:blipFill>
          <a:blip r:embed="rId2"/>
          <a:stretch/>
        </p:blipFill>
        <p:spPr>
          <a:xfrm>
            <a:off x="611280" y="446040"/>
            <a:ext cx="7921440" cy="5781600"/>
          </a:xfrm>
          <a:prstGeom prst="rect">
            <a:avLst/>
          </a:prstGeom>
          <a:ln w="0">
            <a:noFill/>
          </a:ln>
        </p:spPr>
      </p:pic>
      <p:sp>
        <p:nvSpPr>
          <p:cNvPr id="473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WordArt 4"/>
          <p:cNvSpPr txBox="1"/>
          <p:nvPr/>
        </p:nvSpPr>
        <p:spPr>
          <a:xfrm>
            <a:off x="1116000" y="2133720"/>
            <a:ext cx="7056360" cy="24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je het toetsenbor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ebruik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5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549360"/>
            <a:ext cx="1079640" cy="5904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1347840 h 5904000"/>
              <a:gd name="textAreaBottom" fmla="*/ 455616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476280"/>
            <a:ext cx="1079640" cy="5904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1347840 h 5904000"/>
              <a:gd name="textAreaBottom" fmla="*/ 455616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4173000">
            <a:off x="6705720" y="-73800"/>
            <a:ext cx="1150920" cy="1819080"/>
          </a:xfrm>
          <a:prstGeom prst="irregularSeal2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4173000">
            <a:off x="1377000" y="-73800"/>
            <a:ext cx="1150920" cy="1819440"/>
          </a:xfrm>
          <a:prstGeom prst="irregularSeal2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1484280"/>
            <a:ext cx="345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oral als ik de hand in eigen boezem steek, betreur  ik het geen vrouw te zij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476280"/>
            <a:ext cx="8136000" cy="6121440"/>
          </a:xfrm>
          <a:prstGeom prst="rect">
            <a:avLst/>
          </a:prstGeom>
          <a:noFill/>
          <a:ln w="1015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55897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4724280"/>
            <a:ext cx="3168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5229360"/>
            <a:ext cx="1728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5" descr="2492_descarga"/>
          <p:cNvPicPr/>
          <p:nvPr/>
        </p:nvPicPr>
        <p:blipFill>
          <a:blip r:embed="rId2"/>
          <a:stretch/>
        </p:blipFill>
        <p:spPr>
          <a:xfrm>
            <a:off x="684360" y="512640"/>
            <a:ext cx="7991280" cy="5994360"/>
          </a:xfrm>
          <a:prstGeom prst="rect">
            <a:avLst/>
          </a:prstGeom>
          <a:ln w="0">
            <a:noFill/>
          </a:ln>
        </p:spPr>
      </p:pic>
      <p:sp>
        <p:nvSpPr>
          <p:cNvPr id="477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5" descr="1833_descarga"/>
          <p:cNvPicPr/>
          <p:nvPr/>
        </p:nvPicPr>
        <p:blipFill>
          <a:blip r:embed="rId2"/>
          <a:stretch/>
        </p:blipFill>
        <p:spPr>
          <a:xfrm>
            <a:off x="684360" y="512640"/>
            <a:ext cx="7775280" cy="5832720"/>
          </a:xfrm>
          <a:prstGeom prst="rect">
            <a:avLst/>
          </a:prstGeom>
          <a:ln w="0">
            <a:noFill/>
          </a:ln>
        </p:spPr>
      </p:pic>
      <p:sp>
        <p:nvSpPr>
          <p:cNvPr id="479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WordArt 4"/>
          <p:cNvSpPr txBox="1"/>
          <p:nvPr/>
        </p:nvSpPr>
        <p:spPr>
          <a:xfrm>
            <a:off x="971640" y="1700280"/>
            <a:ext cx="7129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je de mui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et gebruiken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1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5" descr="2694_descarg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WordArt 10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WordArt 4"/>
          <p:cNvSpPr txBox="1"/>
          <p:nvPr/>
        </p:nvSpPr>
        <p:spPr>
          <a:xfrm>
            <a:off x="755640" y="1341360"/>
            <a:ext cx="7632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je ee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irus te lijf gaa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5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5" descr="2641_descarga"/>
          <p:cNvPicPr/>
          <p:nvPr/>
        </p:nvPicPr>
        <p:blipFill>
          <a:blip r:embed="rId2"/>
          <a:stretch/>
        </p:blipFill>
        <p:spPr>
          <a:xfrm>
            <a:off x="468360" y="351000"/>
            <a:ext cx="7920000" cy="5940360"/>
          </a:xfrm>
          <a:prstGeom prst="rect">
            <a:avLst/>
          </a:prstGeom>
          <a:ln w="0">
            <a:noFill/>
          </a:ln>
        </p:spPr>
      </p:pic>
      <p:sp>
        <p:nvSpPr>
          <p:cNvPr id="487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WordArt 4"/>
          <p:cNvSpPr txBox="1"/>
          <p:nvPr/>
        </p:nvSpPr>
        <p:spPr>
          <a:xfrm>
            <a:off x="611280" y="1268280"/>
            <a:ext cx="79930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je je desktop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hoon houd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9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4" descr="00000000000000000000000000000"/>
          <p:cNvPicPr/>
          <p:nvPr/>
        </p:nvPicPr>
        <p:blipFill>
          <a:blip r:embed="rId2"/>
          <a:stretch/>
        </p:blipFill>
        <p:spPr>
          <a:xfrm>
            <a:off x="324000" y="476280"/>
            <a:ext cx="8351640" cy="5987880"/>
          </a:xfrm>
          <a:prstGeom prst="rect">
            <a:avLst/>
          </a:prstGeom>
          <a:ln w="0">
            <a:noFill/>
          </a:ln>
        </p:spPr>
      </p:pic>
      <p:sp>
        <p:nvSpPr>
          <p:cNvPr id="492" name="WordArt 8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WordArt 4"/>
          <p:cNvSpPr txBox="1"/>
          <p:nvPr/>
        </p:nvSpPr>
        <p:spPr>
          <a:xfrm>
            <a:off x="684360" y="2852640"/>
            <a:ext cx="777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oe je een fan installeer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4" name="WordArt 6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5" descr="441_descarga"/>
          <p:cNvPicPr/>
          <p:nvPr/>
        </p:nvPicPr>
        <p:blipFill>
          <a:blip r:embed="rId2"/>
          <a:stretch/>
        </p:blipFill>
        <p:spPr>
          <a:xfrm>
            <a:off x="755640" y="566640"/>
            <a:ext cx="7561440" cy="5670720"/>
          </a:xfrm>
          <a:prstGeom prst="rect">
            <a:avLst/>
          </a:prstGeom>
          <a:ln w="0">
            <a:noFill/>
          </a:ln>
        </p:spPr>
      </p:pic>
      <p:sp>
        <p:nvSpPr>
          <p:cNvPr id="496" name="WordArt 9"/>
          <p:cNvSpPr txBox="1"/>
          <p:nvPr/>
        </p:nvSpPr>
        <p:spPr>
          <a:xfrm>
            <a:off x="6588000" y="6343560"/>
            <a:ext cx="2381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10-04-04T05:26:27Z</dcterms:modified>
  <cp:revision>42</cp:revision>
  <dc:subject/>
  <dc:title>Dia 1</dc:title>
</cp:coreProperties>
</file>